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80D-9FDC-4795-BDFB-41BA83D1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D33-CC3B-4C77-A1D2-DAFC022C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FC8-2644-4C59-99DE-40B839E3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8AED-5929-4BD9-9E13-BE78E1D3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95F-B003-4397-8B4E-92B80BDB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9DE-A136-4F97-BD39-EDEDEC32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3AD-A1FF-42B4-920A-2E6577FD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D43-9940-4723-987F-8610BA23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941-A209-452B-B55A-A91A8EB1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C36B-E251-41BD-A48E-E99C4D2C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79F-99FF-4449-B358-D88B5CDF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7DF0-5272-45D5-A189-FF8B63B1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0473-153E-4B8E-AE32-2E514CEBF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ssing angle in each triang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590920"/>
            <a:ext cx="2514600" cy="19047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62320"/>
            <a:ext cx="3581280" cy="1447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4191120"/>
            <a:ext cx="68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8195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4" idx="1"/>
            <a:endCxn id="44" idx="1"/>
          </p:cNvCxnSpPr>
          <p:nvPr/>
        </p:nvCxnSpPr>
        <p:spPr>
          <a:xfrm>
            <a:off x="4114800" y="3086280"/>
            <a:ext cx="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41148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8760" y="4626000"/>
            <a:ext cx="1152360" cy="249120"/>
          </a:xfrm>
          <a:custGeom>
            <a:avLst/>
            <a:gdLst/>
            <a:ahLst/>
            <a:rect l="l" t="t" r="r" b="b"/>
            <a:pathLst>
              <a:path w="3200" h="695">
                <a:moveTo>
                  <a:pt x="1612" y="12849"/>
                </a:moveTo>
                <a:cubicBezTo>
                  <a:pt x="1557" y="12979"/>
                  <a:pt x="1443" y="13142"/>
                  <a:pt x="1339" y="13246"/>
                </a:cubicBezTo>
                <a:cubicBezTo>
                  <a:pt x="1247" y="13319"/>
                  <a:pt x="1235" y="13322"/>
                  <a:pt x="1191" y="13370"/>
                </a:cubicBezTo>
                <a:cubicBezTo>
                  <a:pt x="1332" y="13370"/>
                  <a:pt x="1475" y="13350"/>
                  <a:pt x="1612" y="13320"/>
                </a:cubicBezTo>
                <a:cubicBezTo>
                  <a:pt x="1692" y="13302"/>
                  <a:pt x="1694" y="13274"/>
                  <a:pt x="1712" y="13345"/>
                </a:cubicBezTo>
              </a:path>
              <a:path w="3200" h="695">
                <a:moveTo>
                  <a:pt x="2307" y="13171"/>
                </a:moveTo>
                <a:cubicBezTo>
                  <a:pt x="2307" y="13090"/>
                  <a:pt x="2239" y="13054"/>
                  <a:pt x="2183" y="12998"/>
                </a:cubicBezTo>
                <a:cubicBezTo>
                  <a:pt x="2137" y="12952"/>
                  <a:pt x="2125" y="12937"/>
                  <a:pt x="2084" y="12923"/>
                </a:cubicBezTo>
                <a:cubicBezTo>
                  <a:pt x="1987" y="12995"/>
                  <a:pt x="1871" y="13134"/>
                  <a:pt x="1885" y="13271"/>
                </a:cubicBezTo>
                <a:cubicBezTo>
                  <a:pt x="1902" y="13304"/>
                  <a:pt x="1918" y="13337"/>
                  <a:pt x="1935" y="13370"/>
                </a:cubicBezTo>
                <a:cubicBezTo>
                  <a:pt x="2074" y="13321"/>
                  <a:pt x="2233" y="13276"/>
                  <a:pt x="2282" y="13122"/>
                </a:cubicBezTo>
                <a:cubicBezTo>
                  <a:pt x="2282" y="13105"/>
                  <a:pt x="2282" y="13089"/>
                  <a:pt x="2282" y="13072"/>
                </a:cubicBezTo>
                <a:cubicBezTo>
                  <a:pt x="2293" y="13160"/>
                  <a:pt x="2276" y="13371"/>
                  <a:pt x="2332" y="13444"/>
                </a:cubicBezTo>
                <a:cubicBezTo>
                  <a:pt x="2411" y="13444"/>
                  <a:pt x="2449" y="13423"/>
                  <a:pt x="2480" y="13345"/>
                </a:cubicBezTo>
              </a:path>
              <a:path w="3200" h="695">
                <a:moveTo>
                  <a:pt x="2902" y="12948"/>
                </a:moveTo>
                <a:cubicBezTo>
                  <a:pt x="2916" y="13083"/>
                  <a:pt x="2949" y="13208"/>
                  <a:pt x="2952" y="13345"/>
                </a:cubicBezTo>
                <a:cubicBezTo>
                  <a:pt x="2952" y="13419"/>
                  <a:pt x="2952" y="13428"/>
                  <a:pt x="2952" y="13469"/>
                </a:cubicBezTo>
              </a:path>
              <a:path w="3200" h="695">
                <a:moveTo>
                  <a:pt x="2753" y="13246"/>
                </a:moveTo>
                <a:cubicBezTo>
                  <a:pt x="2878" y="13212"/>
                  <a:pt x="3017" y="13199"/>
                  <a:pt x="3150" y="13171"/>
                </a:cubicBezTo>
              </a:path>
              <a:path w="3200" h="695">
                <a:moveTo>
                  <a:pt x="3597" y="12998"/>
                </a:moveTo>
                <a:cubicBezTo>
                  <a:pt x="3561" y="13123"/>
                  <a:pt x="3470" y="13234"/>
                  <a:pt x="3398" y="13345"/>
                </a:cubicBezTo>
                <a:cubicBezTo>
                  <a:pt x="3382" y="13370"/>
                  <a:pt x="3365" y="13394"/>
                  <a:pt x="3349" y="13419"/>
                </a:cubicBezTo>
                <a:cubicBezTo>
                  <a:pt x="3458" y="13445"/>
                  <a:pt x="3558" y="13444"/>
                  <a:pt x="3671" y="13444"/>
                </a:cubicBezTo>
                <a:cubicBezTo>
                  <a:pt x="3706" y="13444"/>
                  <a:pt x="3719" y="13435"/>
                  <a:pt x="3721" y="13395"/>
                </a:cubicBezTo>
              </a:path>
              <a:path w="3200" h="695">
                <a:moveTo>
                  <a:pt x="3994" y="12898"/>
                </a:moveTo>
                <a:cubicBezTo>
                  <a:pt x="3979" y="13048"/>
                  <a:pt x="3969" y="13191"/>
                  <a:pt x="3969" y="13345"/>
                </a:cubicBezTo>
                <a:cubicBezTo>
                  <a:pt x="3969" y="13428"/>
                  <a:pt x="3969" y="13444"/>
                  <a:pt x="3969" y="13494"/>
                </a:cubicBezTo>
                <a:cubicBezTo>
                  <a:pt x="3969" y="13410"/>
                  <a:pt x="3991" y="13286"/>
                  <a:pt x="4043" y="13221"/>
                </a:cubicBezTo>
                <a:cubicBezTo>
                  <a:pt x="4124" y="13118"/>
                  <a:pt x="4301" y="13033"/>
                  <a:pt x="4366" y="13196"/>
                </a:cubicBezTo>
                <a:cubicBezTo>
                  <a:pt x="4430" y="13357"/>
                  <a:pt x="4369" y="13476"/>
                  <a:pt x="4217" y="13519"/>
                </a:cubicBezTo>
                <a:cubicBezTo>
                  <a:pt x="4065" y="13561"/>
                  <a:pt x="4043" y="13550"/>
                  <a:pt x="3969" y="134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8320" y="4643280"/>
            <a:ext cx="606600" cy="206640"/>
          </a:xfrm>
          <a:custGeom>
            <a:avLst/>
            <a:gdLst/>
            <a:ahLst/>
            <a:rect l="l" t="t" r="r" b="b"/>
            <a:pathLst>
              <a:path w="1688" h="572">
                <a:moveTo>
                  <a:pt x="4961" y="12923"/>
                </a:moveTo>
                <a:cubicBezTo>
                  <a:pt x="4994" y="13015"/>
                  <a:pt x="5090" y="13272"/>
                  <a:pt x="5035" y="13370"/>
                </a:cubicBezTo>
                <a:cubicBezTo>
                  <a:pt x="5027" y="13353"/>
                  <a:pt x="5019" y="13337"/>
                  <a:pt x="5011" y="13320"/>
                </a:cubicBezTo>
              </a:path>
              <a:path w="1688" h="572">
                <a:moveTo>
                  <a:pt x="4911" y="13122"/>
                </a:moveTo>
                <a:cubicBezTo>
                  <a:pt x="5073" y="13115"/>
                  <a:pt x="5222" y="13096"/>
                  <a:pt x="5383" y="13072"/>
                </a:cubicBezTo>
              </a:path>
              <a:path w="1688" h="572">
                <a:moveTo>
                  <a:pt x="5804" y="12898"/>
                </a:moveTo>
                <a:cubicBezTo>
                  <a:pt x="5723" y="13044"/>
                  <a:pt x="5633" y="13187"/>
                  <a:pt x="5531" y="13320"/>
                </a:cubicBezTo>
                <a:cubicBezTo>
                  <a:pt x="5523" y="13328"/>
                  <a:pt x="5515" y="13337"/>
                  <a:pt x="5507" y="13345"/>
                </a:cubicBezTo>
                <a:cubicBezTo>
                  <a:pt x="5601" y="13369"/>
                  <a:pt x="5701" y="13380"/>
                  <a:pt x="5804" y="13395"/>
                </a:cubicBezTo>
                <a:cubicBezTo>
                  <a:pt x="5877" y="13406"/>
                  <a:pt x="5944" y="13423"/>
                  <a:pt x="5978" y="13469"/>
                </a:cubicBezTo>
              </a:path>
              <a:path w="1688" h="572">
                <a:moveTo>
                  <a:pt x="6325" y="13122"/>
                </a:moveTo>
                <a:cubicBezTo>
                  <a:pt x="6405" y="13102"/>
                  <a:pt x="6334" y="13066"/>
                  <a:pt x="6276" y="13047"/>
                </a:cubicBezTo>
                <a:cubicBezTo>
                  <a:pt x="6157" y="13007"/>
                  <a:pt x="6067" y="13210"/>
                  <a:pt x="6077" y="13295"/>
                </a:cubicBezTo>
                <a:cubicBezTo>
                  <a:pt x="6104" y="13522"/>
                  <a:pt x="6343" y="13475"/>
                  <a:pt x="6499" y="13444"/>
                </a:cubicBezTo>
                <a:cubicBezTo>
                  <a:pt x="6532" y="13436"/>
                  <a:pt x="6565" y="13427"/>
                  <a:pt x="6598" y="134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62120" y="4697280"/>
            <a:ext cx="144720" cy="71640"/>
          </a:xfrm>
          <a:custGeom>
            <a:avLst/>
            <a:gdLst/>
            <a:ahLst/>
            <a:rect l="l" t="t" r="r" b="b"/>
            <a:pathLst>
              <a:path w="398" h="200">
                <a:moveTo>
                  <a:pt x="7119" y="13047"/>
                </a:moveTo>
                <a:cubicBezTo>
                  <a:pt x="7235" y="13047"/>
                  <a:pt x="7350" y="13047"/>
                  <a:pt x="7466" y="13047"/>
                </a:cubicBezTo>
              </a:path>
              <a:path w="398" h="200">
                <a:moveTo>
                  <a:pt x="7144" y="13246"/>
                </a:moveTo>
                <a:cubicBezTo>
                  <a:pt x="7269" y="13240"/>
                  <a:pt x="7391" y="13228"/>
                  <a:pt x="7516" y="132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47960" y="4643280"/>
            <a:ext cx="590400" cy="304920"/>
          </a:xfrm>
          <a:custGeom>
            <a:avLst/>
            <a:gdLst/>
            <a:ahLst/>
            <a:rect l="l" t="t" r="r" b="b"/>
            <a:pathLst>
              <a:path w="1638" h="845">
                <a:moveTo>
                  <a:pt x="7913" y="12923"/>
                </a:moveTo>
                <a:cubicBezTo>
                  <a:pt x="7958" y="13094"/>
                  <a:pt x="7964" y="13274"/>
                  <a:pt x="8012" y="13444"/>
                </a:cubicBezTo>
                <a:cubicBezTo>
                  <a:pt x="8037" y="13494"/>
                  <a:pt x="8045" y="13511"/>
                  <a:pt x="8086" y="13469"/>
                </a:cubicBezTo>
              </a:path>
              <a:path w="1638" h="845">
                <a:moveTo>
                  <a:pt x="8706" y="12948"/>
                </a:moveTo>
                <a:cubicBezTo>
                  <a:pt x="8627" y="12969"/>
                  <a:pt x="8558" y="12990"/>
                  <a:pt x="8483" y="13022"/>
                </a:cubicBezTo>
                <a:cubicBezTo>
                  <a:pt x="8502" y="13172"/>
                  <a:pt x="8601" y="13201"/>
                  <a:pt x="8731" y="13271"/>
                </a:cubicBezTo>
                <a:cubicBezTo>
                  <a:pt x="8818" y="13314"/>
                  <a:pt x="8842" y="13321"/>
                  <a:pt x="8880" y="13370"/>
                </a:cubicBezTo>
                <a:cubicBezTo>
                  <a:pt x="8779" y="13420"/>
                  <a:pt x="8542" y="13462"/>
                  <a:pt x="8607" y="13246"/>
                </a:cubicBezTo>
                <a:cubicBezTo>
                  <a:pt x="8642" y="13129"/>
                  <a:pt x="8755" y="13015"/>
                  <a:pt x="8830" y="12923"/>
                </a:cubicBezTo>
              </a:path>
              <a:path w="1638" h="845">
                <a:moveTo>
                  <a:pt x="9252" y="12898"/>
                </a:moveTo>
                <a:cubicBezTo>
                  <a:pt x="9155" y="13014"/>
                  <a:pt x="9041" y="13143"/>
                  <a:pt x="9153" y="13295"/>
                </a:cubicBezTo>
                <a:cubicBezTo>
                  <a:pt x="9249" y="13425"/>
                  <a:pt x="9499" y="13319"/>
                  <a:pt x="9550" y="13196"/>
                </a:cubicBezTo>
                <a:cubicBezTo>
                  <a:pt x="9609" y="13053"/>
                  <a:pt x="9513" y="13008"/>
                  <a:pt x="9426" y="12948"/>
                </a:cubicBezTo>
              </a:path>
              <a:path w="1638" h="845">
                <a:moveTo>
                  <a:pt x="8483" y="13742"/>
                </a:moveTo>
                <a:lnTo>
                  <a:pt x="8483" y="13742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3240" y="4938840"/>
            <a:ext cx="312840" cy="312480"/>
          </a:xfrm>
          <a:custGeom>
            <a:avLst/>
            <a:gdLst/>
            <a:ahLst/>
            <a:rect l="l" t="t" r="r" b="b"/>
            <a:pathLst>
              <a:path w="869" h="869">
                <a:moveTo>
                  <a:pt x="1761" y="13841"/>
                </a:moveTo>
                <a:cubicBezTo>
                  <a:pt x="1761" y="13866"/>
                  <a:pt x="1761" y="13890"/>
                  <a:pt x="1761" y="13915"/>
                </a:cubicBezTo>
                <a:cubicBezTo>
                  <a:pt x="1761" y="13959"/>
                  <a:pt x="1762" y="13826"/>
                  <a:pt x="1811" y="13791"/>
                </a:cubicBezTo>
                <a:cubicBezTo>
                  <a:pt x="1894" y="13732"/>
                  <a:pt x="2011" y="13721"/>
                  <a:pt x="2108" y="13717"/>
                </a:cubicBezTo>
                <a:cubicBezTo>
                  <a:pt x="2125" y="13717"/>
                  <a:pt x="2141" y="13717"/>
                  <a:pt x="2158" y="13717"/>
                </a:cubicBezTo>
                <a:cubicBezTo>
                  <a:pt x="2245" y="13832"/>
                  <a:pt x="2152" y="14015"/>
                  <a:pt x="2133" y="14139"/>
                </a:cubicBezTo>
                <a:cubicBezTo>
                  <a:pt x="2122" y="14211"/>
                  <a:pt x="2049" y="14495"/>
                  <a:pt x="2108" y="14536"/>
                </a:cubicBezTo>
              </a:path>
              <a:path w="869" h="869">
                <a:moveTo>
                  <a:pt x="2629" y="13816"/>
                </a:moveTo>
                <a:cubicBezTo>
                  <a:pt x="2537" y="13885"/>
                  <a:pt x="2387" y="13983"/>
                  <a:pt x="2381" y="14114"/>
                </a:cubicBezTo>
                <a:cubicBezTo>
                  <a:pt x="2376" y="14240"/>
                  <a:pt x="2576" y="14297"/>
                  <a:pt x="2580" y="14436"/>
                </a:cubicBezTo>
                <a:cubicBezTo>
                  <a:pt x="2584" y="14563"/>
                  <a:pt x="2543" y="14568"/>
                  <a:pt x="2456" y="14585"/>
                </a:cubicBezTo>
                <a:cubicBezTo>
                  <a:pt x="2378" y="14391"/>
                  <a:pt x="2420" y="14251"/>
                  <a:pt x="2530" y="14064"/>
                </a:cubicBezTo>
                <a:cubicBezTo>
                  <a:pt x="2569" y="13997"/>
                  <a:pt x="2614" y="13977"/>
                  <a:pt x="2629" y="139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08080" y="5000760"/>
            <a:ext cx="473040" cy="258480"/>
          </a:xfrm>
          <a:custGeom>
            <a:avLst/>
            <a:gdLst/>
            <a:ahLst/>
            <a:rect l="l" t="t" r="r" b="b"/>
            <a:pathLst>
              <a:path w="1315" h="720">
                <a:moveTo>
                  <a:pt x="3150" y="13965"/>
                </a:moveTo>
                <a:cubicBezTo>
                  <a:pt x="3180" y="14115"/>
                  <a:pt x="3183" y="14284"/>
                  <a:pt x="3150" y="14436"/>
                </a:cubicBezTo>
                <a:cubicBezTo>
                  <a:pt x="3142" y="14453"/>
                  <a:pt x="3133" y="14469"/>
                  <a:pt x="3125" y="14486"/>
                </a:cubicBezTo>
              </a:path>
              <a:path w="1315" h="720">
                <a:moveTo>
                  <a:pt x="3076" y="14139"/>
                </a:moveTo>
                <a:cubicBezTo>
                  <a:pt x="3208" y="14131"/>
                  <a:pt x="3321" y="14103"/>
                  <a:pt x="3448" y="14064"/>
                </a:cubicBezTo>
              </a:path>
              <a:path w="1315" h="720">
                <a:moveTo>
                  <a:pt x="3547" y="13965"/>
                </a:moveTo>
                <a:cubicBezTo>
                  <a:pt x="3632" y="13916"/>
                  <a:pt x="3721" y="13897"/>
                  <a:pt x="3820" y="13891"/>
                </a:cubicBezTo>
                <a:cubicBezTo>
                  <a:pt x="3941" y="13884"/>
                  <a:pt x="3874" y="14200"/>
                  <a:pt x="3870" y="14238"/>
                </a:cubicBezTo>
                <a:cubicBezTo>
                  <a:pt x="3854" y="14377"/>
                  <a:pt x="3827" y="14462"/>
                  <a:pt x="3770" y="14585"/>
                </a:cubicBezTo>
              </a:path>
              <a:path w="1315" h="720">
                <a:moveTo>
                  <a:pt x="4341" y="14015"/>
                </a:moveTo>
                <a:cubicBezTo>
                  <a:pt x="4236" y="14050"/>
                  <a:pt x="4122" y="14134"/>
                  <a:pt x="4068" y="14238"/>
                </a:cubicBezTo>
                <a:cubicBezTo>
                  <a:pt x="4002" y="14365"/>
                  <a:pt x="4233" y="14405"/>
                  <a:pt x="4291" y="14461"/>
                </a:cubicBezTo>
                <a:cubicBezTo>
                  <a:pt x="4376" y="14543"/>
                  <a:pt x="4265" y="14581"/>
                  <a:pt x="4217" y="14610"/>
                </a:cubicBezTo>
                <a:cubicBezTo>
                  <a:pt x="4092" y="14503"/>
                  <a:pt x="4168" y="14402"/>
                  <a:pt x="4242" y="14263"/>
                </a:cubicBezTo>
                <a:cubicBezTo>
                  <a:pt x="4274" y="14202"/>
                  <a:pt x="4366" y="14033"/>
                  <a:pt x="4366" y="140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8960" y="5062680"/>
            <a:ext cx="169920" cy="125280"/>
          </a:xfrm>
          <a:custGeom>
            <a:avLst/>
            <a:gdLst/>
            <a:ahLst/>
            <a:rect l="l" t="t" r="r" b="b"/>
            <a:pathLst>
              <a:path w="472" h="349">
                <a:moveTo>
                  <a:pt x="5035" y="14064"/>
                </a:moveTo>
                <a:cubicBezTo>
                  <a:pt x="5056" y="14168"/>
                  <a:pt x="5046" y="14229"/>
                  <a:pt x="5035" y="14337"/>
                </a:cubicBezTo>
                <a:cubicBezTo>
                  <a:pt x="5035" y="14362"/>
                  <a:pt x="5035" y="14387"/>
                  <a:pt x="5035" y="14412"/>
                </a:cubicBezTo>
              </a:path>
              <a:path w="472" h="349">
                <a:moveTo>
                  <a:pt x="4887" y="14213"/>
                </a:moveTo>
                <a:cubicBezTo>
                  <a:pt x="5044" y="14213"/>
                  <a:pt x="5201" y="14213"/>
                  <a:pt x="5358" y="142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62080" y="5062680"/>
            <a:ext cx="108000" cy="17928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5730" y="14089"/>
                </a:moveTo>
                <a:cubicBezTo>
                  <a:pt x="5814" y="14173"/>
                  <a:pt x="5884" y="14265"/>
                  <a:pt x="5953" y="14362"/>
                </a:cubicBezTo>
                <a:cubicBezTo>
                  <a:pt x="5993" y="14421"/>
                  <a:pt x="5997" y="14433"/>
                  <a:pt x="6028" y="14461"/>
                </a:cubicBezTo>
              </a:path>
              <a:path w="299" h="497">
                <a:moveTo>
                  <a:pt x="5978" y="14064"/>
                </a:moveTo>
                <a:cubicBezTo>
                  <a:pt x="5916" y="14208"/>
                  <a:pt x="5794" y="14396"/>
                  <a:pt x="5804" y="14560"/>
                </a:cubicBezTo>
                <a:cubicBezTo>
                  <a:pt x="5812" y="14560"/>
                  <a:pt x="5821" y="14560"/>
                  <a:pt x="5829" y="145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46200" y="5126040"/>
            <a:ext cx="142920" cy="71280"/>
          </a:xfrm>
          <a:custGeom>
            <a:avLst/>
            <a:gdLst/>
            <a:ahLst/>
            <a:rect l="l" t="t" r="r" b="b"/>
            <a:pathLst>
              <a:path w="398" h="199">
                <a:moveTo>
                  <a:pt x="6796" y="14238"/>
                </a:moveTo>
                <a:cubicBezTo>
                  <a:pt x="6870" y="14238"/>
                  <a:pt x="6926" y="14242"/>
                  <a:pt x="6995" y="14263"/>
                </a:cubicBezTo>
              </a:path>
              <a:path w="398" h="199">
                <a:moveTo>
                  <a:pt x="6896" y="14436"/>
                </a:moveTo>
                <a:cubicBezTo>
                  <a:pt x="7037" y="14436"/>
                  <a:pt x="7095" y="14434"/>
                  <a:pt x="7193" y="144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0960" y="5081760"/>
            <a:ext cx="447840" cy="214200"/>
          </a:xfrm>
          <a:custGeom>
            <a:avLst/>
            <a:gdLst/>
            <a:ahLst/>
            <a:rect l="l" t="t" r="r" b="b"/>
            <a:pathLst>
              <a:path w="1242" h="596">
                <a:moveTo>
                  <a:pt x="7863" y="14114"/>
                </a:moveTo>
                <a:cubicBezTo>
                  <a:pt x="7850" y="14304"/>
                  <a:pt x="7847" y="14470"/>
                  <a:pt x="7863" y="14660"/>
                </a:cubicBezTo>
                <a:cubicBezTo>
                  <a:pt x="7863" y="14676"/>
                  <a:pt x="7863" y="14693"/>
                  <a:pt x="7863" y="14709"/>
                </a:cubicBezTo>
              </a:path>
              <a:path w="1242" h="596">
                <a:moveTo>
                  <a:pt x="8334" y="14139"/>
                </a:moveTo>
                <a:cubicBezTo>
                  <a:pt x="8224" y="14183"/>
                  <a:pt x="8194" y="14191"/>
                  <a:pt x="8136" y="14238"/>
                </a:cubicBezTo>
                <a:cubicBezTo>
                  <a:pt x="8213" y="14343"/>
                  <a:pt x="8429" y="14378"/>
                  <a:pt x="8483" y="14511"/>
                </a:cubicBezTo>
                <a:cubicBezTo>
                  <a:pt x="8515" y="14591"/>
                  <a:pt x="8360" y="14605"/>
                  <a:pt x="8334" y="14610"/>
                </a:cubicBezTo>
                <a:cubicBezTo>
                  <a:pt x="8263" y="14450"/>
                  <a:pt x="8345" y="14315"/>
                  <a:pt x="8483" y="14188"/>
                </a:cubicBezTo>
                <a:cubicBezTo>
                  <a:pt x="8527" y="14166"/>
                  <a:pt x="8538" y="14163"/>
                  <a:pt x="8558" y="14139"/>
                </a:cubicBezTo>
              </a:path>
              <a:path w="1242" h="596">
                <a:moveTo>
                  <a:pt x="8830" y="14114"/>
                </a:moveTo>
                <a:cubicBezTo>
                  <a:pt x="8765" y="14238"/>
                  <a:pt x="8631" y="14473"/>
                  <a:pt x="8830" y="14560"/>
                </a:cubicBezTo>
                <a:cubicBezTo>
                  <a:pt x="9022" y="14644"/>
                  <a:pt x="9066" y="14373"/>
                  <a:pt x="9079" y="14263"/>
                </a:cubicBezTo>
                <a:cubicBezTo>
                  <a:pt x="8966" y="14178"/>
                  <a:pt x="8917" y="14153"/>
                  <a:pt x="8806" y="141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5357880"/>
            <a:ext cx="1152360" cy="723960"/>
          </a:xfrm>
          <a:custGeom>
            <a:avLst/>
            <a:gdLst/>
            <a:ahLst/>
            <a:rect l="l" t="t" r="r" b="b"/>
            <a:pathLst>
              <a:path w="3201" h="2010">
                <a:moveTo>
                  <a:pt x="6945" y="15007"/>
                </a:moveTo>
                <a:cubicBezTo>
                  <a:pt x="7053" y="15007"/>
                  <a:pt x="7078" y="15007"/>
                  <a:pt x="7144" y="15007"/>
                </a:cubicBezTo>
              </a:path>
              <a:path w="3201" h="2010">
                <a:moveTo>
                  <a:pt x="7640" y="14932"/>
                </a:moveTo>
                <a:cubicBezTo>
                  <a:pt x="7640" y="15047"/>
                  <a:pt x="7603" y="15199"/>
                  <a:pt x="7615" y="15304"/>
                </a:cubicBezTo>
                <a:cubicBezTo>
                  <a:pt x="7638" y="15327"/>
                  <a:pt x="7646" y="15331"/>
                  <a:pt x="7640" y="15354"/>
                </a:cubicBezTo>
              </a:path>
              <a:path w="3201" h="2010">
                <a:moveTo>
                  <a:pt x="8285" y="14982"/>
                </a:moveTo>
                <a:cubicBezTo>
                  <a:pt x="8239" y="15028"/>
                  <a:pt x="8224" y="15040"/>
                  <a:pt x="8210" y="15081"/>
                </a:cubicBezTo>
                <a:cubicBezTo>
                  <a:pt x="8230" y="15200"/>
                  <a:pt x="8380" y="15102"/>
                  <a:pt x="8483" y="15131"/>
                </a:cubicBezTo>
                <a:cubicBezTo>
                  <a:pt x="8508" y="15147"/>
                  <a:pt x="8533" y="15164"/>
                  <a:pt x="8558" y="15180"/>
                </a:cubicBezTo>
                <a:cubicBezTo>
                  <a:pt x="8537" y="15275"/>
                  <a:pt x="8464" y="15420"/>
                  <a:pt x="8334" y="15329"/>
                </a:cubicBezTo>
                <a:cubicBezTo>
                  <a:pt x="8259" y="15229"/>
                  <a:pt x="8235" y="15195"/>
                  <a:pt x="8235" y="15106"/>
                </a:cubicBezTo>
              </a:path>
              <a:path w="3201" h="2010">
                <a:moveTo>
                  <a:pt x="8359" y="14908"/>
                </a:moveTo>
                <a:cubicBezTo>
                  <a:pt x="8480" y="14902"/>
                  <a:pt x="8566" y="14893"/>
                  <a:pt x="8682" y="14908"/>
                </a:cubicBezTo>
              </a:path>
              <a:path w="3201" h="2010">
                <a:moveTo>
                  <a:pt x="8830" y="14908"/>
                </a:moveTo>
                <a:cubicBezTo>
                  <a:pt x="8830" y="15004"/>
                  <a:pt x="8786" y="15076"/>
                  <a:pt x="8781" y="15180"/>
                </a:cubicBezTo>
                <a:cubicBezTo>
                  <a:pt x="8776" y="15283"/>
                  <a:pt x="8818" y="15419"/>
                  <a:pt x="8954" y="15379"/>
                </a:cubicBezTo>
                <a:cubicBezTo>
                  <a:pt x="9069" y="15345"/>
                  <a:pt x="9132" y="15265"/>
                  <a:pt x="9203" y="15180"/>
                </a:cubicBezTo>
                <a:cubicBezTo>
                  <a:pt x="9122" y="15133"/>
                  <a:pt x="9034" y="15145"/>
                  <a:pt x="8954" y="15205"/>
                </a:cubicBezTo>
                <a:cubicBezTo>
                  <a:pt x="8874" y="15265"/>
                  <a:pt x="8855" y="15304"/>
                  <a:pt x="8880" y="15379"/>
                </a:cubicBezTo>
              </a:path>
              <a:path w="3201" h="2010">
                <a:moveTo>
                  <a:pt x="7169" y="15478"/>
                </a:moveTo>
                <a:cubicBezTo>
                  <a:pt x="7321" y="15486"/>
                  <a:pt x="7463" y="15512"/>
                  <a:pt x="7615" y="15528"/>
                </a:cubicBezTo>
                <a:cubicBezTo>
                  <a:pt x="8170" y="15588"/>
                  <a:pt x="8725" y="15652"/>
                  <a:pt x="9277" y="15726"/>
                </a:cubicBezTo>
                <a:cubicBezTo>
                  <a:pt x="9434" y="15746"/>
                  <a:pt x="9458" y="15754"/>
                  <a:pt x="9550" y="15751"/>
                </a:cubicBezTo>
              </a:path>
              <a:path w="3201" h="2010">
                <a:moveTo>
                  <a:pt x="8260" y="15925"/>
                </a:moveTo>
                <a:cubicBezTo>
                  <a:pt x="8323" y="15900"/>
                  <a:pt x="8392" y="15875"/>
                  <a:pt x="8458" y="15850"/>
                </a:cubicBezTo>
                <a:cubicBezTo>
                  <a:pt x="8466" y="15842"/>
                  <a:pt x="8475" y="15833"/>
                  <a:pt x="8483" y="15825"/>
                </a:cubicBezTo>
                <a:cubicBezTo>
                  <a:pt x="8516" y="15973"/>
                  <a:pt x="8435" y="16103"/>
                  <a:pt x="8334" y="16222"/>
                </a:cubicBezTo>
                <a:cubicBezTo>
                  <a:pt x="8292" y="16271"/>
                  <a:pt x="8018" y="16486"/>
                  <a:pt x="8012" y="16545"/>
                </a:cubicBezTo>
                <a:cubicBezTo>
                  <a:pt x="8020" y="16553"/>
                  <a:pt x="8029" y="16562"/>
                  <a:pt x="8037" y="16570"/>
                </a:cubicBezTo>
                <a:cubicBezTo>
                  <a:pt x="8142" y="16483"/>
                  <a:pt x="8287" y="16371"/>
                  <a:pt x="8434" y="16371"/>
                </a:cubicBezTo>
                <a:cubicBezTo>
                  <a:pt x="8492" y="16371"/>
                  <a:pt x="8523" y="16441"/>
                  <a:pt x="8558" y="16446"/>
                </a:cubicBezTo>
                <a:cubicBezTo>
                  <a:pt x="8566" y="16446"/>
                  <a:pt x="8574" y="16446"/>
                  <a:pt x="8582" y="16446"/>
                </a:cubicBezTo>
              </a:path>
              <a:path w="3201" h="2010">
                <a:moveTo>
                  <a:pt x="8781" y="16024"/>
                </a:moveTo>
                <a:cubicBezTo>
                  <a:pt x="8731" y="16098"/>
                  <a:pt x="8717" y="16144"/>
                  <a:pt x="8756" y="16222"/>
                </a:cubicBezTo>
                <a:cubicBezTo>
                  <a:pt x="8808" y="16325"/>
                  <a:pt x="8954" y="16252"/>
                  <a:pt x="9029" y="16197"/>
                </a:cubicBezTo>
                <a:cubicBezTo>
                  <a:pt x="9054" y="16172"/>
                  <a:pt x="9078" y="16148"/>
                  <a:pt x="9103" y="16123"/>
                </a:cubicBezTo>
              </a:path>
              <a:path w="3201" h="2010">
                <a:moveTo>
                  <a:pt x="8979" y="15850"/>
                </a:moveTo>
                <a:cubicBezTo>
                  <a:pt x="8938" y="16034"/>
                  <a:pt x="8901" y="16215"/>
                  <a:pt x="8855" y="16396"/>
                </a:cubicBezTo>
                <a:cubicBezTo>
                  <a:pt x="8853" y="16406"/>
                  <a:pt x="8822" y="16645"/>
                  <a:pt x="8830" y="16619"/>
                </a:cubicBezTo>
                <a:cubicBezTo>
                  <a:pt x="8830" y="16603"/>
                  <a:pt x="8830" y="16586"/>
                  <a:pt x="8830" y="16570"/>
                </a:cubicBezTo>
              </a:path>
              <a:path w="3201" h="2010">
                <a:moveTo>
                  <a:pt x="6350" y="16272"/>
                </a:moveTo>
                <a:cubicBezTo>
                  <a:pt x="6373" y="16386"/>
                  <a:pt x="6426" y="16510"/>
                  <a:pt x="6474" y="16619"/>
                </a:cubicBezTo>
                <a:cubicBezTo>
                  <a:pt x="6511" y="16702"/>
                  <a:pt x="6573" y="16774"/>
                  <a:pt x="6573" y="16867"/>
                </a:cubicBezTo>
              </a:path>
              <a:path w="3201" h="2010">
                <a:moveTo>
                  <a:pt x="6648" y="16297"/>
                </a:moveTo>
                <a:cubicBezTo>
                  <a:pt x="6608" y="16415"/>
                  <a:pt x="6551" y="16550"/>
                  <a:pt x="6499" y="16669"/>
                </a:cubicBezTo>
                <a:cubicBezTo>
                  <a:pt x="6471" y="16732"/>
                  <a:pt x="6391" y="16858"/>
                  <a:pt x="6424" y="16892"/>
                </a:cubicBezTo>
              </a:path>
              <a:path w="3201" h="2010">
                <a:moveTo>
                  <a:pt x="6945" y="16346"/>
                </a:moveTo>
                <a:cubicBezTo>
                  <a:pt x="7030" y="16337"/>
                  <a:pt x="7105" y="16321"/>
                  <a:pt x="7193" y="16321"/>
                </a:cubicBezTo>
                <a:cubicBezTo>
                  <a:pt x="7245" y="16321"/>
                  <a:pt x="7263" y="16322"/>
                  <a:pt x="7293" y="16346"/>
                </a:cubicBezTo>
              </a:path>
              <a:path w="3201" h="2010">
                <a:moveTo>
                  <a:pt x="6921" y="16619"/>
                </a:moveTo>
                <a:cubicBezTo>
                  <a:pt x="6952" y="16625"/>
                  <a:pt x="7191" y="16617"/>
                  <a:pt x="7193" y="16619"/>
                </a:cubicBezTo>
                <a:cubicBezTo>
                  <a:pt x="7193" y="16644"/>
                  <a:pt x="7193" y="16652"/>
                  <a:pt x="7218" y="166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3240" y="3133800"/>
            <a:ext cx="492120" cy="250920"/>
          </a:xfrm>
          <a:custGeom>
            <a:avLst/>
            <a:gdLst/>
            <a:ahLst/>
            <a:rect l="l" t="t" r="r" b="b"/>
            <a:pathLst>
              <a:path w="1365" h="696">
                <a:moveTo>
                  <a:pt x="5556" y="8905"/>
                </a:moveTo>
                <a:cubicBezTo>
                  <a:pt x="5556" y="8858"/>
                  <a:pt x="5538" y="8822"/>
                  <a:pt x="5531" y="8806"/>
                </a:cubicBezTo>
                <a:cubicBezTo>
                  <a:pt x="5509" y="8755"/>
                  <a:pt x="5475" y="8797"/>
                  <a:pt x="5432" y="8830"/>
                </a:cubicBezTo>
                <a:cubicBezTo>
                  <a:pt x="5432" y="8822"/>
                  <a:pt x="5432" y="8814"/>
                  <a:pt x="5432" y="8806"/>
                </a:cubicBezTo>
                <a:cubicBezTo>
                  <a:pt x="5521" y="8673"/>
                  <a:pt x="5535" y="8881"/>
                  <a:pt x="5531" y="8954"/>
                </a:cubicBezTo>
                <a:cubicBezTo>
                  <a:pt x="5518" y="9171"/>
                  <a:pt x="5366" y="9315"/>
                  <a:pt x="5159" y="9351"/>
                </a:cubicBezTo>
                <a:cubicBezTo>
                  <a:pt x="5059" y="9368"/>
                  <a:pt x="4943" y="9270"/>
                  <a:pt x="5035" y="9178"/>
                </a:cubicBezTo>
                <a:cubicBezTo>
                  <a:pt x="5134" y="9079"/>
                  <a:pt x="5327" y="9193"/>
                  <a:pt x="5407" y="9252"/>
                </a:cubicBezTo>
                <a:cubicBezTo>
                  <a:pt x="5470" y="9298"/>
                  <a:pt x="5473" y="9333"/>
                  <a:pt x="5482" y="9401"/>
                </a:cubicBezTo>
              </a:path>
              <a:path w="1365" h="696">
                <a:moveTo>
                  <a:pt x="5730" y="8954"/>
                </a:moveTo>
                <a:cubicBezTo>
                  <a:pt x="5730" y="9020"/>
                  <a:pt x="5730" y="9087"/>
                  <a:pt x="5730" y="9153"/>
                </a:cubicBezTo>
                <a:cubicBezTo>
                  <a:pt x="5858" y="9153"/>
                  <a:pt x="5917" y="9143"/>
                  <a:pt x="6028" y="9079"/>
                </a:cubicBezTo>
              </a:path>
              <a:path w="1365" h="696">
                <a:moveTo>
                  <a:pt x="6028" y="8855"/>
                </a:moveTo>
                <a:cubicBezTo>
                  <a:pt x="5945" y="8979"/>
                  <a:pt x="5994" y="9109"/>
                  <a:pt x="5978" y="9252"/>
                </a:cubicBezTo>
                <a:cubicBezTo>
                  <a:pt x="5957" y="9334"/>
                  <a:pt x="5949" y="9350"/>
                  <a:pt x="5953" y="9401"/>
                </a:cubicBezTo>
              </a:path>
              <a:path w="1365" h="696">
                <a:moveTo>
                  <a:pt x="6276" y="8756"/>
                </a:moveTo>
                <a:cubicBezTo>
                  <a:pt x="6199" y="8756"/>
                  <a:pt x="6205" y="8814"/>
                  <a:pt x="6176" y="8880"/>
                </a:cubicBezTo>
                <a:cubicBezTo>
                  <a:pt x="6229" y="8920"/>
                  <a:pt x="6306" y="8890"/>
                  <a:pt x="6350" y="8830"/>
                </a:cubicBezTo>
                <a:cubicBezTo>
                  <a:pt x="6447" y="8696"/>
                  <a:pt x="6299" y="8719"/>
                  <a:pt x="6226" y="87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06880" y="3402000"/>
            <a:ext cx="376200" cy="349200"/>
          </a:xfrm>
          <a:custGeom>
            <a:avLst/>
            <a:gdLst/>
            <a:ahLst/>
            <a:rect l="l" t="t" r="r" b="b"/>
            <a:pathLst>
              <a:path w="1043" h="968">
                <a:moveTo>
                  <a:pt x="11708" y="9823"/>
                </a:moveTo>
                <a:cubicBezTo>
                  <a:pt x="11779" y="9799"/>
                  <a:pt x="11727" y="9673"/>
                  <a:pt x="11683" y="9624"/>
                </a:cubicBezTo>
                <a:cubicBezTo>
                  <a:pt x="11626" y="9596"/>
                  <a:pt x="11603" y="9585"/>
                  <a:pt x="11559" y="9575"/>
                </a:cubicBezTo>
                <a:cubicBezTo>
                  <a:pt x="11487" y="9695"/>
                  <a:pt x="11321" y="9907"/>
                  <a:pt x="11460" y="10046"/>
                </a:cubicBezTo>
                <a:cubicBezTo>
                  <a:pt x="11485" y="10046"/>
                  <a:pt x="11509" y="10046"/>
                  <a:pt x="11534" y="10046"/>
                </a:cubicBezTo>
                <a:cubicBezTo>
                  <a:pt x="11641" y="9974"/>
                  <a:pt x="11733" y="9669"/>
                  <a:pt x="11733" y="9798"/>
                </a:cubicBezTo>
                <a:cubicBezTo>
                  <a:pt x="11723" y="9980"/>
                  <a:pt x="11702" y="10166"/>
                  <a:pt x="11658" y="10344"/>
                </a:cubicBezTo>
                <a:cubicBezTo>
                  <a:pt x="11629" y="10461"/>
                  <a:pt x="11623" y="10415"/>
                  <a:pt x="11658" y="10368"/>
                </a:cubicBezTo>
              </a:path>
              <a:path w="1043" h="968">
                <a:moveTo>
                  <a:pt x="12030" y="9773"/>
                </a:moveTo>
                <a:cubicBezTo>
                  <a:pt x="11937" y="9847"/>
                  <a:pt x="11898" y="10023"/>
                  <a:pt x="11857" y="10145"/>
                </a:cubicBezTo>
                <a:cubicBezTo>
                  <a:pt x="11816" y="10268"/>
                  <a:pt x="11799" y="10290"/>
                  <a:pt x="11807" y="10368"/>
                </a:cubicBezTo>
                <a:cubicBezTo>
                  <a:pt x="11957" y="10418"/>
                  <a:pt x="12067" y="10351"/>
                  <a:pt x="12129" y="10195"/>
                </a:cubicBezTo>
                <a:cubicBezTo>
                  <a:pt x="12210" y="9991"/>
                  <a:pt x="12134" y="9824"/>
                  <a:pt x="11931" y="9798"/>
                </a:cubicBezTo>
                <a:cubicBezTo>
                  <a:pt x="11870" y="9798"/>
                  <a:pt x="11854" y="9789"/>
                  <a:pt x="11832" y="9823"/>
                </a:cubicBezTo>
              </a:path>
              <a:path w="1043" h="968">
                <a:moveTo>
                  <a:pt x="12303" y="9500"/>
                </a:moveTo>
                <a:cubicBezTo>
                  <a:pt x="12288" y="9539"/>
                  <a:pt x="12184" y="9662"/>
                  <a:pt x="12278" y="9699"/>
                </a:cubicBezTo>
                <a:cubicBezTo>
                  <a:pt x="12433" y="9759"/>
                  <a:pt x="12441" y="9586"/>
                  <a:pt x="12427" y="9500"/>
                </a:cubicBezTo>
                <a:cubicBezTo>
                  <a:pt x="12365" y="9438"/>
                  <a:pt x="12334" y="9433"/>
                  <a:pt x="12278" y="95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10080" y="4518000"/>
            <a:ext cx="554040" cy="509760"/>
          </a:xfrm>
          <a:custGeom>
            <a:avLst/>
            <a:gdLst/>
            <a:ahLst/>
            <a:rect l="l" t="t" r="r" b="b"/>
            <a:pathLst>
              <a:path w="1539" h="1415">
                <a:moveTo>
                  <a:pt x="12675" y="12551"/>
                </a:moveTo>
                <a:cubicBezTo>
                  <a:pt x="12696" y="12670"/>
                  <a:pt x="12717" y="12782"/>
                  <a:pt x="12750" y="12898"/>
                </a:cubicBezTo>
                <a:cubicBezTo>
                  <a:pt x="12916" y="12886"/>
                  <a:pt x="13079" y="12833"/>
                  <a:pt x="13246" y="12824"/>
                </a:cubicBezTo>
                <a:cubicBezTo>
                  <a:pt x="13477" y="12811"/>
                  <a:pt x="13713" y="12820"/>
                  <a:pt x="13940" y="12849"/>
                </a:cubicBezTo>
                <a:cubicBezTo>
                  <a:pt x="13948" y="12849"/>
                  <a:pt x="13957" y="12849"/>
                  <a:pt x="13965" y="12849"/>
                </a:cubicBezTo>
                <a:cubicBezTo>
                  <a:pt x="13974" y="12755"/>
                  <a:pt x="13998" y="12689"/>
                  <a:pt x="14039" y="12601"/>
                </a:cubicBezTo>
                <a:cubicBezTo>
                  <a:pt x="14063" y="12553"/>
                  <a:pt x="14074" y="12536"/>
                  <a:pt x="14015" y="12551"/>
                </a:cubicBezTo>
              </a:path>
              <a:path w="1539" h="1415">
                <a:moveTo>
                  <a:pt x="12526" y="13345"/>
                </a:moveTo>
                <a:cubicBezTo>
                  <a:pt x="12526" y="13246"/>
                  <a:pt x="12526" y="13494"/>
                  <a:pt x="12526" y="13593"/>
                </a:cubicBezTo>
                <a:cubicBezTo>
                  <a:pt x="12526" y="13734"/>
                  <a:pt x="12532" y="13834"/>
                  <a:pt x="12576" y="13965"/>
                </a:cubicBezTo>
              </a:path>
              <a:path w="1539" h="1415">
                <a:moveTo>
                  <a:pt x="12774" y="13419"/>
                </a:moveTo>
                <a:cubicBezTo>
                  <a:pt x="12927" y="13377"/>
                  <a:pt x="13064" y="13369"/>
                  <a:pt x="13221" y="13395"/>
                </a:cubicBezTo>
                <a:cubicBezTo>
                  <a:pt x="13246" y="13403"/>
                  <a:pt x="13270" y="13411"/>
                  <a:pt x="13295" y="13419"/>
                </a:cubicBezTo>
                <a:cubicBezTo>
                  <a:pt x="13279" y="13534"/>
                  <a:pt x="13253" y="13654"/>
                  <a:pt x="13221" y="13767"/>
                </a:cubicBezTo>
                <a:cubicBezTo>
                  <a:pt x="13198" y="13834"/>
                  <a:pt x="13187" y="13852"/>
                  <a:pt x="13221" y="13891"/>
                </a:cubicBezTo>
              </a:path>
              <a:path w="1539" h="1415">
                <a:moveTo>
                  <a:pt x="13593" y="13345"/>
                </a:moveTo>
                <a:cubicBezTo>
                  <a:pt x="13593" y="13485"/>
                  <a:pt x="13550" y="13592"/>
                  <a:pt x="13717" y="13618"/>
                </a:cubicBezTo>
                <a:cubicBezTo>
                  <a:pt x="13838" y="13636"/>
                  <a:pt x="13957" y="13591"/>
                  <a:pt x="14064" y="13543"/>
                </a:cubicBezTo>
              </a:path>
              <a:path w="1539" h="1415">
                <a:moveTo>
                  <a:pt x="13866" y="13097"/>
                </a:moveTo>
                <a:cubicBezTo>
                  <a:pt x="13832" y="13336"/>
                  <a:pt x="13799" y="13550"/>
                  <a:pt x="13841" y="13791"/>
                </a:cubicBezTo>
                <a:cubicBezTo>
                  <a:pt x="13853" y="13862"/>
                  <a:pt x="13866" y="13898"/>
                  <a:pt x="13866" y="139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3240" y="3429000"/>
            <a:ext cx="312840" cy="303120"/>
          </a:xfrm>
          <a:custGeom>
            <a:avLst/>
            <a:gdLst/>
            <a:ahLst/>
            <a:rect l="l" t="t" r="r" b="b"/>
            <a:pathLst>
              <a:path w="869" h="844">
                <a:moveTo>
                  <a:pt x="18355" y="9525"/>
                </a:moveTo>
                <a:cubicBezTo>
                  <a:pt x="18277" y="9652"/>
                  <a:pt x="18231" y="9796"/>
                  <a:pt x="18157" y="9922"/>
                </a:cubicBezTo>
                <a:cubicBezTo>
                  <a:pt x="18085" y="10045"/>
                  <a:pt x="17986" y="10121"/>
                  <a:pt x="18033" y="10269"/>
                </a:cubicBezTo>
                <a:cubicBezTo>
                  <a:pt x="18077" y="10406"/>
                  <a:pt x="18275" y="10391"/>
                  <a:pt x="18380" y="10344"/>
                </a:cubicBezTo>
                <a:cubicBezTo>
                  <a:pt x="18495" y="10292"/>
                  <a:pt x="18513" y="10200"/>
                  <a:pt x="18554" y="10096"/>
                </a:cubicBezTo>
                <a:cubicBezTo>
                  <a:pt x="18470" y="10046"/>
                  <a:pt x="18392" y="10087"/>
                  <a:pt x="18331" y="10170"/>
                </a:cubicBezTo>
                <a:cubicBezTo>
                  <a:pt x="18294" y="10221"/>
                  <a:pt x="18156" y="10384"/>
                  <a:pt x="18281" y="10344"/>
                </a:cubicBezTo>
              </a:path>
              <a:path w="869" h="844">
                <a:moveTo>
                  <a:pt x="18827" y="9674"/>
                </a:moveTo>
                <a:cubicBezTo>
                  <a:pt x="18758" y="9691"/>
                  <a:pt x="18684" y="9752"/>
                  <a:pt x="18653" y="9823"/>
                </a:cubicBezTo>
                <a:cubicBezTo>
                  <a:pt x="18653" y="9864"/>
                  <a:pt x="18645" y="9880"/>
                  <a:pt x="18678" y="9872"/>
                </a:cubicBezTo>
                <a:cubicBezTo>
                  <a:pt x="18774" y="9888"/>
                  <a:pt x="18881" y="9892"/>
                  <a:pt x="18876" y="9748"/>
                </a:cubicBezTo>
                <a:cubicBezTo>
                  <a:pt x="18871" y="9614"/>
                  <a:pt x="18759" y="9652"/>
                  <a:pt x="18678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05160" y="4116240"/>
            <a:ext cx="376200" cy="285840"/>
          </a:xfrm>
          <a:custGeom>
            <a:avLst/>
            <a:gdLst/>
            <a:ahLst/>
            <a:rect l="l" t="t" r="r" b="b"/>
            <a:pathLst>
              <a:path w="1043" h="795">
                <a:moveTo>
                  <a:pt x="12105" y="11460"/>
                </a:moveTo>
                <a:cubicBezTo>
                  <a:pt x="12087" y="11405"/>
                  <a:pt x="11942" y="11486"/>
                  <a:pt x="11906" y="11509"/>
                </a:cubicBezTo>
                <a:cubicBezTo>
                  <a:pt x="11780" y="11590"/>
                  <a:pt x="11722" y="11656"/>
                  <a:pt x="11683" y="11782"/>
                </a:cubicBezTo>
                <a:cubicBezTo>
                  <a:pt x="11843" y="11878"/>
                  <a:pt x="12040" y="11930"/>
                  <a:pt x="12129" y="12080"/>
                </a:cubicBezTo>
                <a:cubicBezTo>
                  <a:pt x="12053" y="12118"/>
                  <a:pt x="11816" y="12251"/>
                  <a:pt x="11807" y="12080"/>
                </a:cubicBezTo>
                <a:cubicBezTo>
                  <a:pt x="11796" y="11861"/>
                  <a:pt x="11989" y="11753"/>
                  <a:pt x="12105" y="11609"/>
                </a:cubicBezTo>
              </a:path>
              <a:path w="1043" h="795">
                <a:moveTo>
                  <a:pt x="12353" y="11658"/>
                </a:moveTo>
                <a:cubicBezTo>
                  <a:pt x="12367" y="11703"/>
                  <a:pt x="12358" y="11891"/>
                  <a:pt x="12402" y="11906"/>
                </a:cubicBezTo>
                <a:cubicBezTo>
                  <a:pt x="12490" y="11935"/>
                  <a:pt x="12629" y="11915"/>
                  <a:pt x="12700" y="11857"/>
                </a:cubicBezTo>
                <a:cubicBezTo>
                  <a:pt x="12708" y="11849"/>
                  <a:pt x="12717" y="11840"/>
                  <a:pt x="12725" y="11832"/>
                </a:cubicBezTo>
              </a:path>
              <a:path w="1043" h="795">
                <a:moveTo>
                  <a:pt x="12626" y="11435"/>
                </a:moveTo>
                <a:cubicBezTo>
                  <a:pt x="12650" y="11558"/>
                  <a:pt x="12650" y="11675"/>
                  <a:pt x="12650" y="11807"/>
                </a:cubicBezTo>
                <a:cubicBezTo>
                  <a:pt x="12650" y="11907"/>
                  <a:pt x="12721" y="12155"/>
                  <a:pt x="12700" y="12229"/>
                </a:cubicBezTo>
                <a:cubicBezTo>
                  <a:pt x="12692" y="12229"/>
                  <a:pt x="12683" y="12229"/>
                  <a:pt x="12675" y="122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41920" y="4133880"/>
            <a:ext cx="588960" cy="260280"/>
          </a:xfrm>
          <a:custGeom>
            <a:avLst/>
            <a:gdLst/>
            <a:ahLst/>
            <a:rect l="l" t="t" r="r" b="b"/>
            <a:pathLst>
              <a:path w="1638" h="720">
                <a:moveTo>
                  <a:pt x="13246" y="11807"/>
                </a:moveTo>
                <a:cubicBezTo>
                  <a:pt x="13256" y="11941"/>
                  <a:pt x="13271" y="12069"/>
                  <a:pt x="13271" y="12204"/>
                </a:cubicBezTo>
              </a:path>
              <a:path w="1638" h="720">
                <a:moveTo>
                  <a:pt x="13171" y="12030"/>
                </a:moveTo>
                <a:cubicBezTo>
                  <a:pt x="13285" y="12009"/>
                  <a:pt x="13377" y="12005"/>
                  <a:pt x="13494" y="12005"/>
                </a:cubicBezTo>
              </a:path>
              <a:path w="1638" h="720">
                <a:moveTo>
                  <a:pt x="14114" y="11757"/>
                </a:moveTo>
                <a:cubicBezTo>
                  <a:pt x="14161" y="11664"/>
                  <a:pt x="14192" y="11586"/>
                  <a:pt x="14064" y="11534"/>
                </a:cubicBezTo>
                <a:cubicBezTo>
                  <a:pt x="13901" y="11469"/>
                  <a:pt x="13700" y="11552"/>
                  <a:pt x="13667" y="11733"/>
                </a:cubicBezTo>
                <a:cubicBezTo>
                  <a:pt x="13675" y="11758"/>
                  <a:pt x="13684" y="11782"/>
                  <a:pt x="13692" y="11807"/>
                </a:cubicBezTo>
                <a:cubicBezTo>
                  <a:pt x="13880" y="11894"/>
                  <a:pt x="13926" y="11827"/>
                  <a:pt x="14064" y="11683"/>
                </a:cubicBezTo>
                <a:cubicBezTo>
                  <a:pt x="14103" y="11644"/>
                  <a:pt x="14120" y="11643"/>
                  <a:pt x="14114" y="11609"/>
                </a:cubicBezTo>
                <a:cubicBezTo>
                  <a:pt x="14114" y="11728"/>
                  <a:pt x="14150" y="11839"/>
                  <a:pt x="14163" y="11956"/>
                </a:cubicBezTo>
                <a:cubicBezTo>
                  <a:pt x="14163" y="12032"/>
                  <a:pt x="14164" y="12058"/>
                  <a:pt x="14188" y="12105"/>
                </a:cubicBezTo>
              </a:path>
              <a:path w="1638" h="720">
                <a:moveTo>
                  <a:pt x="14560" y="11485"/>
                </a:moveTo>
                <a:cubicBezTo>
                  <a:pt x="14439" y="11546"/>
                  <a:pt x="14363" y="11694"/>
                  <a:pt x="14337" y="11832"/>
                </a:cubicBezTo>
                <a:cubicBezTo>
                  <a:pt x="14304" y="12010"/>
                  <a:pt x="14391" y="12142"/>
                  <a:pt x="14585" y="12105"/>
                </a:cubicBezTo>
                <a:cubicBezTo>
                  <a:pt x="14787" y="12066"/>
                  <a:pt x="14876" y="11830"/>
                  <a:pt x="14759" y="11658"/>
                </a:cubicBezTo>
                <a:cubicBezTo>
                  <a:pt x="14666" y="11521"/>
                  <a:pt x="14548" y="11559"/>
                  <a:pt x="14412" y="115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4152960"/>
            <a:ext cx="179280" cy="16992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15577" y="11534"/>
                </a:moveTo>
                <a:cubicBezTo>
                  <a:pt x="15603" y="11636"/>
                  <a:pt x="15624" y="11740"/>
                  <a:pt x="15627" y="11857"/>
                </a:cubicBezTo>
                <a:cubicBezTo>
                  <a:pt x="15627" y="11951"/>
                  <a:pt x="15648" y="11972"/>
                  <a:pt x="15602" y="12005"/>
                </a:cubicBezTo>
              </a:path>
              <a:path w="497" h="472">
                <a:moveTo>
                  <a:pt x="15453" y="11782"/>
                </a:moveTo>
                <a:cubicBezTo>
                  <a:pt x="15622" y="11745"/>
                  <a:pt x="15776" y="11733"/>
                  <a:pt x="15949" y="117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02200" y="4205160"/>
            <a:ext cx="108000" cy="1350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16396" y="11683"/>
                </a:moveTo>
                <a:cubicBezTo>
                  <a:pt x="16490" y="11813"/>
                  <a:pt x="16580" y="11917"/>
                  <a:pt x="16694" y="12030"/>
                </a:cubicBezTo>
              </a:path>
              <a:path w="299" h="373">
                <a:moveTo>
                  <a:pt x="16570" y="11683"/>
                </a:moveTo>
                <a:cubicBezTo>
                  <a:pt x="16506" y="11823"/>
                  <a:pt x="16359" y="12004"/>
                  <a:pt x="16495" y="120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61040" y="4187880"/>
            <a:ext cx="179280" cy="108000"/>
          </a:xfrm>
          <a:custGeom>
            <a:avLst/>
            <a:gdLst/>
            <a:ahLst/>
            <a:rect l="l" t="t" r="r" b="b"/>
            <a:pathLst>
              <a:path w="497" h="299">
                <a:moveTo>
                  <a:pt x="17115" y="11708"/>
                </a:moveTo>
                <a:cubicBezTo>
                  <a:pt x="17248" y="11691"/>
                  <a:pt x="17381" y="11662"/>
                  <a:pt x="17512" y="11633"/>
                </a:cubicBezTo>
              </a:path>
              <a:path w="497" h="299">
                <a:moveTo>
                  <a:pt x="17214" y="11931"/>
                </a:moveTo>
                <a:cubicBezTo>
                  <a:pt x="17398" y="11900"/>
                  <a:pt x="17482" y="11881"/>
                  <a:pt x="17611" y="118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34080" y="4027320"/>
            <a:ext cx="652680" cy="268560"/>
          </a:xfrm>
          <a:custGeom>
            <a:avLst/>
            <a:gdLst/>
            <a:ahLst/>
            <a:rect l="l" t="t" r="r" b="b"/>
            <a:pathLst>
              <a:path w="1812" h="745">
                <a:moveTo>
                  <a:pt x="18430" y="11261"/>
                </a:moveTo>
                <a:cubicBezTo>
                  <a:pt x="18441" y="11447"/>
                  <a:pt x="18476" y="11624"/>
                  <a:pt x="18504" y="11807"/>
                </a:cubicBezTo>
                <a:cubicBezTo>
                  <a:pt x="18504" y="11815"/>
                  <a:pt x="18504" y="11824"/>
                  <a:pt x="18504" y="11832"/>
                </a:cubicBezTo>
              </a:path>
              <a:path w="1812" h="745">
                <a:moveTo>
                  <a:pt x="19000" y="11311"/>
                </a:moveTo>
                <a:cubicBezTo>
                  <a:pt x="18874" y="11362"/>
                  <a:pt x="18831" y="11380"/>
                  <a:pt x="18777" y="11460"/>
                </a:cubicBezTo>
                <a:cubicBezTo>
                  <a:pt x="18826" y="11691"/>
                  <a:pt x="18962" y="11710"/>
                  <a:pt x="19124" y="11881"/>
                </a:cubicBezTo>
                <a:cubicBezTo>
                  <a:pt x="19124" y="11889"/>
                  <a:pt x="19124" y="11898"/>
                  <a:pt x="19124" y="11906"/>
                </a:cubicBezTo>
                <a:cubicBezTo>
                  <a:pt x="19044" y="11921"/>
                  <a:pt x="18815" y="11933"/>
                  <a:pt x="18827" y="11782"/>
                </a:cubicBezTo>
                <a:cubicBezTo>
                  <a:pt x="18841" y="11611"/>
                  <a:pt x="19072" y="11426"/>
                  <a:pt x="19199" y="11336"/>
                </a:cubicBezTo>
                <a:cubicBezTo>
                  <a:pt x="19232" y="11319"/>
                  <a:pt x="19265" y="11303"/>
                  <a:pt x="19298" y="11286"/>
                </a:cubicBezTo>
              </a:path>
              <a:path w="1812" h="745">
                <a:moveTo>
                  <a:pt x="19794" y="11187"/>
                </a:moveTo>
                <a:cubicBezTo>
                  <a:pt x="19666" y="11264"/>
                  <a:pt x="19514" y="11497"/>
                  <a:pt x="19546" y="11683"/>
                </a:cubicBezTo>
                <a:cubicBezTo>
                  <a:pt x="19592" y="11949"/>
                  <a:pt x="19990" y="11871"/>
                  <a:pt x="20141" y="11782"/>
                </a:cubicBezTo>
                <a:cubicBezTo>
                  <a:pt x="20237" y="11687"/>
                  <a:pt x="20270" y="11659"/>
                  <a:pt x="20241" y="11559"/>
                </a:cubicBezTo>
                <a:cubicBezTo>
                  <a:pt x="20006" y="11396"/>
                  <a:pt x="19991" y="11417"/>
                  <a:pt x="19695" y="114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19880" y="4367160"/>
            <a:ext cx="903240" cy="411120"/>
          </a:xfrm>
          <a:custGeom>
            <a:avLst/>
            <a:gdLst/>
            <a:ahLst/>
            <a:rect l="l" t="t" r="r" b="b"/>
            <a:pathLst>
              <a:path w="2506" h="1143">
                <a:moveTo>
                  <a:pt x="17835" y="12452"/>
                </a:moveTo>
                <a:cubicBezTo>
                  <a:pt x="17936" y="12437"/>
                  <a:pt x="18034" y="12425"/>
                  <a:pt x="18132" y="12402"/>
                </a:cubicBezTo>
              </a:path>
              <a:path w="2506" h="1143">
                <a:moveTo>
                  <a:pt x="18529" y="12204"/>
                </a:moveTo>
                <a:cubicBezTo>
                  <a:pt x="18529" y="12239"/>
                  <a:pt x="18545" y="12188"/>
                  <a:pt x="18529" y="12328"/>
                </a:cubicBezTo>
                <a:cubicBezTo>
                  <a:pt x="18509" y="12498"/>
                  <a:pt x="18479" y="12652"/>
                  <a:pt x="18479" y="12824"/>
                </a:cubicBezTo>
                <a:cubicBezTo>
                  <a:pt x="18479" y="12849"/>
                  <a:pt x="18479" y="12857"/>
                  <a:pt x="18479" y="12824"/>
                </a:cubicBezTo>
              </a:path>
              <a:path w="2506" h="1143">
                <a:moveTo>
                  <a:pt x="18852" y="12278"/>
                </a:moveTo>
                <a:cubicBezTo>
                  <a:pt x="18852" y="12254"/>
                  <a:pt x="18852" y="12246"/>
                  <a:pt x="18827" y="12254"/>
                </a:cubicBezTo>
                <a:cubicBezTo>
                  <a:pt x="18908" y="12205"/>
                  <a:pt x="19004" y="12245"/>
                  <a:pt x="19100" y="12229"/>
                </a:cubicBezTo>
                <a:cubicBezTo>
                  <a:pt x="19125" y="12221"/>
                  <a:pt x="19149" y="12212"/>
                  <a:pt x="19174" y="12204"/>
                </a:cubicBezTo>
                <a:cubicBezTo>
                  <a:pt x="19174" y="12278"/>
                  <a:pt x="19125" y="12355"/>
                  <a:pt x="19100" y="12427"/>
                </a:cubicBezTo>
                <a:cubicBezTo>
                  <a:pt x="19061" y="12540"/>
                  <a:pt x="19025" y="12893"/>
                  <a:pt x="19025" y="12774"/>
                </a:cubicBezTo>
                <a:cubicBezTo>
                  <a:pt x="19025" y="12758"/>
                  <a:pt x="19025" y="12741"/>
                  <a:pt x="19025" y="12725"/>
                </a:cubicBezTo>
              </a:path>
              <a:path w="2506" h="1143">
                <a:moveTo>
                  <a:pt x="19571" y="12204"/>
                </a:moveTo>
                <a:cubicBezTo>
                  <a:pt x="19555" y="12285"/>
                  <a:pt x="19511" y="12368"/>
                  <a:pt x="19496" y="12452"/>
                </a:cubicBezTo>
                <a:cubicBezTo>
                  <a:pt x="19496" y="12469"/>
                  <a:pt x="19496" y="12485"/>
                  <a:pt x="19496" y="12502"/>
                </a:cubicBezTo>
                <a:cubicBezTo>
                  <a:pt x="19604" y="12554"/>
                  <a:pt x="19724" y="12512"/>
                  <a:pt x="19844" y="12502"/>
                </a:cubicBezTo>
                <a:cubicBezTo>
                  <a:pt x="19910" y="12502"/>
                  <a:pt x="19935" y="12510"/>
                  <a:pt x="19918" y="12452"/>
                </a:cubicBezTo>
              </a:path>
              <a:path w="2506" h="1143">
                <a:moveTo>
                  <a:pt x="19918" y="12129"/>
                </a:moveTo>
                <a:cubicBezTo>
                  <a:pt x="19892" y="12284"/>
                  <a:pt x="19854" y="12441"/>
                  <a:pt x="19844" y="12601"/>
                </a:cubicBezTo>
                <a:cubicBezTo>
                  <a:pt x="19836" y="12735"/>
                  <a:pt x="19819" y="12864"/>
                  <a:pt x="19819" y="12998"/>
                </a:cubicBezTo>
              </a:path>
              <a:path w="2506" h="1143">
                <a:moveTo>
                  <a:pt x="17859" y="13271"/>
                </a:moveTo>
                <a:cubicBezTo>
                  <a:pt x="18025" y="13197"/>
                  <a:pt x="18199" y="13219"/>
                  <a:pt x="18380" y="13196"/>
                </a:cubicBezTo>
                <a:cubicBezTo>
                  <a:pt x="18844" y="13136"/>
                  <a:pt x="19300" y="13101"/>
                  <a:pt x="19769" y="13122"/>
                </a:cubicBezTo>
                <a:cubicBezTo>
                  <a:pt x="19960" y="13130"/>
                  <a:pt x="20153" y="13145"/>
                  <a:pt x="20340" y="131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4991040"/>
            <a:ext cx="339840" cy="243000"/>
          </a:xfrm>
          <a:custGeom>
            <a:avLst/>
            <a:gdLst/>
            <a:ahLst/>
            <a:rect l="l" t="t" r="r" b="b"/>
            <a:pathLst>
              <a:path w="944" h="671">
                <a:moveTo>
                  <a:pt x="18430" y="13891"/>
                </a:moveTo>
                <a:cubicBezTo>
                  <a:pt x="18450" y="14031"/>
                  <a:pt x="18454" y="14171"/>
                  <a:pt x="18479" y="14312"/>
                </a:cubicBezTo>
                <a:cubicBezTo>
                  <a:pt x="18498" y="14390"/>
                  <a:pt x="18490" y="14407"/>
                  <a:pt x="18529" y="14436"/>
                </a:cubicBezTo>
              </a:path>
              <a:path w="944" h="671">
                <a:moveTo>
                  <a:pt x="18752" y="13866"/>
                </a:moveTo>
                <a:cubicBezTo>
                  <a:pt x="18733" y="14000"/>
                  <a:pt x="18623" y="14097"/>
                  <a:pt x="18554" y="14213"/>
                </a:cubicBezTo>
                <a:cubicBezTo>
                  <a:pt x="18489" y="14324"/>
                  <a:pt x="18240" y="14594"/>
                  <a:pt x="18355" y="14536"/>
                </a:cubicBezTo>
                <a:cubicBezTo>
                  <a:pt x="18388" y="14511"/>
                  <a:pt x="18422" y="14486"/>
                  <a:pt x="18455" y="14461"/>
                </a:cubicBezTo>
              </a:path>
              <a:path w="944" h="671">
                <a:moveTo>
                  <a:pt x="18976" y="14114"/>
                </a:moveTo>
                <a:cubicBezTo>
                  <a:pt x="19092" y="14089"/>
                  <a:pt x="19186" y="14077"/>
                  <a:pt x="19298" y="14114"/>
                </a:cubicBezTo>
              </a:path>
              <a:path w="944" h="671">
                <a:moveTo>
                  <a:pt x="19000" y="14312"/>
                </a:moveTo>
                <a:cubicBezTo>
                  <a:pt x="19116" y="14306"/>
                  <a:pt x="19186" y="14293"/>
                  <a:pt x="19298" y="142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16840" y="4919760"/>
            <a:ext cx="187200" cy="277560"/>
          </a:xfrm>
          <a:custGeom>
            <a:avLst/>
            <a:gdLst/>
            <a:ahLst/>
            <a:rect l="l" t="t" r="r" b="b"/>
            <a:pathLst>
              <a:path w="522" h="770">
                <a:moveTo>
                  <a:pt x="19943" y="13667"/>
                </a:moveTo>
                <a:cubicBezTo>
                  <a:pt x="19943" y="13734"/>
                  <a:pt x="19947" y="13780"/>
                  <a:pt x="19918" y="13841"/>
                </a:cubicBezTo>
                <a:cubicBezTo>
                  <a:pt x="19849" y="13986"/>
                  <a:pt x="19778" y="14101"/>
                  <a:pt x="19769" y="14263"/>
                </a:cubicBezTo>
                <a:cubicBezTo>
                  <a:pt x="19761" y="14415"/>
                  <a:pt x="19868" y="14467"/>
                  <a:pt x="20017" y="14436"/>
                </a:cubicBezTo>
                <a:cubicBezTo>
                  <a:pt x="20180" y="14402"/>
                  <a:pt x="20261" y="14288"/>
                  <a:pt x="20290" y="14139"/>
                </a:cubicBezTo>
                <a:cubicBezTo>
                  <a:pt x="20192" y="14117"/>
                  <a:pt x="20056" y="14132"/>
                  <a:pt x="19993" y="14238"/>
                </a:cubicBezTo>
                <a:cubicBezTo>
                  <a:pt x="19961" y="14291"/>
                  <a:pt x="19952" y="14371"/>
                  <a:pt x="19968" y="143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9080" y="5384880"/>
            <a:ext cx="349200" cy="133200"/>
          </a:xfrm>
          <a:custGeom>
            <a:avLst/>
            <a:gdLst/>
            <a:ahLst/>
            <a:rect l="l" t="t" r="r" b="b"/>
            <a:pathLst>
              <a:path w="968" h="373">
                <a:moveTo>
                  <a:pt x="2580" y="14982"/>
                </a:moveTo>
                <a:cubicBezTo>
                  <a:pt x="2580" y="15083"/>
                  <a:pt x="2559" y="15179"/>
                  <a:pt x="2555" y="15280"/>
                </a:cubicBezTo>
                <a:cubicBezTo>
                  <a:pt x="2555" y="15296"/>
                  <a:pt x="2555" y="15313"/>
                  <a:pt x="2555" y="15329"/>
                </a:cubicBezTo>
                <a:cubicBezTo>
                  <a:pt x="2706" y="15329"/>
                  <a:pt x="2852" y="15303"/>
                  <a:pt x="3001" y="15280"/>
                </a:cubicBezTo>
                <a:cubicBezTo>
                  <a:pt x="3129" y="15260"/>
                  <a:pt x="3244" y="15255"/>
                  <a:pt x="3373" y="15255"/>
                </a:cubicBezTo>
                <a:cubicBezTo>
                  <a:pt x="3402" y="15255"/>
                  <a:pt x="3474" y="15053"/>
                  <a:pt x="3497" y="15007"/>
                </a:cubicBezTo>
                <a:cubicBezTo>
                  <a:pt x="3505" y="14990"/>
                  <a:pt x="3514" y="14974"/>
                  <a:pt x="3522" y="149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74800" y="5661000"/>
            <a:ext cx="19080" cy="142920"/>
          </a:xfrm>
          <a:custGeom>
            <a:avLst/>
            <a:gdLst/>
            <a:ahLst/>
            <a:rect l="l" t="t" r="r" b="b"/>
            <a:pathLst>
              <a:path w="50" h="398">
                <a:moveTo>
                  <a:pt x="2480" y="15726"/>
                </a:moveTo>
                <a:cubicBezTo>
                  <a:pt x="2480" y="15821"/>
                  <a:pt x="2463" y="15907"/>
                  <a:pt x="2456" y="15999"/>
                </a:cubicBezTo>
                <a:cubicBezTo>
                  <a:pt x="2450" y="16076"/>
                  <a:pt x="2434" y="16112"/>
                  <a:pt x="2456" y="161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688000"/>
            <a:ext cx="98280" cy="152280"/>
          </a:xfrm>
          <a:custGeom>
            <a:avLst/>
            <a:gdLst/>
            <a:ahLst/>
            <a:rect l="l" t="t" r="r" b="b"/>
            <a:pathLst>
              <a:path w="274" h="422">
                <a:moveTo>
                  <a:pt x="2803" y="15801"/>
                </a:moveTo>
                <a:cubicBezTo>
                  <a:pt x="2789" y="15842"/>
                  <a:pt x="2767" y="15884"/>
                  <a:pt x="2753" y="15925"/>
                </a:cubicBezTo>
                <a:cubicBezTo>
                  <a:pt x="2827" y="15961"/>
                  <a:pt x="2986" y="15996"/>
                  <a:pt x="3026" y="16073"/>
                </a:cubicBezTo>
                <a:cubicBezTo>
                  <a:pt x="3094" y="16203"/>
                  <a:pt x="2892" y="16217"/>
                  <a:pt x="2828" y="16197"/>
                </a:cubicBezTo>
                <a:cubicBezTo>
                  <a:pt x="2764" y="16166"/>
                  <a:pt x="2743" y="16143"/>
                  <a:pt x="2753" y="160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5643720"/>
            <a:ext cx="152280" cy="63360"/>
          </a:xfrm>
          <a:custGeom>
            <a:avLst/>
            <a:gdLst/>
            <a:ahLst/>
            <a:rect l="l" t="t" r="r" b="b"/>
            <a:pathLst>
              <a:path w="423" h="174">
                <a:moveTo>
                  <a:pt x="2753" y="15850"/>
                </a:moveTo>
                <a:cubicBezTo>
                  <a:pt x="2876" y="15783"/>
                  <a:pt x="2986" y="15703"/>
                  <a:pt x="3125" y="15677"/>
                </a:cubicBezTo>
                <a:cubicBezTo>
                  <a:pt x="3142" y="15677"/>
                  <a:pt x="3158" y="15677"/>
                  <a:pt x="3175" y="156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5634000"/>
            <a:ext cx="142920" cy="17928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3373" y="15652"/>
                </a:moveTo>
                <a:cubicBezTo>
                  <a:pt x="3317" y="15752"/>
                  <a:pt x="3302" y="15858"/>
                  <a:pt x="3299" y="15974"/>
                </a:cubicBezTo>
                <a:cubicBezTo>
                  <a:pt x="3299" y="16048"/>
                  <a:pt x="3299" y="16057"/>
                  <a:pt x="3299" y="16098"/>
                </a:cubicBezTo>
                <a:cubicBezTo>
                  <a:pt x="3442" y="16098"/>
                  <a:pt x="3538" y="16082"/>
                  <a:pt x="3646" y="15974"/>
                </a:cubicBezTo>
                <a:cubicBezTo>
                  <a:pt x="3702" y="15919"/>
                  <a:pt x="3716" y="15880"/>
                  <a:pt x="3671" y="15850"/>
                </a:cubicBezTo>
                <a:cubicBezTo>
                  <a:pt x="3543" y="15904"/>
                  <a:pt x="3480" y="15952"/>
                  <a:pt x="3448" y="16098"/>
                </a:cubicBezTo>
                <a:cubicBezTo>
                  <a:pt x="3448" y="16140"/>
                  <a:pt x="3440" y="16156"/>
                  <a:pt x="3473" y="161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31840" y="304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tical Angle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31720" y="304920"/>
            <a:ext cx="39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opposite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intersecting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be eq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10440" y="3306600"/>
            <a:ext cx="3284280" cy="1920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60240" y="3008880"/>
            <a:ext cx="5400" cy="3181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3760" y="2101680"/>
            <a:ext cx="64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missing angles a, b and 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76760" y="4419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90720" y="3701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6880" y="4159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5680" y="4921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17880" y="5013360"/>
            <a:ext cx="91800" cy="921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92160" y="35496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3641760"/>
            <a:ext cx="92160" cy="921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00200" y="3670200"/>
            <a:ext cx="544680" cy="420840"/>
          </a:xfrm>
          <a:custGeom>
            <a:avLst/>
            <a:gdLst/>
            <a:ahLst/>
            <a:rect l="l" t="t" r="r" b="b"/>
            <a:pathLst>
              <a:path w="1514" h="1167">
                <a:moveTo>
                  <a:pt x="7193" y="10864"/>
                </a:moveTo>
                <a:cubicBezTo>
                  <a:pt x="7193" y="10836"/>
                  <a:pt x="7205" y="10755"/>
                  <a:pt x="7218" y="10740"/>
                </a:cubicBezTo>
                <a:cubicBezTo>
                  <a:pt x="7257" y="10694"/>
                  <a:pt x="7296" y="10691"/>
                  <a:pt x="7367" y="10691"/>
                </a:cubicBezTo>
                <a:cubicBezTo>
                  <a:pt x="7406" y="10691"/>
                  <a:pt x="7424" y="10773"/>
                  <a:pt x="7417" y="10815"/>
                </a:cubicBezTo>
                <a:cubicBezTo>
                  <a:pt x="7403" y="10894"/>
                  <a:pt x="7300" y="11033"/>
                  <a:pt x="7243" y="11088"/>
                </a:cubicBezTo>
                <a:cubicBezTo>
                  <a:pt x="7158" y="11170"/>
                  <a:pt x="7061" y="11268"/>
                  <a:pt x="6970" y="11336"/>
                </a:cubicBezTo>
                <a:cubicBezTo>
                  <a:pt x="6932" y="11393"/>
                  <a:pt x="6996" y="11284"/>
                  <a:pt x="7045" y="11237"/>
                </a:cubicBezTo>
                <a:cubicBezTo>
                  <a:pt x="7104" y="11181"/>
                  <a:pt x="7181" y="11112"/>
                  <a:pt x="7268" y="11137"/>
                </a:cubicBezTo>
                <a:cubicBezTo>
                  <a:pt x="7328" y="11154"/>
                  <a:pt x="7351" y="11208"/>
                  <a:pt x="7417" y="11212"/>
                </a:cubicBezTo>
                <a:cubicBezTo>
                  <a:pt x="7469" y="11216"/>
                  <a:pt x="7479" y="11197"/>
                  <a:pt x="7491" y="11162"/>
                </a:cubicBezTo>
              </a:path>
              <a:path w="1514" h="1167">
                <a:moveTo>
                  <a:pt x="7689" y="10716"/>
                </a:moveTo>
                <a:cubicBezTo>
                  <a:pt x="7689" y="10708"/>
                  <a:pt x="7689" y="10699"/>
                  <a:pt x="7689" y="10691"/>
                </a:cubicBezTo>
                <a:cubicBezTo>
                  <a:pt x="7689" y="10640"/>
                  <a:pt x="7675" y="10740"/>
                  <a:pt x="7665" y="10790"/>
                </a:cubicBezTo>
                <a:cubicBezTo>
                  <a:pt x="7655" y="10844"/>
                  <a:pt x="7781" y="10784"/>
                  <a:pt x="7813" y="10790"/>
                </a:cubicBezTo>
                <a:cubicBezTo>
                  <a:pt x="7885" y="10805"/>
                  <a:pt x="7927" y="10871"/>
                  <a:pt x="7913" y="10939"/>
                </a:cubicBezTo>
                <a:cubicBezTo>
                  <a:pt x="7900" y="11006"/>
                  <a:pt x="7804" y="11077"/>
                  <a:pt x="7739" y="11088"/>
                </a:cubicBezTo>
                <a:cubicBezTo>
                  <a:pt x="7681" y="11088"/>
                  <a:pt x="7673" y="11088"/>
                  <a:pt x="7640" y="11088"/>
                </a:cubicBezTo>
                <a:cubicBezTo>
                  <a:pt x="7712" y="11034"/>
                  <a:pt x="7721" y="11060"/>
                  <a:pt x="7789" y="10964"/>
                </a:cubicBezTo>
              </a:path>
              <a:path w="1514" h="1167">
                <a:moveTo>
                  <a:pt x="7714" y="10592"/>
                </a:moveTo>
                <a:cubicBezTo>
                  <a:pt x="7801" y="10534"/>
                  <a:pt x="7886" y="10472"/>
                  <a:pt x="7987" y="10443"/>
                </a:cubicBezTo>
                <a:cubicBezTo>
                  <a:pt x="7995" y="10443"/>
                  <a:pt x="8004" y="10443"/>
                  <a:pt x="8012" y="10443"/>
                </a:cubicBezTo>
              </a:path>
              <a:path w="1514" h="1167">
                <a:moveTo>
                  <a:pt x="8310" y="10195"/>
                </a:moveTo>
                <a:cubicBezTo>
                  <a:pt x="8303" y="10237"/>
                  <a:pt x="8292" y="10277"/>
                  <a:pt x="8285" y="10319"/>
                </a:cubicBezTo>
                <a:cubicBezTo>
                  <a:pt x="8339" y="10312"/>
                  <a:pt x="8427" y="10301"/>
                  <a:pt x="8458" y="10244"/>
                </a:cubicBezTo>
                <a:cubicBezTo>
                  <a:pt x="8496" y="10175"/>
                  <a:pt x="8336" y="10195"/>
                  <a:pt x="8310" y="101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76240" y="4956120"/>
            <a:ext cx="519120" cy="374760"/>
          </a:xfrm>
          <a:custGeom>
            <a:avLst/>
            <a:gdLst/>
            <a:ahLst/>
            <a:rect l="l" t="t" r="r" b="b"/>
            <a:pathLst>
              <a:path w="1440" h="1042">
                <a:moveTo>
                  <a:pt x="5110" y="14064"/>
                </a:moveTo>
                <a:cubicBezTo>
                  <a:pt x="5133" y="14006"/>
                  <a:pt x="5166" y="13994"/>
                  <a:pt x="5209" y="13965"/>
                </a:cubicBezTo>
                <a:cubicBezTo>
                  <a:pt x="5217" y="13957"/>
                  <a:pt x="5226" y="13948"/>
                  <a:pt x="5234" y="13940"/>
                </a:cubicBezTo>
                <a:cubicBezTo>
                  <a:pt x="5310" y="13998"/>
                  <a:pt x="5316" y="14028"/>
                  <a:pt x="5283" y="14139"/>
                </a:cubicBezTo>
                <a:cubicBezTo>
                  <a:pt x="5234" y="14305"/>
                  <a:pt x="5159" y="14470"/>
                  <a:pt x="5060" y="14610"/>
                </a:cubicBezTo>
                <a:cubicBezTo>
                  <a:pt x="5024" y="14661"/>
                  <a:pt x="4946" y="14794"/>
                  <a:pt x="4936" y="14784"/>
                </a:cubicBezTo>
                <a:cubicBezTo>
                  <a:pt x="5033" y="14687"/>
                  <a:pt x="5091" y="14629"/>
                  <a:pt x="5234" y="14610"/>
                </a:cubicBezTo>
                <a:cubicBezTo>
                  <a:pt x="5299" y="14601"/>
                  <a:pt x="5335" y="14606"/>
                  <a:pt x="5383" y="14635"/>
                </a:cubicBezTo>
              </a:path>
              <a:path w="1440" h="1042">
                <a:moveTo>
                  <a:pt x="5556" y="14089"/>
                </a:moveTo>
                <a:cubicBezTo>
                  <a:pt x="5545" y="14156"/>
                  <a:pt x="5518" y="14221"/>
                  <a:pt x="5507" y="14288"/>
                </a:cubicBezTo>
                <a:cubicBezTo>
                  <a:pt x="5584" y="14288"/>
                  <a:pt x="5651" y="14266"/>
                  <a:pt x="5730" y="14263"/>
                </a:cubicBezTo>
                <a:cubicBezTo>
                  <a:pt x="5880" y="14258"/>
                  <a:pt x="5882" y="14423"/>
                  <a:pt x="5829" y="14536"/>
                </a:cubicBezTo>
                <a:cubicBezTo>
                  <a:pt x="5768" y="14665"/>
                  <a:pt x="5685" y="14701"/>
                  <a:pt x="5556" y="14709"/>
                </a:cubicBezTo>
                <a:cubicBezTo>
                  <a:pt x="5499" y="14712"/>
                  <a:pt x="5516" y="14718"/>
                  <a:pt x="5507" y="14660"/>
                </a:cubicBezTo>
              </a:path>
              <a:path w="1440" h="1042">
                <a:moveTo>
                  <a:pt x="5457" y="14064"/>
                </a:moveTo>
                <a:cubicBezTo>
                  <a:pt x="5541" y="14047"/>
                  <a:pt x="5656" y="13980"/>
                  <a:pt x="5730" y="13940"/>
                </a:cubicBezTo>
                <a:cubicBezTo>
                  <a:pt x="5811" y="13896"/>
                  <a:pt x="5786" y="13891"/>
                  <a:pt x="5854" y="13891"/>
                </a:cubicBezTo>
              </a:path>
              <a:path w="1440" h="1042">
                <a:moveTo>
                  <a:pt x="6226" y="13767"/>
                </a:moveTo>
                <a:cubicBezTo>
                  <a:pt x="6159" y="13807"/>
                  <a:pt x="6137" y="13860"/>
                  <a:pt x="6127" y="13940"/>
                </a:cubicBezTo>
                <a:cubicBezTo>
                  <a:pt x="6246" y="13940"/>
                  <a:pt x="6309" y="13922"/>
                  <a:pt x="6375" y="13816"/>
                </a:cubicBezTo>
                <a:cubicBezTo>
                  <a:pt x="6406" y="13767"/>
                  <a:pt x="6284" y="13791"/>
                  <a:pt x="6226" y="137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87760" y="4438800"/>
            <a:ext cx="401400" cy="606240"/>
          </a:xfrm>
          <a:custGeom>
            <a:avLst/>
            <a:gdLst/>
            <a:ahLst/>
            <a:rect l="l" t="t" r="r" b="b"/>
            <a:pathLst>
              <a:path w="1117" h="1688">
                <a:moveTo>
                  <a:pt x="7491" y="13345"/>
                </a:moveTo>
                <a:cubicBezTo>
                  <a:pt x="7455" y="13471"/>
                  <a:pt x="7528" y="13665"/>
                  <a:pt x="7516" y="13816"/>
                </a:cubicBezTo>
                <a:cubicBezTo>
                  <a:pt x="7506" y="13950"/>
                  <a:pt x="7496" y="13915"/>
                  <a:pt x="7516" y="14015"/>
                </a:cubicBezTo>
              </a:path>
              <a:path w="1117" h="1688">
                <a:moveTo>
                  <a:pt x="7863" y="13271"/>
                </a:moveTo>
                <a:cubicBezTo>
                  <a:pt x="7863" y="13337"/>
                  <a:pt x="7863" y="13403"/>
                  <a:pt x="7863" y="13469"/>
                </a:cubicBezTo>
                <a:cubicBezTo>
                  <a:pt x="7943" y="13453"/>
                  <a:pt x="8024" y="13399"/>
                  <a:pt x="8111" y="13419"/>
                </a:cubicBezTo>
                <a:cubicBezTo>
                  <a:pt x="8253" y="13451"/>
                  <a:pt x="8101" y="13694"/>
                  <a:pt x="8062" y="13742"/>
                </a:cubicBezTo>
                <a:cubicBezTo>
                  <a:pt x="7944" y="13885"/>
                  <a:pt x="7922" y="13822"/>
                  <a:pt x="7913" y="13692"/>
                </a:cubicBezTo>
              </a:path>
              <a:path w="1117" h="1688">
                <a:moveTo>
                  <a:pt x="7863" y="13246"/>
                </a:moveTo>
                <a:cubicBezTo>
                  <a:pt x="7885" y="13190"/>
                  <a:pt x="7953" y="13104"/>
                  <a:pt x="8012" y="13072"/>
                </a:cubicBezTo>
                <a:cubicBezTo>
                  <a:pt x="8040" y="13072"/>
                  <a:pt x="8051" y="13070"/>
                  <a:pt x="8062" y="13047"/>
                </a:cubicBezTo>
              </a:path>
              <a:path w="1117" h="1688">
                <a:moveTo>
                  <a:pt x="8235" y="12998"/>
                </a:moveTo>
                <a:cubicBezTo>
                  <a:pt x="8235" y="13064"/>
                  <a:pt x="8235" y="13130"/>
                  <a:pt x="8235" y="13196"/>
                </a:cubicBezTo>
                <a:cubicBezTo>
                  <a:pt x="8341" y="13184"/>
                  <a:pt x="8427" y="13130"/>
                  <a:pt x="8533" y="13171"/>
                </a:cubicBezTo>
                <a:cubicBezTo>
                  <a:pt x="8630" y="13209"/>
                  <a:pt x="8498" y="13457"/>
                  <a:pt x="8458" y="13494"/>
                </a:cubicBezTo>
                <a:cubicBezTo>
                  <a:pt x="8352" y="13592"/>
                  <a:pt x="8332" y="13568"/>
                  <a:pt x="8285" y="13494"/>
                </a:cubicBezTo>
              </a:path>
              <a:path w="1117" h="1688">
                <a:moveTo>
                  <a:pt x="8210" y="12948"/>
                </a:moveTo>
                <a:cubicBezTo>
                  <a:pt x="8253" y="12871"/>
                  <a:pt x="8296" y="12812"/>
                  <a:pt x="8359" y="12750"/>
                </a:cubicBezTo>
              </a:path>
              <a:path w="1117" h="1688">
                <a:moveTo>
                  <a:pt x="8483" y="12328"/>
                </a:moveTo>
                <a:cubicBezTo>
                  <a:pt x="8457" y="12406"/>
                  <a:pt x="8457" y="12424"/>
                  <a:pt x="8483" y="12502"/>
                </a:cubicBezTo>
                <a:cubicBezTo>
                  <a:pt x="8565" y="12486"/>
                  <a:pt x="8576" y="12459"/>
                  <a:pt x="8582" y="12378"/>
                </a:cubicBezTo>
                <a:cubicBezTo>
                  <a:pt x="8582" y="12353"/>
                  <a:pt x="8582" y="12345"/>
                  <a:pt x="8558" y="123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1760" y="2776680"/>
            <a:ext cx="938160" cy="1233360"/>
          </a:xfrm>
          <a:custGeom>
            <a:avLst/>
            <a:gdLst/>
            <a:ahLst/>
            <a:rect l="l" t="t" r="r" b="b"/>
            <a:pathLst>
              <a:path w="2606" h="3424">
                <a:moveTo>
                  <a:pt x="1984" y="8285"/>
                </a:moveTo>
                <a:cubicBezTo>
                  <a:pt x="1902" y="8519"/>
                  <a:pt x="1810" y="8752"/>
                  <a:pt x="1712" y="8979"/>
                </a:cubicBezTo>
                <a:cubicBezTo>
                  <a:pt x="1695" y="9012"/>
                  <a:pt x="1679" y="9046"/>
                  <a:pt x="1662" y="9079"/>
                </a:cubicBezTo>
              </a:path>
              <a:path w="2606" h="3424">
                <a:moveTo>
                  <a:pt x="2505" y="8285"/>
                </a:moveTo>
                <a:cubicBezTo>
                  <a:pt x="2413" y="8359"/>
                  <a:pt x="2352" y="8415"/>
                  <a:pt x="2282" y="8508"/>
                </a:cubicBezTo>
                <a:cubicBezTo>
                  <a:pt x="2399" y="8638"/>
                  <a:pt x="2547" y="8713"/>
                  <a:pt x="2654" y="8855"/>
                </a:cubicBezTo>
                <a:cubicBezTo>
                  <a:pt x="2613" y="8917"/>
                  <a:pt x="2330" y="9154"/>
                  <a:pt x="2257" y="8954"/>
                </a:cubicBezTo>
                <a:cubicBezTo>
                  <a:pt x="2193" y="8780"/>
                  <a:pt x="2432" y="8570"/>
                  <a:pt x="2530" y="8458"/>
                </a:cubicBezTo>
              </a:path>
              <a:path w="2606" h="3424">
                <a:moveTo>
                  <a:pt x="3076" y="8359"/>
                </a:moveTo>
                <a:cubicBezTo>
                  <a:pt x="2956" y="8494"/>
                  <a:pt x="2780" y="8656"/>
                  <a:pt x="2853" y="8855"/>
                </a:cubicBezTo>
                <a:cubicBezTo>
                  <a:pt x="2939" y="9091"/>
                  <a:pt x="3272" y="8949"/>
                  <a:pt x="3373" y="8806"/>
                </a:cubicBezTo>
                <a:cubicBezTo>
                  <a:pt x="3524" y="8591"/>
                  <a:pt x="3450" y="8301"/>
                  <a:pt x="3175" y="8285"/>
                </a:cubicBezTo>
                <a:cubicBezTo>
                  <a:pt x="3125" y="8293"/>
                  <a:pt x="3076" y="8302"/>
                  <a:pt x="3026" y="8310"/>
                </a:cubicBezTo>
              </a:path>
              <a:path w="2606" h="3424">
                <a:moveTo>
                  <a:pt x="3597" y="7987"/>
                </a:moveTo>
                <a:cubicBezTo>
                  <a:pt x="3587" y="8055"/>
                  <a:pt x="3544" y="8137"/>
                  <a:pt x="3671" y="8111"/>
                </a:cubicBezTo>
                <a:cubicBezTo>
                  <a:pt x="3838" y="8077"/>
                  <a:pt x="3582" y="7990"/>
                  <a:pt x="3572" y="7987"/>
                </a:cubicBezTo>
              </a:path>
              <a:path w="2606" h="3424">
                <a:moveTo>
                  <a:pt x="1116" y="9723"/>
                </a:moveTo>
                <a:cubicBezTo>
                  <a:pt x="1252" y="9704"/>
                  <a:pt x="1327" y="9651"/>
                  <a:pt x="1439" y="9575"/>
                </a:cubicBezTo>
              </a:path>
              <a:path w="2606" h="3424">
                <a:moveTo>
                  <a:pt x="2332" y="9277"/>
                </a:moveTo>
                <a:cubicBezTo>
                  <a:pt x="2346" y="9234"/>
                  <a:pt x="2439" y="9169"/>
                  <a:pt x="2505" y="9178"/>
                </a:cubicBezTo>
                <a:cubicBezTo>
                  <a:pt x="2668" y="9201"/>
                  <a:pt x="2715" y="9423"/>
                  <a:pt x="2654" y="9550"/>
                </a:cubicBezTo>
                <a:cubicBezTo>
                  <a:pt x="2591" y="9613"/>
                  <a:pt x="2581" y="9630"/>
                  <a:pt x="2530" y="9649"/>
                </a:cubicBezTo>
                <a:cubicBezTo>
                  <a:pt x="2507" y="9571"/>
                  <a:pt x="2456" y="9481"/>
                  <a:pt x="2555" y="9475"/>
                </a:cubicBezTo>
                <a:cubicBezTo>
                  <a:pt x="2695" y="9466"/>
                  <a:pt x="2716" y="9553"/>
                  <a:pt x="2778" y="9649"/>
                </a:cubicBezTo>
                <a:cubicBezTo>
                  <a:pt x="2786" y="9657"/>
                  <a:pt x="2795" y="9666"/>
                  <a:pt x="2803" y="9674"/>
                </a:cubicBezTo>
              </a:path>
              <a:path w="2606" h="3424">
                <a:moveTo>
                  <a:pt x="2977" y="9128"/>
                </a:moveTo>
                <a:cubicBezTo>
                  <a:pt x="2957" y="9189"/>
                  <a:pt x="2947" y="9241"/>
                  <a:pt x="2927" y="9302"/>
                </a:cubicBezTo>
                <a:cubicBezTo>
                  <a:pt x="3016" y="9302"/>
                  <a:pt x="3078" y="9267"/>
                  <a:pt x="3175" y="9277"/>
                </a:cubicBezTo>
                <a:cubicBezTo>
                  <a:pt x="3288" y="9289"/>
                  <a:pt x="3434" y="9452"/>
                  <a:pt x="3299" y="9550"/>
                </a:cubicBezTo>
                <a:cubicBezTo>
                  <a:pt x="3200" y="9575"/>
                  <a:pt x="3167" y="9583"/>
                  <a:pt x="3101" y="9550"/>
                </a:cubicBezTo>
              </a:path>
              <a:path w="2606" h="3424">
                <a:moveTo>
                  <a:pt x="2977" y="9079"/>
                </a:moveTo>
                <a:cubicBezTo>
                  <a:pt x="3047" y="9035"/>
                  <a:pt x="3270" y="8835"/>
                  <a:pt x="3373" y="8905"/>
                </a:cubicBezTo>
                <a:cubicBezTo>
                  <a:pt x="3373" y="8921"/>
                  <a:pt x="3373" y="8938"/>
                  <a:pt x="3373" y="8954"/>
                </a:cubicBezTo>
              </a:path>
              <a:path w="2606" h="3424">
                <a:moveTo>
                  <a:pt x="1141" y="10815"/>
                </a:moveTo>
                <a:cubicBezTo>
                  <a:pt x="1262" y="10731"/>
                  <a:pt x="1394" y="10660"/>
                  <a:pt x="1538" y="10592"/>
                </a:cubicBezTo>
                <a:cubicBezTo>
                  <a:pt x="1976" y="10387"/>
                  <a:pt x="2413" y="10209"/>
                  <a:pt x="2877" y="10071"/>
                </a:cubicBezTo>
                <a:cubicBezTo>
                  <a:pt x="3074" y="10012"/>
                  <a:pt x="3273" y="9940"/>
                  <a:pt x="3473" y="9897"/>
                </a:cubicBezTo>
                <a:cubicBezTo>
                  <a:pt x="3481" y="9897"/>
                  <a:pt x="3489" y="9897"/>
                  <a:pt x="3497" y="9897"/>
                </a:cubicBezTo>
              </a:path>
              <a:path w="2606" h="3424">
                <a:moveTo>
                  <a:pt x="2356" y="8582"/>
                </a:moveTo>
                <a:cubicBezTo>
                  <a:pt x="2526" y="8735"/>
                  <a:pt x="2678" y="8883"/>
                  <a:pt x="2828" y="9054"/>
                </a:cubicBezTo>
              </a:path>
              <a:path w="2606" h="3424">
                <a:moveTo>
                  <a:pt x="1984" y="7838"/>
                </a:moveTo>
                <a:cubicBezTo>
                  <a:pt x="2013" y="7881"/>
                  <a:pt x="2192" y="7876"/>
                  <a:pt x="2257" y="7863"/>
                </a:cubicBezTo>
                <a:cubicBezTo>
                  <a:pt x="2381" y="7837"/>
                  <a:pt x="2452" y="7776"/>
                  <a:pt x="2555" y="7714"/>
                </a:cubicBezTo>
                <a:cubicBezTo>
                  <a:pt x="2566" y="7897"/>
                  <a:pt x="2597" y="8076"/>
                  <a:pt x="2604" y="8260"/>
                </a:cubicBezTo>
                <a:cubicBezTo>
                  <a:pt x="2604" y="8268"/>
                  <a:pt x="2604" y="8277"/>
                  <a:pt x="2604" y="8285"/>
                </a:cubicBezTo>
              </a:path>
              <a:path w="2606" h="3424">
                <a:moveTo>
                  <a:pt x="2952" y="7838"/>
                </a:moveTo>
                <a:cubicBezTo>
                  <a:pt x="3017" y="7978"/>
                  <a:pt x="3058" y="8112"/>
                  <a:pt x="3101" y="8260"/>
                </a:cubicBezTo>
              </a:path>
              <a:path w="2606" h="3424">
                <a:moveTo>
                  <a:pt x="3026" y="10145"/>
                </a:moveTo>
                <a:cubicBezTo>
                  <a:pt x="3040" y="10236"/>
                  <a:pt x="3067" y="10305"/>
                  <a:pt x="3101" y="10393"/>
                </a:cubicBezTo>
                <a:cubicBezTo>
                  <a:pt x="3191" y="10375"/>
                  <a:pt x="3250" y="10294"/>
                  <a:pt x="3349" y="10294"/>
                </a:cubicBezTo>
                <a:cubicBezTo>
                  <a:pt x="3470" y="10294"/>
                  <a:pt x="3555" y="10409"/>
                  <a:pt x="3497" y="10517"/>
                </a:cubicBezTo>
                <a:cubicBezTo>
                  <a:pt x="3435" y="10632"/>
                  <a:pt x="3276" y="10605"/>
                  <a:pt x="3200" y="10567"/>
                </a:cubicBezTo>
              </a:path>
              <a:path w="2606" h="3424">
                <a:moveTo>
                  <a:pt x="2977" y="10195"/>
                </a:moveTo>
                <a:cubicBezTo>
                  <a:pt x="3061" y="10110"/>
                  <a:pt x="3146" y="10033"/>
                  <a:pt x="3249" y="9971"/>
                </a:cubicBezTo>
                <a:cubicBezTo>
                  <a:pt x="3266" y="9963"/>
                  <a:pt x="3282" y="9955"/>
                  <a:pt x="3299" y="9947"/>
                </a:cubicBezTo>
              </a:path>
              <a:path w="2606" h="3424">
                <a:moveTo>
                  <a:pt x="2679" y="10319"/>
                </a:moveTo>
                <a:cubicBezTo>
                  <a:pt x="2636" y="10328"/>
                  <a:pt x="2532" y="10353"/>
                  <a:pt x="2530" y="10393"/>
                </a:cubicBezTo>
                <a:cubicBezTo>
                  <a:pt x="2526" y="10459"/>
                  <a:pt x="2545" y="10505"/>
                  <a:pt x="2555" y="10567"/>
                </a:cubicBezTo>
                <a:cubicBezTo>
                  <a:pt x="2615" y="10555"/>
                  <a:pt x="2714" y="10483"/>
                  <a:pt x="2778" y="10517"/>
                </a:cubicBezTo>
                <a:cubicBezTo>
                  <a:pt x="2879" y="10571"/>
                  <a:pt x="2771" y="10793"/>
                  <a:pt x="2729" y="10840"/>
                </a:cubicBezTo>
                <a:cubicBezTo>
                  <a:pt x="2644" y="10935"/>
                  <a:pt x="2511" y="10873"/>
                  <a:pt x="2406" y="10864"/>
                </a:cubicBezTo>
              </a:path>
              <a:path w="2606" h="3424">
                <a:moveTo>
                  <a:pt x="2059" y="10592"/>
                </a:moveTo>
                <a:cubicBezTo>
                  <a:pt x="2196" y="10574"/>
                  <a:pt x="2276" y="10760"/>
                  <a:pt x="2332" y="10889"/>
                </a:cubicBezTo>
                <a:cubicBezTo>
                  <a:pt x="2372" y="10981"/>
                  <a:pt x="2368" y="11062"/>
                  <a:pt x="2406" y="111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0040" y="3616200"/>
            <a:ext cx="455760" cy="642960"/>
          </a:xfrm>
          <a:custGeom>
            <a:avLst/>
            <a:gdLst/>
            <a:ahLst/>
            <a:rect l="l" t="t" r="r" b="b"/>
            <a:pathLst>
              <a:path w="1267" h="1787">
                <a:moveTo>
                  <a:pt x="4638" y="11112"/>
                </a:moveTo>
                <a:lnTo>
                  <a:pt x="4663" y="11112"/>
                </a:lnTo>
                <a:lnTo>
                  <a:pt x="4663" y="11162"/>
                </a:lnTo>
                <a:lnTo>
                  <a:pt x="4738" y="11286"/>
                </a:lnTo>
                <a:lnTo>
                  <a:pt x="4787" y="11460"/>
                </a:lnTo>
                <a:lnTo>
                  <a:pt x="4812" y="11633"/>
                </a:lnTo>
                <a:lnTo>
                  <a:pt x="4837" y="11757"/>
                </a:lnTo>
                <a:lnTo>
                  <a:pt x="4837" y="11832"/>
                </a:lnTo>
                <a:lnTo>
                  <a:pt x="4837" y="11832"/>
                </a:lnTo>
                <a:lnTo>
                  <a:pt x="4837" y="11807"/>
                </a:lnTo>
              </a:path>
              <a:path w="1267" h="1787">
                <a:moveTo>
                  <a:pt x="5011" y="10790"/>
                </a:moveTo>
                <a:cubicBezTo>
                  <a:pt x="5024" y="10868"/>
                  <a:pt x="5026" y="10966"/>
                  <a:pt x="5060" y="11038"/>
                </a:cubicBezTo>
                <a:cubicBezTo>
                  <a:pt x="5068" y="11046"/>
                  <a:pt x="5077" y="11055"/>
                  <a:pt x="5085" y="11063"/>
                </a:cubicBezTo>
                <a:cubicBezTo>
                  <a:pt x="5155" y="11024"/>
                  <a:pt x="5276" y="10927"/>
                  <a:pt x="5358" y="11013"/>
                </a:cubicBezTo>
                <a:cubicBezTo>
                  <a:pt x="5483" y="11144"/>
                  <a:pt x="5352" y="11339"/>
                  <a:pt x="5283" y="11460"/>
                </a:cubicBezTo>
                <a:cubicBezTo>
                  <a:pt x="5149" y="11415"/>
                  <a:pt x="5170" y="11378"/>
                  <a:pt x="5110" y="11237"/>
                </a:cubicBezTo>
              </a:path>
              <a:path w="1267" h="1787">
                <a:moveTo>
                  <a:pt x="4986" y="10790"/>
                </a:moveTo>
                <a:cubicBezTo>
                  <a:pt x="5056" y="10704"/>
                  <a:pt x="5142" y="10610"/>
                  <a:pt x="5234" y="10542"/>
                </a:cubicBezTo>
                <a:cubicBezTo>
                  <a:pt x="5277" y="10520"/>
                  <a:pt x="5289" y="10516"/>
                  <a:pt x="5308" y="10492"/>
                </a:cubicBezTo>
              </a:path>
              <a:path w="1267" h="1787">
                <a:moveTo>
                  <a:pt x="5358" y="10443"/>
                </a:moveTo>
                <a:cubicBezTo>
                  <a:pt x="5400" y="10517"/>
                  <a:pt x="5414" y="10608"/>
                  <a:pt x="5432" y="10691"/>
                </a:cubicBezTo>
                <a:cubicBezTo>
                  <a:pt x="5432" y="10699"/>
                  <a:pt x="5432" y="10708"/>
                  <a:pt x="5432" y="10716"/>
                </a:cubicBezTo>
                <a:cubicBezTo>
                  <a:pt x="5530" y="10683"/>
                  <a:pt x="5612" y="10585"/>
                  <a:pt x="5730" y="10616"/>
                </a:cubicBezTo>
                <a:cubicBezTo>
                  <a:pt x="5907" y="10662"/>
                  <a:pt x="5790" y="10899"/>
                  <a:pt x="5730" y="10988"/>
                </a:cubicBezTo>
                <a:cubicBezTo>
                  <a:pt x="5602" y="11177"/>
                  <a:pt x="5590" y="11082"/>
                  <a:pt x="5531" y="10914"/>
                </a:cubicBezTo>
              </a:path>
              <a:path w="1267" h="1787">
                <a:moveTo>
                  <a:pt x="5383" y="10393"/>
                </a:moveTo>
                <a:cubicBezTo>
                  <a:pt x="5419" y="10333"/>
                  <a:pt x="5467" y="10324"/>
                  <a:pt x="5531" y="10294"/>
                </a:cubicBezTo>
                <a:cubicBezTo>
                  <a:pt x="5548" y="10286"/>
                  <a:pt x="5564" y="10277"/>
                  <a:pt x="5581" y="10269"/>
                </a:cubicBezTo>
              </a:path>
              <a:path w="1267" h="1787">
                <a:moveTo>
                  <a:pt x="5755" y="10071"/>
                </a:moveTo>
                <a:cubicBezTo>
                  <a:pt x="5701" y="10151"/>
                  <a:pt x="5705" y="10166"/>
                  <a:pt x="5705" y="10269"/>
                </a:cubicBezTo>
                <a:cubicBezTo>
                  <a:pt x="5816" y="10250"/>
                  <a:pt x="5898" y="10197"/>
                  <a:pt x="5904" y="10071"/>
                </a:cubicBezTo>
                <a:cubicBezTo>
                  <a:pt x="5908" y="10001"/>
                  <a:pt x="5768" y="10087"/>
                  <a:pt x="5755" y="100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31840" y="304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tical Angle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31720" y="304920"/>
            <a:ext cx="39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opposite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intersecting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be eq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910440" y="3306600"/>
            <a:ext cx="3284280" cy="1920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60240" y="3008880"/>
            <a:ext cx="5400" cy="3181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3760" y="2101680"/>
            <a:ext cx="64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missing angles a, b and 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76760" y="4419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90720" y="3701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76880" y="4159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92440" y="337644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12720" y="45720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missing 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342900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914400" y="1294920"/>
            <a:ext cx="21337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1295280"/>
            <a:ext cx="213336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57200" y="2787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6960" y="27874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65600" y="1371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65240" y="28796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27760" y="289548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87880" y="3000240"/>
            <a:ext cx="1554120" cy="438120"/>
          </a:xfrm>
          <a:custGeom>
            <a:avLst/>
            <a:gdLst/>
            <a:ahLst/>
            <a:rect l="l" t="t" r="r" b="b"/>
            <a:pathLst>
              <a:path w="4317" h="1217">
                <a:moveTo>
                  <a:pt x="12750" y="9475"/>
                </a:moveTo>
                <a:cubicBezTo>
                  <a:pt x="12733" y="9504"/>
                  <a:pt x="12693" y="9558"/>
                  <a:pt x="12725" y="9550"/>
                </a:cubicBezTo>
                <a:cubicBezTo>
                  <a:pt x="12757" y="9542"/>
                  <a:pt x="12738" y="9506"/>
                  <a:pt x="12750" y="9475"/>
                </a:cubicBezTo>
                <a:cubicBezTo>
                  <a:pt x="12764" y="9438"/>
                  <a:pt x="12788" y="9418"/>
                  <a:pt x="12799" y="9401"/>
                </a:cubicBezTo>
                <a:cubicBezTo>
                  <a:pt x="12812" y="9382"/>
                  <a:pt x="12812" y="9316"/>
                  <a:pt x="12824" y="9302"/>
                </a:cubicBezTo>
                <a:cubicBezTo>
                  <a:pt x="12852" y="9271"/>
                  <a:pt x="12882" y="9272"/>
                  <a:pt x="12898" y="9252"/>
                </a:cubicBezTo>
                <a:cubicBezTo>
                  <a:pt x="12924" y="9220"/>
                  <a:pt x="12929" y="9202"/>
                  <a:pt x="12973" y="9178"/>
                </a:cubicBezTo>
                <a:cubicBezTo>
                  <a:pt x="13009" y="9158"/>
                  <a:pt x="13083" y="9110"/>
                  <a:pt x="13097" y="9103"/>
                </a:cubicBezTo>
                <a:cubicBezTo>
                  <a:pt x="13134" y="9085"/>
                  <a:pt x="13186" y="9071"/>
                  <a:pt x="13221" y="9054"/>
                </a:cubicBezTo>
                <a:cubicBezTo>
                  <a:pt x="13271" y="9030"/>
                  <a:pt x="13313" y="9004"/>
                  <a:pt x="13370" y="8979"/>
                </a:cubicBezTo>
                <a:cubicBezTo>
                  <a:pt x="13412" y="8960"/>
                  <a:pt x="13473" y="8945"/>
                  <a:pt x="13519" y="8930"/>
                </a:cubicBezTo>
                <a:cubicBezTo>
                  <a:pt x="13552" y="8919"/>
                  <a:pt x="13614" y="8885"/>
                  <a:pt x="13643" y="8880"/>
                </a:cubicBezTo>
                <a:cubicBezTo>
                  <a:pt x="13701" y="8870"/>
                  <a:pt x="13758" y="8860"/>
                  <a:pt x="13816" y="8855"/>
                </a:cubicBezTo>
                <a:cubicBezTo>
                  <a:pt x="13875" y="8850"/>
                  <a:pt x="13915" y="8836"/>
                  <a:pt x="13965" y="8830"/>
                </a:cubicBezTo>
                <a:cubicBezTo>
                  <a:pt x="14070" y="8817"/>
                  <a:pt x="14174" y="8845"/>
                  <a:pt x="14263" y="8855"/>
                </a:cubicBezTo>
                <a:cubicBezTo>
                  <a:pt x="14329" y="8862"/>
                  <a:pt x="14372" y="8863"/>
                  <a:pt x="14436" y="8880"/>
                </a:cubicBezTo>
                <a:cubicBezTo>
                  <a:pt x="14509" y="8900"/>
                  <a:pt x="14587" y="8939"/>
                  <a:pt x="14660" y="8954"/>
                </a:cubicBezTo>
                <a:cubicBezTo>
                  <a:pt x="14705" y="8963"/>
                  <a:pt x="14745" y="8974"/>
                  <a:pt x="14784" y="8979"/>
                </a:cubicBezTo>
                <a:cubicBezTo>
                  <a:pt x="14830" y="8985"/>
                  <a:pt x="14898" y="9000"/>
                  <a:pt x="14932" y="9004"/>
                </a:cubicBezTo>
                <a:cubicBezTo>
                  <a:pt x="14975" y="9009"/>
                  <a:pt x="15025" y="9025"/>
                  <a:pt x="15056" y="9029"/>
                </a:cubicBezTo>
                <a:cubicBezTo>
                  <a:pt x="15113" y="9036"/>
                  <a:pt x="15131" y="9038"/>
                  <a:pt x="15180" y="9054"/>
                </a:cubicBezTo>
                <a:cubicBezTo>
                  <a:pt x="15224" y="9069"/>
                  <a:pt x="15265" y="9090"/>
                  <a:pt x="15304" y="9103"/>
                </a:cubicBezTo>
                <a:cubicBezTo>
                  <a:pt x="15339" y="9114"/>
                  <a:pt x="15373" y="9110"/>
                  <a:pt x="15404" y="9128"/>
                </a:cubicBezTo>
                <a:cubicBezTo>
                  <a:pt x="15447" y="9153"/>
                  <a:pt x="15488" y="9178"/>
                  <a:pt x="15528" y="9203"/>
                </a:cubicBezTo>
                <a:cubicBezTo>
                  <a:pt x="15564" y="9225"/>
                  <a:pt x="15590" y="9237"/>
                  <a:pt x="15627" y="9252"/>
                </a:cubicBezTo>
                <a:cubicBezTo>
                  <a:pt x="15702" y="9283"/>
                  <a:pt x="15687" y="9287"/>
                  <a:pt x="15751" y="9327"/>
                </a:cubicBezTo>
                <a:cubicBezTo>
                  <a:pt x="15787" y="9350"/>
                  <a:pt x="15821" y="9363"/>
                  <a:pt x="15850" y="9401"/>
                </a:cubicBezTo>
                <a:cubicBezTo>
                  <a:pt x="15867" y="9423"/>
                  <a:pt x="15880" y="9439"/>
                  <a:pt x="15900" y="9475"/>
                </a:cubicBezTo>
                <a:cubicBezTo>
                  <a:pt x="15919" y="9508"/>
                  <a:pt x="15919" y="9504"/>
                  <a:pt x="15949" y="9525"/>
                </a:cubicBezTo>
              </a:path>
              <a:path w="4317" h="1217">
                <a:moveTo>
                  <a:pt x="14188" y="9029"/>
                </a:moveTo>
                <a:cubicBezTo>
                  <a:pt x="14138" y="9029"/>
                  <a:pt x="14089" y="9029"/>
                  <a:pt x="14039" y="9029"/>
                </a:cubicBezTo>
                <a:cubicBezTo>
                  <a:pt x="14147" y="9051"/>
                  <a:pt x="14247" y="9042"/>
                  <a:pt x="14362" y="9054"/>
                </a:cubicBezTo>
                <a:cubicBezTo>
                  <a:pt x="14440" y="9062"/>
                  <a:pt x="14544" y="9087"/>
                  <a:pt x="14585" y="9128"/>
                </a:cubicBezTo>
                <a:cubicBezTo>
                  <a:pt x="14483" y="9160"/>
                  <a:pt x="14385" y="9206"/>
                  <a:pt x="14288" y="9227"/>
                </a:cubicBezTo>
                <a:cubicBezTo>
                  <a:pt x="14388" y="9241"/>
                  <a:pt x="14477" y="9230"/>
                  <a:pt x="14585" y="9227"/>
                </a:cubicBezTo>
                <a:cubicBezTo>
                  <a:pt x="14722" y="9223"/>
                  <a:pt x="14738" y="9217"/>
                  <a:pt x="14635" y="9277"/>
                </a:cubicBezTo>
                <a:cubicBezTo>
                  <a:pt x="14570" y="9320"/>
                  <a:pt x="14556" y="9332"/>
                  <a:pt x="14511" y="9351"/>
                </a:cubicBezTo>
                <a:cubicBezTo>
                  <a:pt x="14503" y="9359"/>
                  <a:pt x="14494" y="9368"/>
                  <a:pt x="14486" y="9376"/>
                </a:cubicBezTo>
                <a:cubicBezTo>
                  <a:pt x="14587" y="9332"/>
                  <a:pt x="14720" y="9352"/>
                  <a:pt x="14833" y="9327"/>
                </a:cubicBezTo>
                <a:cubicBezTo>
                  <a:pt x="14893" y="9314"/>
                  <a:pt x="14945" y="9310"/>
                  <a:pt x="14858" y="9351"/>
                </a:cubicBezTo>
                <a:cubicBezTo>
                  <a:pt x="14791" y="9374"/>
                  <a:pt x="14773" y="9379"/>
                  <a:pt x="14734" y="9401"/>
                </a:cubicBezTo>
                <a:cubicBezTo>
                  <a:pt x="14821" y="9401"/>
                  <a:pt x="14897" y="9384"/>
                  <a:pt x="14982" y="9376"/>
                </a:cubicBezTo>
                <a:cubicBezTo>
                  <a:pt x="15147" y="9360"/>
                  <a:pt x="14974" y="9423"/>
                  <a:pt x="14932" y="9451"/>
                </a:cubicBezTo>
                <a:cubicBezTo>
                  <a:pt x="15001" y="9451"/>
                  <a:pt x="15061" y="9429"/>
                  <a:pt x="15131" y="9426"/>
                </a:cubicBezTo>
                <a:cubicBezTo>
                  <a:pt x="15181" y="9424"/>
                  <a:pt x="15217" y="9412"/>
                  <a:pt x="15230" y="9451"/>
                </a:cubicBezTo>
              </a:path>
              <a:path w="4317" h="1217">
                <a:moveTo>
                  <a:pt x="11757" y="8409"/>
                </a:moveTo>
                <a:cubicBezTo>
                  <a:pt x="11739" y="8520"/>
                  <a:pt x="11673" y="8602"/>
                  <a:pt x="11633" y="8706"/>
                </a:cubicBezTo>
                <a:cubicBezTo>
                  <a:pt x="11633" y="8714"/>
                  <a:pt x="11633" y="8723"/>
                  <a:pt x="11633" y="8731"/>
                </a:cubicBezTo>
                <a:cubicBezTo>
                  <a:pt x="11744" y="8805"/>
                  <a:pt x="11853" y="8786"/>
                  <a:pt x="11981" y="8756"/>
                </a:cubicBezTo>
                <a:cubicBezTo>
                  <a:pt x="12023" y="8746"/>
                  <a:pt x="12098" y="8731"/>
                  <a:pt x="12055" y="8731"/>
                </a:cubicBezTo>
              </a:path>
              <a:path w="4317" h="1217">
                <a:moveTo>
                  <a:pt x="12030" y="8409"/>
                </a:moveTo>
                <a:cubicBezTo>
                  <a:pt x="12030" y="8524"/>
                  <a:pt x="12035" y="8614"/>
                  <a:pt x="12030" y="8731"/>
                </a:cubicBezTo>
                <a:cubicBezTo>
                  <a:pt x="12024" y="8867"/>
                  <a:pt x="11990" y="8994"/>
                  <a:pt x="11981" y="9128"/>
                </a:cubicBezTo>
                <a:cubicBezTo>
                  <a:pt x="11981" y="9136"/>
                  <a:pt x="11981" y="9145"/>
                  <a:pt x="11981" y="9153"/>
                </a:cubicBezTo>
              </a:path>
              <a:path w="4317" h="1217">
                <a:moveTo>
                  <a:pt x="12526" y="8434"/>
                </a:moveTo>
                <a:cubicBezTo>
                  <a:pt x="12409" y="8434"/>
                  <a:pt x="12358" y="8432"/>
                  <a:pt x="12278" y="8533"/>
                </a:cubicBezTo>
                <a:cubicBezTo>
                  <a:pt x="12198" y="8633"/>
                  <a:pt x="12350" y="8717"/>
                  <a:pt x="12402" y="8781"/>
                </a:cubicBezTo>
                <a:cubicBezTo>
                  <a:pt x="12463" y="8856"/>
                  <a:pt x="12523" y="8955"/>
                  <a:pt x="12402" y="9004"/>
                </a:cubicBezTo>
                <a:cubicBezTo>
                  <a:pt x="12318" y="9025"/>
                  <a:pt x="12299" y="9041"/>
                  <a:pt x="12254" y="9004"/>
                </a:cubicBezTo>
                <a:cubicBezTo>
                  <a:pt x="12279" y="8839"/>
                  <a:pt x="12375" y="8751"/>
                  <a:pt x="12452" y="8607"/>
                </a:cubicBezTo>
                <a:cubicBezTo>
                  <a:pt x="12481" y="8554"/>
                  <a:pt x="12477" y="8513"/>
                  <a:pt x="12477" y="8458"/>
                </a:cubicBezTo>
              </a:path>
              <a:path w="4317" h="1217">
                <a:moveTo>
                  <a:pt x="12725" y="8334"/>
                </a:moveTo>
                <a:cubicBezTo>
                  <a:pt x="12718" y="8379"/>
                  <a:pt x="12652" y="8460"/>
                  <a:pt x="12700" y="8483"/>
                </a:cubicBezTo>
                <a:cubicBezTo>
                  <a:pt x="12746" y="8506"/>
                  <a:pt x="12828" y="8453"/>
                  <a:pt x="12824" y="8409"/>
                </a:cubicBezTo>
                <a:cubicBezTo>
                  <a:pt x="12801" y="8386"/>
                  <a:pt x="12797" y="8378"/>
                  <a:pt x="12774" y="83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83240" y="588960"/>
            <a:ext cx="911160" cy="920880"/>
          </a:xfrm>
          <a:custGeom>
            <a:avLst/>
            <a:gdLst/>
            <a:ahLst/>
            <a:rect l="l" t="t" r="r" b="b"/>
            <a:pathLst>
              <a:path w="2531" h="2556">
                <a:moveTo>
                  <a:pt x="18430" y="2629"/>
                </a:moveTo>
                <a:cubicBezTo>
                  <a:pt x="18445" y="2583"/>
                  <a:pt x="18522" y="2627"/>
                  <a:pt x="18579" y="2629"/>
                </a:cubicBezTo>
                <a:cubicBezTo>
                  <a:pt x="18677" y="2632"/>
                  <a:pt x="18735" y="2648"/>
                  <a:pt x="18827" y="2679"/>
                </a:cubicBezTo>
              </a:path>
              <a:path w="2531" h="2556">
                <a:moveTo>
                  <a:pt x="19348" y="2406"/>
                </a:moveTo>
                <a:cubicBezTo>
                  <a:pt x="19206" y="2414"/>
                  <a:pt x="19181" y="2401"/>
                  <a:pt x="19100" y="2505"/>
                </a:cubicBezTo>
                <a:cubicBezTo>
                  <a:pt x="19198" y="2595"/>
                  <a:pt x="19345" y="2670"/>
                  <a:pt x="19422" y="2778"/>
                </a:cubicBezTo>
                <a:cubicBezTo>
                  <a:pt x="19422" y="2786"/>
                  <a:pt x="19422" y="2795"/>
                  <a:pt x="19422" y="2803"/>
                </a:cubicBezTo>
                <a:cubicBezTo>
                  <a:pt x="19353" y="2824"/>
                  <a:pt x="19131" y="2878"/>
                  <a:pt x="19149" y="2729"/>
                </a:cubicBezTo>
                <a:cubicBezTo>
                  <a:pt x="19162" y="2619"/>
                  <a:pt x="19360" y="2551"/>
                  <a:pt x="19422" y="2480"/>
                </a:cubicBezTo>
              </a:path>
              <a:path w="2531" h="2556">
                <a:moveTo>
                  <a:pt x="19943" y="2356"/>
                </a:moveTo>
                <a:cubicBezTo>
                  <a:pt x="19814" y="2396"/>
                  <a:pt x="19671" y="2429"/>
                  <a:pt x="19571" y="2530"/>
                </a:cubicBezTo>
                <a:cubicBezTo>
                  <a:pt x="19563" y="2547"/>
                  <a:pt x="19554" y="2563"/>
                  <a:pt x="19546" y="2580"/>
                </a:cubicBezTo>
                <a:cubicBezTo>
                  <a:pt x="19667" y="2683"/>
                  <a:pt x="19832" y="2724"/>
                  <a:pt x="19943" y="2828"/>
                </a:cubicBezTo>
                <a:cubicBezTo>
                  <a:pt x="19943" y="2863"/>
                  <a:pt x="19938" y="2880"/>
                  <a:pt x="19918" y="2902"/>
                </a:cubicBezTo>
                <a:cubicBezTo>
                  <a:pt x="19781" y="2913"/>
                  <a:pt x="19640" y="2859"/>
                  <a:pt x="19720" y="2679"/>
                </a:cubicBezTo>
                <a:cubicBezTo>
                  <a:pt x="19758" y="2592"/>
                  <a:pt x="19841" y="2551"/>
                  <a:pt x="19893" y="2480"/>
                </a:cubicBezTo>
              </a:path>
              <a:path w="2531" h="2556">
                <a:moveTo>
                  <a:pt x="18479" y="1712"/>
                </a:moveTo>
                <a:cubicBezTo>
                  <a:pt x="18479" y="1687"/>
                  <a:pt x="18479" y="1679"/>
                  <a:pt x="18504" y="1687"/>
                </a:cubicBezTo>
                <a:cubicBezTo>
                  <a:pt x="18434" y="1775"/>
                  <a:pt x="18414" y="1978"/>
                  <a:pt x="18380" y="2108"/>
                </a:cubicBezTo>
                <a:cubicBezTo>
                  <a:pt x="18364" y="2170"/>
                  <a:pt x="18355" y="2196"/>
                  <a:pt x="18355" y="2257"/>
                </a:cubicBezTo>
              </a:path>
              <a:path w="2531" h="2556">
                <a:moveTo>
                  <a:pt x="19174" y="1712"/>
                </a:moveTo>
                <a:cubicBezTo>
                  <a:pt x="19159" y="1652"/>
                  <a:pt x="19089" y="1646"/>
                  <a:pt x="19025" y="1637"/>
                </a:cubicBezTo>
                <a:cubicBezTo>
                  <a:pt x="18959" y="1627"/>
                  <a:pt x="18873" y="1659"/>
                  <a:pt x="18876" y="1736"/>
                </a:cubicBezTo>
                <a:cubicBezTo>
                  <a:pt x="18881" y="1859"/>
                  <a:pt x="18988" y="1949"/>
                  <a:pt x="19025" y="2059"/>
                </a:cubicBezTo>
                <a:cubicBezTo>
                  <a:pt x="19025" y="2094"/>
                  <a:pt x="19020" y="2111"/>
                  <a:pt x="19000" y="2133"/>
                </a:cubicBezTo>
                <a:cubicBezTo>
                  <a:pt x="18963" y="2133"/>
                  <a:pt x="18861" y="2154"/>
                  <a:pt x="18876" y="2084"/>
                </a:cubicBezTo>
                <a:cubicBezTo>
                  <a:pt x="18903" y="1955"/>
                  <a:pt x="18995" y="1837"/>
                  <a:pt x="19075" y="1736"/>
                </a:cubicBezTo>
                <a:cubicBezTo>
                  <a:pt x="19098" y="1714"/>
                  <a:pt x="19106" y="1709"/>
                  <a:pt x="19100" y="1687"/>
                </a:cubicBezTo>
              </a:path>
              <a:path w="2531" h="2556">
                <a:moveTo>
                  <a:pt x="19596" y="1662"/>
                </a:moveTo>
                <a:cubicBezTo>
                  <a:pt x="19464" y="1679"/>
                  <a:pt x="19406" y="1766"/>
                  <a:pt x="19348" y="1885"/>
                </a:cubicBezTo>
                <a:cubicBezTo>
                  <a:pt x="19292" y="2000"/>
                  <a:pt x="19287" y="2027"/>
                  <a:pt x="19323" y="2133"/>
                </a:cubicBezTo>
                <a:cubicBezTo>
                  <a:pt x="19476" y="2157"/>
                  <a:pt x="19627" y="2108"/>
                  <a:pt x="19720" y="1960"/>
                </a:cubicBezTo>
                <a:cubicBezTo>
                  <a:pt x="19828" y="1788"/>
                  <a:pt x="19671" y="1729"/>
                  <a:pt x="19546" y="1712"/>
                </a:cubicBezTo>
              </a:path>
              <a:path w="2531" h="2556">
                <a:moveTo>
                  <a:pt x="18008" y="3200"/>
                </a:moveTo>
                <a:cubicBezTo>
                  <a:pt x="18252" y="3145"/>
                  <a:pt x="18453" y="3154"/>
                  <a:pt x="18703" y="3175"/>
                </a:cubicBezTo>
                <a:cubicBezTo>
                  <a:pt x="19126" y="3210"/>
                  <a:pt x="19546" y="3278"/>
                  <a:pt x="19968" y="3324"/>
                </a:cubicBezTo>
                <a:cubicBezTo>
                  <a:pt x="20149" y="3344"/>
                  <a:pt x="20338" y="3350"/>
                  <a:pt x="20513" y="3373"/>
                </a:cubicBezTo>
                <a:cubicBezTo>
                  <a:pt x="20521" y="3373"/>
                  <a:pt x="20530" y="3373"/>
                  <a:pt x="20538" y="3373"/>
                </a:cubicBezTo>
              </a:path>
              <a:path w="2531" h="2556">
                <a:moveTo>
                  <a:pt x="19521" y="3721"/>
                </a:moveTo>
                <a:cubicBezTo>
                  <a:pt x="19586" y="3765"/>
                  <a:pt x="19483" y="3647"/>
                  <a:pt x="19422" y="3597"/>
                </a:cubicBezTo>
                <a:cubicBezTo>
                  <a:pt x="19299" y="3497"/>
                  <a:pt x="19225" y="3578"/>
                  <a:pt x="19149" y="3696"/>
                </a:cubicBezTo>
                <a:cubicBezTo>
                  <a:pt x="19105" y="3786"/>
                  <a:pt x="19085" y="3808"/>
                  <a:pt x="19124" y="3870"/>
                </a:cubicBezTo>
                <a:cubicBezTo>
                  <a:pt x="19247" y="3896"/>
                  <a:pt x="19341" y="3827"/>
                  <a:pt x="19422" y="3721"/>
                </a:cubicBezTo>
                <a:cubicBezTo>
                  <a:pt x="19422" y="3713"/>
                  <a:pt x="19422" y="3704"/>
                  <a:pt x="19422" y="3696"/>
                </a:cubicBezTo>
                <a:cubicBezTo>
                  <a:pt x="19453" y="3805"/>
                  <a:pt x="19408" y="3966"/>
                  <a:pt x="19397" y="4093"/>
                </a:cubicBezTo>
                <a:cubicBezTo>
                  <a:pt x="19395" y="4119"/>
                  <a:pt x="19402" y="4228"/>
                  <a:pt x="19372" y="4167"/>
                </a:cubicBezTo>
              </a:path>
              <a:path w="2531" h="2556">
                <a:moveTo>
                  <a:pt x="19745" y="3746"/>
                </a:moveTo>
                <a:cubicBezTo>
                  <a:pt x="19846" y="3708"/>
                  <a:pt x="19885" y="3696"/>
                  <a:pt x="19993" y="3696"/>
                </a:cubicBezTo>
                <a:cubicBezTo>
                  <a:pt x="19980" y="3882"/>
                  <a:pt x="19915" y="3975"/>
                  <a:pt x="19794" y="4118"/>
                </a:cubicBezTo>
                <a:cubicBezTo>
                  <a:pt x="19755" y="4157"/>
                  <a:pt x="19739" y="4158"/>
                  <a:pt x="19745" y="4192"/>
                </a:cubicBezTo>
                <a:cubicBezTo>
                  <a:pt x="19887" y="4176"/>
                  <a:pt x="20027" y="4144"/>
                  <a:pt x="20166" y="4118"/>
                </a:cubicBezTo>
                <a:cubicBezTo>
                  <a:pt x="20174" y="4118"/>
                  <a:pt x="20183" y="4118"/>
                  <a:pt x="20191" y="41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65960" y="1874880"/>
            <a:ext cx="1071360" cy="1287360"/>
          </a:xfrm>
          <a:custGeom>
            <a:avLst/>
            <a:gdLst/>
            <a:ahLst/>
            <a:rect l="l" t="t" r="r" b="b"/>
            <a:pathLst>
              <a:path w="2977" h="3573">
                <a:moveTo>
                  <a:pt x="18678" y="6127"/>
                </a:moveTo>
                <a:cubicBezTo>
                  <a:pt x="18678" y="6291"/>
                  <a:pt x="18650" y="6461"/>
                  <a:pt x="18628" y="6623"/>
                </a:cubicBezTo>
                <a:cubicBezTo>
                  <a:pt x="18618" y="6698"/>
                  <a:pt x="18503" y="6952"/>
                  <a:pt x="18628" y="6846"/>
                </a:cubicBezTo>
              </a:path>
              <a:path w="2977" h="3573">
                <a:moveTo>
                  <a:pt x="19248" y="6127"/>
                </a:moveTo>
                <a:cubicBezTo>
                  <a:pt x="19174" y="6136"/>
                  <a:pt x="18933" y="6165"/>
                  <a:pt x="18951" y="6300"/>
                </a:cubicBezTo>
                <a:cubicBezTo>
                  <a:pt x="18970" y="6446"/>
                  <a:pt x="19166" y="6507"/>
                  <a:pt x="19273" y="6573"/>
                </a:cubicBezTo>
                <a:cubicBezTo>
                  <a:pt x="19319" y="6619"/>
                  <a:pt x="19338" y="6631"/>
                  <a:pt x="19298" y="6672"/>
                </a:cubicBezTo>
                <a:cubicBezTo>
                  <a:pt x="19155" y="6726"/>
                  <a:pt x="18984" y="6748"/>
                  <a:pt x="19124" y="6524"/>
                </a:cubicBezTo>
                <a:cubicBezTo>
                  <a:pt x="19158" y="6469"/>
                  <a:pt x="19448" y="6243"/>
                  <a:pt x="19323" y="6226"/>
                </a:cubicBezTo>
                <a:cubicBezTo>
                  <a:pt x="19306" y="6226"/>
                  <a:pt x="19290" y="6226"/>
                  <a:pt x="19273" y="6226"/>
                </a:cubicBezTo>
              </a:path>
              <a:path w="2977" h="3573">
                <a:moveTo>
                  <a:pt x="20067" y="6102"/>
                </a:moveTo>
                <a:cubicBezTo>
                  <a:pt x="19921" y="6175"/>
                  <a:pt x="19823" y="6294"/>
                  <a:pt x="19819" y="6474"/>
                </a:cubicBezTo>
                <a:cubicBezTo>
                  <a:pt x="19814" y="6694"/>
                  <a:pt x="20046" y="6686"/>
                  <a:pt x="20191" y="6598"/>
                </a:cubicBezTo>
                <a:cubicBezTo>
                  <a:pt x="20342" y="6507"/>
                  <a:pt x="20389" y="6230"/>
                  <a:pt x="20166" y="6201"/>
                </a:cubicBezTo>
                <a:cubicBezTo>
                  <a:pt x="20116" y="6209"/>
                  <a:pt x="20067" y="6218"/>
                  <a:pt x="20017" y="6226"/>
                </a:cubicBezTo>
              </a:path>
              <a:path w="2977" h="3573">
                <a:moveTo>
                  <a:pt x="17959" y="7491"/>
                </a:moveTo>
                <a:cubicBezTo>
                  <a:pt x="18031" y="7432"/>
                  <a:pt x="18072" y="7437"/>
                  <a:pt x="18157" y="7417"/>
                </a:cubicBezTo>
                <a:cubicBezTo>
                  <a:pt x="18182" y="7409"/>
                  <a:pt x="18206" y="7400"/>
                  <a:pt x="18231" y="7392"/>
                </a:cubicBezTo>
              </a:path>
              <a:path w="2977" h="3573">
                <a:moveTo>
                  <a:pt x="18554" y="7218"/>
                </a:moveTo>
                <a:cubicBezTo>
                  <a:pt x="18588" y="7338"/>
                  <a:pt x="18604" y="7411"/>
                  <a:pt x="18604" y="7541"/>
                </a:cubicBezTo>
                <a:cubicBezTo>
                  <a:pt x="18604" y="7582"/>
                  <a:pt x="18596" y="7598"/>
                  <a:pt x="18628" y="7590"/>
                </a:cubicBezTo>
              </a:path>
              <a:path w="2977" h="3573">
                <a:moveTo>
                  <a:pt x="19025" y="7144"/>
                </a:moveTo>
                <a:cubicBezTo>
                  <a:pt x="19084" y="7066"/>
                  <a:pt x="19220" y="7061"/>
                  <a:pt x="19323" y="7094"/>
                </a:cubicBezTo>
                <a:cubicBezTo>
                  <a:pt x="19427" y="7127"/>
                  <a:pt x="19169" y="7279"/>
                  <a:pt x="19149" y="7293"/>
                </a:cubicBezTo>
                <a:cubicBezTo>
                  <a:pt x="19141" y="7293"/>
                  <a:pt x="19132" y="7293"/>
                  <a:pt x="19124" y="7293"/>
                </a:cubicBezTo>
                <a:cubicBezTo>
                  <a:pt x="19240" y="7293"/>
                  <a:pt x="19283" y="7275"/>
                  <a:pt x="19397" y="7317"/>
                </a:cubicBezTo>
                <a:cubicBezTo>
                  <a:pt x="19414" y="7325"/>
                  <a:pt x="19430" y="7334"/>
                  <a:pt x="19447" y="7342"/>
                </a:cubicBezTo>
                <a:cubicBezTo>
                  <a:pt x="19382" y="7472"/>
                  <a:pt x="19328" y="7549"/>
                  <a:pt x="19174" y="7516"/>
                </a:cubicBezTo>
                <a:cubicBezTo>
                  <a:pt x="19092" y="7488"/>
                  <a:pt x="19070" y="7472"/>
                  <a:pt x="19124" y="7392"/>
                </a:cubicBezTo>
              </a:path>
              <a:path w="2977" h="3573">
                <a:moveTo>
                  <a:pt x="19844" y="7119"/>
                </a:moveTo>
                <a:cubicBezTo>
                  <a:pt x="19852" y="7094"/>
                  <a:pt x="19927" y="7066"/>
                  <a:pt x="19968" y="7069"/>
                </a:cubicBezTo>
                <a:cubicBezTo>
                  <a:pt x="20018" y="7073"/>
                  <a:pt x="20079" y="7096"/>
                  <a:pt x="20117" y="7119"/>
                </a:cubicBezTo>
                <a:cubicBezTo>
                  <a:pt x="20069" y="7275"/>
                  <a:pt x="20015" y="7316"/>
                  <a:pt x="19918" y="7441"/>
                </a:cubicBezTo>
                <a:cubicBezTo>
                  <a:pt x="19910" y="7458"/>
                  <a:pt x="19901" y="7474"/>
                  <a:pt x="19893" y="7491"/>
                </a:cubicBezTo>
                <a:cubicBezTo>
                  <a:pt x="20004" y="7491"/>
                  <a:pt x="20105" y="7470"/>
                  <a:pt x="20216" y="7466"/>
                </a:cubicBezTo>
                <a:cubicBezTo>
                  <a:pt x="20257" y="7466"/>
                  <a:pt x="20265" y="7466"/>
                  <a:pt x="20290" y="7466"/>
                </a:cubicBezTo>
              </a:path>
              <a:path w="2977" h="3573">
                <a:moveTo>
                  <a:pt x="18207" y="7938"/>
                </a:moveTo>
                <a:cubicBezTo>
                  <a:pt x="18562" y="7905"/>
                  <a:pt x="18914" y="7860"/>
                  <a:pt x="19273" y="7838"/>
                </a:cubicBezTo>
                <a:cubicBezTo>
                  <a:pt x="19760" y="7809"/>
                  <a:pt x="20249" y="7771"/>
                  <a:pt x="20737" y="7764"/>
                </a:cubicBezTo>
                <a:cubicBezTo>
                  <a:pt x="20803" y="7763"/>
                  <a:pt x="20869" y="7764"/>
                  <a:pt x="20935" y="7764"/>
                </a:cubicBezTo>
              </a:path>
              <a:path w="2977" h="3573">
                <a:moveTo>
                  <a:pt x="19050" y="6276"/>
                </a:moveTo>
                <a:cubicBezTo>
                  <a:pt x="19090" y="6263"/>
                  <a:pt x="19060" y="6264"/>
                  <a:pt x="19100" y="6251"/>
                </a:cubicBezTo>
                <a:cubicBezTo>
                  <a:pt x="19208" y="6417"/>
                  <a:pt x="19324" y="6574"/>
                  <a:pt x="19422" y="6747"/>
                </a:cubicBezTo>
                <a:cubicBezTo>
                  <a:pt x="19442" y="6787"/>
                  <a:pt x="19451" y="6793"/>
                  <a:pt x="19447" y="6821"/>
                </a:cubicBezTo>
              </a:path>
              <a:path w="2977" h="3573">
                <a:moveTo>
                  <a:pt x="19149" y="5234"/>
                </a:moveTo>
                <a:cubicBezTo>
                  <a:pt x="19286" y="5234"/>
                  <a:pt x="19412" y="5225"/>
                  <a:pt x="19546" y="5209"/>
                </a:cubicBezTo>
                <a:cubicBezTo>
                  <a:pt x="19563" y="5209"/>
                  <a:pt x="19579" y="5209"/>
                  <a:pt x="19596" y="5209"/>
                </a:cubicBezTo>
                <a:cubicBezTo>
                  <a:pt x="19596" y="5369"/>
                  <a:pt x="19551" y="5522"/>
                  <a:pt x="19521" y="5680"/>
                </a:cubicBezTo>
                <a:cubicBezTo>
                  <a:pt x="19507" y="5752"/>
                  <a:pt x="19485" y="5812"/>
                  <a:pt x="19472" y="5879"/>
                </a:cubicBezTo>
              </a:path>
              <a:path w="2977" h="3573">
                <a:moveTo>
                  <a:pt x="19794" y="5854"/>
                </a:moveTo>
                <a:cubicBezTo>
                  <a:pt x="19794" y="5924"/>
                  <a:pt x="19786" y="6011"/>
                  <a:pt x="19769" y="6077"/>
                </a:cubicBezTo>
                <a:cubicBezTo>
                  <a:pt x="19754" y="6135"/>
                  <a:pt x="19728" y="6166"/>
                  <a:pt x="19720" y="6226"/>
                </a:cubicBezTo>
              </a:path>
              <a:path w="2977" h="3573">
                <a:moveTo>
                  <a:pt x="20315" y="8086"/>
                </a:moveTo>
                <a:cubicBezTo>
                  <a:pt x="20323" y="8086"/>
                  <a:pt x="20332" y="8086"/>
                  <a:pt x="20340" y="8086"/>
                </a:cubicBezTo>
                <a:cubicBezTo>
                  <a:pt x="20378" y="8031"/>
                  <a:pt x="20271" y="8062"/>
                  <a:pt x="20216" y="8062"/>
                </a:cubicBezTo>
                <a:cubicBezTo>
                  <a:pt x="20171" y="8062"/>
                  <a:pt x="20061" y="8083"/>
                  <a:pt x="20042" y="8136"/>
                </a:cubicBezTo>
                <a:cubicBezTo>
                  <a:pt x="20007" y="8233"/>
                  <a:pt x="20134" y="8290"/>
                  <a:pt x="20191" y="8334"/>
                </a:cubicBezTo>
                <a:cubicBezTo>
                  <a:pt x="20292" y="8411"/>
                  <a:pt x="20373" y="8448"/>
                  <a:pt x="20365" y="8558"/>
                </a:cubicBezTo>
                <a:cubicBezTo>
                  <a:pt x="20365" y="8566"/>
                  <a:pt x="20365" y="8574"/>
                  <a:pt x="20365" y="8582"/>
                </a:cubicBezTo>
                <a:cubicBezTo>
                  <a:pt x="20281" y="8582"/>
                  <a:pt x="20193" y="8590"/>
                  <a:pt x="20141" y="8508"/>
                </a:cubicBezTo>
                <a:cubicBezTo>
                  <a:pt x="20082" y="8415"/>
                  <a:pt x="20184" y="8305"/>
                  <a:pt x="20241" y="8235"/>
                </a:cubicBezTo>
                <a:cubicBezTo>
                  <a:pt x="20290" y="8175"/>
                  <a:pt x="20300" y="8206"/>
                  <a:pt x="20315" y="8161"/>
                </a:cubicBezTo>
              </a:path>
              <a:path w="2977" h="3573">
                <a:moveTo>
                  <a:pt x="19248" y="8210"/>
                </a:moveTo>
                <a:cubicBezTo>
                  <a:pt x="19285" y="8198"/>
                  <a:pt x="19270" y="8186"/>
                  <a:pt x="19323" y="8186"/>
                </a:cubicBezTo>
                <a:cubicBezTo>
                  <a:pt x="19310" y="8265"/>
                  <a:pt x="19270" y="8333"/>
                  <a:pt x="19248" y="8409"/>
                </a:cubicBezTo>
                <a:cubicBezTo>
                  <a:pt x="19248" y="8417"/>
                  <a:pt x="19248" y="8426"/>
                  <a:pt x="19248" y="8434"/>
                </a:cubicBezTo>
                <a:cubicBezTo>
                  <a:pt x="19340" y="8452"/>
                  <a:pt x="19423" y="8458"/>
                  <a:pt x="19521" y="8458"/>
                </a:cubicBezTo>
                <a:cubicBezTo>
                  <a:pt x="19571" y="8458"/>
                  <a:pt x="19620" y="8458"/>
                  <a:pt x="19670" y="8458"/>
                </a:cubicBezTo>
              </a:path>
              <a:path w="2977" h="3573">
                <a:moveTo>
                  <a:pt x="19695" y="8161"/>
                </a:moveTo>
                <a:cubicBezTo>
                  <a:pt x="19695" y="8271"/>
                  <a:pt x="19655" y="8374"/>
                  <a:pt x="19645" y="8483"/>
                </a:cubicBezTo>
                <a:cubicBezTo>
                  <a:pt x="19637" y="8577"/>
                  <a:pt x="19630" y="8667"/>
                  <a:pt x="19621" y="8756"/>
                </a:cubicBezTo>
                <a:cubicBezTo>
                  <a:pt x="19621" y="8764"/>
                  <a:pt x="19621" y="8773"/>
                  <a:pt x="19621" y="87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86240" y="615960"/>
            <a:ext cx="679680" cy="1027080"/>
          </a:xfrm>
          <a:custGeom>
            <a:avLst/>
            <a:gdLst/>
            <a:ahLst/>
            <a:rect l="l" t="t" r="r" b="b"/>
            <a:pathLst>
              <a:path w="1887" h="2853">
                <a:moveTo>
                  <a:pt x="15652" y="1860"/>
                </a:moveTo>
                <a:cubicBezTo>
                  <a:pt x="15652" y="1746"/>
                  <a:pt x="15621" y="1947"/>
                  <a:pt x="15602" y="1984"/>
                </a:cubicBezTo>
                <a:cubicBezTo>
                  <a:pt x="15556" y="2076"/>
                  <a:pt x="15500" y="2165"/>
                  <a:pt x="15453" y="2257"/>
                </a:cubicBezTo>
                <a:cubicBezTo>
                  <a:pt x="15525" y="2257"/>
                  <a:pt x="15611" y="2228"/>
                  <a:pt x="15677" y="2232"/>
                </a:cubicBezTo>
                <a:cubicBezTo>
                  <a:pt x="15724" y="2235"/>
                  <a:pt x="15906" y="2326"/>
                  <a:pt x="15949" y="2282"/>
                </a:cubicBezTo>
                <a:cubicBezTo>
                  <a:pt x="15949" y="2274"/>
                  <a:pt x="15949" y="2265"/>
                  <a:pt x="15949" y="2257"/>
                </a:cubicBezTo>
              </a:path>
              <a:path w="1887" h="2853">
                <a:moveTo>
                  <a:pt x="15999" y="1712"/>
                </a:moveTo>
                <a:cubicBezTo>
                  <a:pt x="15943" y="1942"/>
                  <a:pt x="15930" y="2176"/>
                  <a:pt x="15875" y="2406"/>
                </a:cubicBezTo>
                <a:cubicBezTo>
                  <a:pt x="15860" y="2468"/>
                  <a:pt x="15850" y="2476"/>
                  <a:pt x="15850" y="2530"/>
                </a:cubicBezTo>
              </a:path>
              <a:path w="1887" h="2853">
                <a:moveTo>
                  <a:pt x="16371" y="1761"/>
                </a:moveTo>
                <a:cubicBezTo>
                  <a:pt x="16265" y="1867"/>
                  <a:pt x="16213" y="2099"/>
                  <a:pt x="16173" y="2257"/>
                </a:cubicBezTo>
                <a:cubicBezTo>
                  <a:pt x="16136" y="2404"/>
                  <a:pt x="16210" y="2582"/>
                  <a:pt x="16396" y="2505"/>
                </a:cubicBezTo>
                <a:cubicBezTo>
                  <a:pt x="16600" y="2420"/>
                  <a:pt x="16590" y="2152"/>
                  <a:pt x="16520" y="1984"/>
                </a:cubicBezTo>
                <a:cubicBezTo>
                  <a:pt x="16457" y="1832"/>
                  <a:pt x="16373" y="1836"/>
                  <a:pt x="16247" y="1836"/>
                </a:cubicBezTo>
              </a:path>
              <a:path w="1887" h="2853">
                <a:moveTo>
                  <a:pt x="15032" y="2580"/>
                </a:moveTo>
                <a:cubicBezTo>
                  <a:pt x="15020" y="2698"/>
                  <a:pt x="15008" y="2838"/>
                  <a:pt x="14982" y="2952"/>
                </a:cubicBezTo>
                <a:cubicBezTo>
                  <a:pt x="14974" y="2968"/>
                  <a:pt x="14965" y="2985"/>
                  <a:pt x="14957" y="3001"/>
                </a:cubicBezTo>
              </a:path>
              <a:path w="1887" h="2853">
                <a:moveTo>
                  <a:pt x="14808" y="2778"/>
                </a:moveTo>
                <a:cubicBezTo>
                  <a:pt x="14969" y="2778"/>
                  <a:pt x="15121" y="2776"/>
                  <a:pt x="15280" y="2753"/>
                </a:cubicBezTo>
              </a:path>
              <a:path w="1887" h="2853">
                <a:moveTo>
                  <a:pt x="15453" y="2753"/>
                </a:moveTo>
                <a:cubicBezTo>
                  <a:pt x="15447" y="2846"/>
                  <a:pt x="15464" y="3027"/>
                  <a:pt x="15404" y="3101"/>
                </a:cubicBezTo>
                <a:cubicBezTo>
                  <a:pt x="15396" y="3101"/>
                  <a:pt x="15387" y="3101"/>
                  <a:pt x="15379" y="3101"/>
                </a:cubicBezTo>
                <a:cubicBezTo>
                  <a:pt x="15466" y="3118"/>
                  <a:pt x="15560" y="3142"/>
                  <a:pt x="15652" y="3150"/>
                </a:cubicBezTo>
                <a:cubicBezTo>
                  <a:pt x="15726" y="3150"/>
                  <a:pt x="15759" y="3175"/>
                  <a:pt x="15751" y="3125"/>
                </a:cubicBezTo>
              </a:path>
              <a:path w="1887" h="2853">
                <a:moveTo>
                  <a:pt x="15776" y="2853"/>
                </a:moveTo>
                <a:cubicBezTo>
                  <a:pt x="15703" y="3016"/>
                  <a:pt x="15638" y="3170"/>
                  <a:pt x="15627" y="3349"/>
                </a:cubicBezTo>
                <a:cubicBezTo>
                  <a:pt x="15627" y="3407"/>
                  <a:pt x="15611" y="3431"/>
                  <a:pt x="15652" y="3423"/>
                </a:cubicBezTo>
              </a:path>
              <a:path w="1887" h="2853">
                <a:moveTo>
                  <a:pt x="16173" y="2927"/>
                </a:moveTo>
                <a:cubicBezTo>
                  <a:pt x="16013" y="2956"/>
                  <a:pt x="15972" y="2958"/>
                  <a:pt x="15850" y="3051"/>
                </a:cubicBezTo>
                <a:cubicBezTo>
                  <a:pt x="15922" y="3207"/>
                  <a:pt x="16064" y="3260"/>
                  <a:pt x="16148" y="3398"/>
                </a:cubicBezTo>
                <a:cubicBezTo>
                  <a:pt x="16148" y="3450"/>
                  <a:pt x="16146" y="3468"/>
                  <a:pt x="16098" y="3473"/>
                </a:cubicBezTo>
                <a:cubicBezTo>
                  <a:pt x="15926" y="3421"/>
                  <a:pt x="16020" y="3289"/>
                  <a:pt x="16098" y="3150"/>
                </a:cubicBezTo>
                <a:cubicBezTo>
                  <a:pt x="16151" y="3056"/>
                  <a:pt x="16181" y="3025"/>
                  <a:pt x="16197" y="2927"/>
                </a:cubicBezTo>
              </a:path>
              <a:path w="1887" h="2853">
                <a:moveTo>
                  <a:pt x="14684" y="3671"/>
                </a:moveTo>
                <a:cubicBezTo>
                  <a:pt x="14976" y="3671"/>
                  <a:pt x="15262" y="3631"/>
                  <a:pt x="15553" y="3621"/>
                </a:cubicBezTo>
                <a:cubicBezTo>
                  <a:pt x="15851" y="3611"/>
                  <a:pt x="16149" y="3607"/>
                  <a:pt x="16446" y="3597"/>
                </a:cubicBezTo>
                <a:cubicBezTo>
                  <a:pt x="16489" y="3596"/>
                  <a:pt x="16482" y="3616"/>
                  <a:pt x="16495" y="3621"/>
                </a:cubicBezTo>
              </a:path>
              <a:path w="1887" h="2853">
                <a:moveTo>
                  <a:pt x="15801" y="3944"/>
                </a:moveTo>
                <a:cubicBezTo>
                  <a:pt x="15798" y="3905"/>
                  <a:pt x="15585" y="3936"/>
                  <a:pt x="15503" y="3969"/>
                </a:cubicBezTo>
                <a:cubicBezTo>
                  <a:pt x="15350" y="4030"/>
                  <a:pt x="15359" y="4113"/>
                  <a:pt x="15453" y="4217"/>
                </a:cubicBezTo>
                <a:cubicBezTo>
                  <a:pt x="15536" y="4309"/>
                  <a:pt x="15635" y="4382"/>
                  <a:pt x="15726" y="4465"/>
                </a:cubicBezTo>
                <a:cubicBezTo>
                  <a:pt x="15665" y="4526"/>
                  <a:pt x="15592" y="4587"/>
                  <a:pt x="15503" y="4514"/>
                </a:cubicBezTo>
                <a:cubicBezTo>
                  <a:pt x="15363" y="4400"/>
                  <a:pt x="15569" y="4235"/>
                  <a:pt x="15652" y="4167"/>
                </a:cubicBezTo>
                <a:cubicBezTo>
                  <a:pt x="15727" y="4111"/>
                  <a:pt x="15740" y="4107"/>
                  <a:pt x="15776" y="4068"/>
                </a:cubicBezTo>
              </a:path>
              <a:path w="1887" h="2853">
                <a:moveTo>
                  <a:pt x="16346" y="3969"/>
                </a:moveTo>
                <a:cubicBezTo>
                  <a:pt x="16251" y="3969"/>
                  <a:pt x="16191" y="3931"/>
                  <a:pt x="16098" y="3969"/>
                </a:cubicBezTo>
                <a:cubicBezTo>
                  <a:pt x="16046" y="3991"/>
                  <a:pt x="15876" y="4112"/>
                  <a:pt x="15925" y="4192"/>
                </a:cubicBezTo>
                <a:cubicBezTo>
                  <a:pt x="15977" y="4277"/>
                  <a:pt x="16192" y="4339"/>
                  <a:pt x="16197" y="4440"/>
                </a:cubicBezTo>
                <a:cubicBezTo>
                  <a:pt x="16175" y="4507"/>
                  <a:pt x="16171" y="4525"/>
                  <a:pt x="16148" y="4564"/>
                </a:cubicBezTo>
                <a:cubicBezTo>
                  <a:pt x="16060" y="4556"/>
                  <a:pt x="15962" y="4541"/>
                  <a:pt x="15999" y="4415"/>
                </a:cubicBezTo>
                <a:cubicBezTo>
                  <a:pt x="16034" y="4296"/>
                  <a:pt x="16144" y="4184"/>
                  <a:pt x="16222" y="40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41760" y="1911240"/>
            <a:ext cx="446040" cy="411120"/>
          </a:xfrm>
          <a:custGeom>
            <a:avLst/>
            <a:gdLst/>
            <a:ahLst/>
            <a:rect l="l" t="t" r="r" b="b"/>
            <a:pathLst>
              <a:path w="1241" h="1142">
                <a:moveTo>
                  <a:pt x="8012" y="5804"/>
                </a:moveTo>
                <a:cubicBezTo>
                  <a:pt x="8054" y="5762"/>
                  <a:pt x="8069" y="5635"/>
                  <a:pt x="8037" y="5556"/>
                </a:cubicBezTo>
                <a:cubicBezTo>
                  <a:pt x="8003" y="5471"/>
                  <a:pt x="7886" y="5353"/>
                  <a:pt x="7789" y="5432"/>
                </a:cubicBezTo>
                <a:cubicBezTo>
                  <a:pt x="7622" y="5568"/>
                  <a:pt x="7622" y="5792"/>
                  <a:pt x="7640" y="5978"/>
                </a:cubicBezTo>
                <a:cubicBezTo>
                  <a:pt x="7798" y="6015"/>
                  <a:pt x="7927" y="5905"/>
                  <a:pt x="8012" y="5730"/>
                </a:cubicBezTo>
                <a:cubicBezTo>
                  <a:pt x="8031" y="5656"/>
                  <a:pt x="8013" y="5623"/>
                  <a:pt x="8062" y="5631"/>
                </a:cubicBezTo>
                <a:cubicBezTo>
                  <a:pt x="8040" y="5805"/>
                  <a:pt x="8034" y="5977"/>
                  <a:pt x="8012" y="6152"/>
                </a:cubicBezTo>
                <a:cubicBezTo>
                  <a:pt x="7997" y="6271"/>
                  <a:pt x="7963" y="6518"/>
                  <a:pt x="7987" y="6400"/>
                </a:cubicBezTo>
              </a:path>
              <a:path w="1241" h="1142">
                <a:moveTo>
                  <a:pt x="8285" y="5705"/>
                </a:moveTo>
                <a:cubicBezTo>
                  <a:pt x="8379" y="5622"/>
                  <a:pt x="8470" y="5597"/>
                  <a:pt x="8533" y="5755"/>
                </a:cubicBezTo>
                <a:cubicBezTo>
                  <a:pt x="8605" y="5937"/>
                  <a:pt x="8529" y="6157"/>
                  <a:pt x="8384" y="6276"/>
                </a:cubicBezTo>
                <a:cubicBezTo>
                  <a:pt x="8273" y="6342"/>
                  <a:pt x="8247" y="6367"/>
                  <a:pt x="8161" y="6350"/>
                </a:cubicBezTo>
                <a:cubicBezTo>
                  <a:pt x="8182" y="6200"/>
                  <a:pt x="8214" y="6089"/>
                  <a:pt x="8384" y="6052"/>
                </a:cubicBezTo>
                <a:cubicBezTo>
                  <a:pt x="8493" y="6028"/>
                  <a:pt x="8511" y="6135"/>
                  <a:pt x="8558" y="6152"/>
                </a:cubicBezTo>
                <a:cubicBezTo>
                  <a:pt x="8617" y="6152"/>
                  <a:pt x="8637" y="6142"/>
                  <a:pt x="8632" y="6077"/>
                </a:cubicBezTo>
              </a:path>
              <a:path w="1241" h="1142">
                <a:moveTo>
                  <a:pt x="8756" y="5308"/>
                </a:moveTo>
                <a:cubicBezTo>
                  <a:pt x="8649" y="5308"/>
                  <a:pt x="8664" y="5397"/>
                  <a:pt x="8657" y="5482"/>
                </a:cubicBezTo>
                <a:cubicBezTo>
                  <a:pt x="8645" y="5627"/>
                  <a:pt x="8795" y="5520"/>
                  <a:pt x="8830" y="5457"/>
                </a:cubicBezTo>
                <a:cubicBezTo>
                  <a:pt x="8838" y="5432"/>
                  <a:pt x="8847" y="5408"/>
                  <a:pt x="8855" y="5383"/>
                </a:cubicBezTo>
                <a:cubicBezTo>
                  <a:pt x="8785" y="5259"/>
                  <a:pt x="8739" y="5325"/>
                  <a:pt x="8657" y="54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12720" y="45720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missing 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1676520"/>
            <a:ext cx="3429000" cy="3429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066680" y="3733560"/>
            <a:ext cx="518184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905120" y="1523520"/>
            <a:ext cx="2438280" cy="403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40080" y="25588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38440" y="4616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9760" y="3397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70560" y="348948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266688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73280" y="3027240"/>
            <a:ext cx="304920" cy="330480"/>
          </a:xfrm>
          <a:custGeom>
            <a:avLst/>
            <a:gdLst/>
            <a:ahLst/>
            <a:rect l="l" t="t" r="r" b="b"/>
            <a:pathLst>
              <a:path w="844" h="919">
                <a:moveTo>
                  <a:pt x="9823" y="8682"/>
                </a:moveTo>
                <a:cubicBezTo>
                  <a:pt x="9743" y="8776"/>
                  <a:pt x="9728" y="8861"/>
                  <a:pt x="9699" y="8979"/>
                </a:cubicBezTo>
                <a:cubicBezTo>
                  <a:pt x="9676" y="9071"/>
                  <a:pt x="9605" y="9210"/>
                  <a:pt x="9674" y="9302"/>
                </a:cubicBezTo>
                <a:cubicBezTo>
                  <a:pt x="9732" y="9379"/>
                  <a:pt x="9874" y="9275"/>
                  <a:pt x="9922" y="9252"/>
                </a:cubicBezTo>
                <a:cubicBezTo>
                  <a:pt x="10001" y="9214"/>
                  <a:pt x="10102" y="9144"/>
                  <a:pt x="10120" y="9054"/>
                </a:cubicBezTo>
                <a:cubicBezTo>
                  <a:pt x="10120" y="9026"/>
                  <a:pt x="10118" y="9015"/>
                  <a:pt x="10096" y="9004"/>
                </a:cubicBezTo>
                <a:cubicBezTo>
                  <a:pt x="10015" y="9024"/>
                  <a:pt x="9927" y="9085"/>
                  <a:pt x="9897" y="9178"/>
                </a:cubicBezTo>
                <a:cubicBezTo>
                  <a:pt x="9876" y="9243"/>
                  <a:pt x="9909" y="9227"/>
                  <a:pt x="9947" y="9227"/>
                </a:cubicBezTo>
              </a:path>
              <a:path w="844" h="919">
                <a:moveTo>
                  <a:pt x="10195" y="8632"/>
                </a:moveTo>
                <a:cubicBezTo>
                  <a:pt x="10209" y="8727"/>
                  <a:pt x="10236" y="8824"/>
                  <a:pt x="10244" y="8930"/>
                </a:cubicBezTo>
                <a:cubicBezTo>
                  <a:pt x="10247" y="8968"/>
                  <a:pt x="10244" y="9222"/>
                  <a:pt x="10269" y="9103"/>
                </a:cubicBezTo>
                <a:cubicBezTo>
                  <a:pt x="10277" y="9070"/>
                  <a:pt x="10286" y="9037"/>
                  <a:pt x="10294" y="9004"/>
                </a:cubicBezTo>
              </a:path>
              <a:path w="844" h="919">
                <a:moveTo>
                  <a:pt x="10368" y="8434"/>
                </a:moveTo>
                <a:cubicBezTo>
                  <a:pt x="10360" y="8484"/>
                  <a:pt x="10349" y="8531"/>
                  <a:pt x="10344" y="8582"/>
                </a:cubicBezTo>
                <a:cubicBezTo>
                  <a:pt x="10398" y="8577"/>
                  <a:pt x="10518" y="8581"/>
                  <a:pt x="10492" y="8483"/>
                </a:cubicBezTo>
                <a:cubicBezTo>
                  <a:pt x="10473" y="8410"/>
                  <a:pt x="10428" y="8417"/>
                  <a:pt x="10368" y="84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21040" y="2490840"/>
            <a:ext cx="519120" cy="366840"/>
          </a:xfrm>
          <a:custGeom>
            <a:avLst/>
            <a:gdLst/>
            <a:ahLst/>
            <a:rect l="l" t="t" r="r" b="b"/>
            <a:pathLst>
              <a:path w="1440" h="1018">
                <a:moveTo>
                  <a:pt x="10740" y="7317"/>
                </a:moveTo>
                <a:cubicBezTo>
                  <a:pt x="10699" y="7484"/>
                  <a:pt x="10634" y="7637"/>
                  <a:pt x="10616" y="7813"/>
                </a:cubicBezTo>
                <a:cubicBezTo>
                  <a:pt x="10616" y="7888"/>
                  <a:pt x="10616" y="7896"/>
                  <a:pt x="10616" y="7938"/>
                </a:cubicBezTo>
              </a:path>
              <a:path w="1440" h="1018">
                <a:moveTo>
                  <a:pt x="10939" y="7268"/>
                </a:moveTo>
                <a:cubicBezTo>
                  <a:pt x="11009" y="7291"/>
                  <a:pt x="10987" y="7479"/>
                  <a:pt x="10988" y="7541"/>
                </a:cubicBezTo>
                <a:cubicBezTo>
                  <a:pt x="10989" y="7604"/>
                  <a:pt x="10966" y="7853"/>
                  <a:pt x="10988" y="7863"/>
                </a:cubicBezTo>
                <a:cubicBezTo>
                  <a:pt x="10996" y="7863"/>
                  <a:pt x="11005" y="7863"/>
                  <a:pt x="11013" y="7863"/>
                </a:cubicBezTo>
              </a:path>
              <a:path w="1440" h="1018">
                <a:moveTo>
                  <a:pt x="11658" y="7342"/>
                </a:moveTo>
                <a:cubicBezTo>
                  <a:pt x="11658" y="7244"/>
                  <a:pt x="11666" y="7177"/>
                  <a:pt x="11584" y="7119"/>
                </a:cubicBezTo>
                <a:cubicBezTo>
                  <a:pt x="11475" y="7042"/>
                  <a:pt x="11372" y="7181"/>
                  <a:pt x="11336" y="7268"/>
                </a:cubicBezTo>
                <a:cubicBezTo>
                  <a:pt x="11315" y="7352"/>
                  <a:pt x="11300" y="7371"/>
                  <a:pt x="11336" y="7417"/>
                </a:cubicBezTo>
                <a:cubicBezTo>
                  <a:pt x="11468" y="7398"/>
                  <a:pt x="11567" y="7378"/>
                  <a:pt x="11633" y="7243"/>
                </a:cubicBezTo>
                <a:cubicBezTo>
                  <a:pt x="11633" y="7235"/>
                  <a:pt x="11633" y="7226"/>
                  <a:pt x="11633" y="7218"/>
                </a:cubicBezTo>
                <a:cubicBezTo>
                  <a:pt x="11633" y="7358"/>
                  <a:pt x="11625" y="7816"/>
                  <a:pt x="11633" y="7789"/>
                </a:cubicBezTo>
                <a:cubicBezTo>
                  <a:pt x="11641" y="7764"/>
                  <a:pt x="11650" y="7739"/>
                  <a:pt x="11658" y="7714"/>
                </a:cubicBezTo>
              </a:path>
              <a:path w="1440" h="1018">
                <a:moveTo>
                  <a:pt x="11906" y="6995"/>
                </a:moveTo>
                <a:cubicBezTo>
                  <a:pt x="11880" y="6916"/>
                  <a:pt x="11837" y="7044"/>
                  <a:pt x="11857" y="7069"/>
                </a:cubicBezTo>
                <a:cubicBezTo>
                  <a:pt x="11949" y="7182"/>
                  <a:pt x="12042" y="7042"/>
                  <a:pt x="12055" y="6970"/>
                </a:cubicBezTo>
                <a:cubicBezTo>
                  <a:pt x="12061" y="6937"/>
                  <a:pt x="12010" y="6933"/>
                  <a:pt x="11981" y="69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84720" y="2027160"/>
            <a:ext cx="374400" cy="1000080"/>
          </a:xfrm>
          <a:custGeom>
            <a:avLst/>
            <a:gdLst/>
            <a:ahLst/>
            <a:rect l="l" t="t" r="r" b="b"/>
            <a:pathLst>
              <a:path w="1043" h="2779">
                <a:moveTo>
                  <a:pt x="9426" y="8409"/>
                </a:moveTo>
                <a:cubicBezTo>
                  <a:pt x="9426" y="8303"/>
                  <a:pt x="9418" y="8203"/>
                  <a:pt x="9401" y="8111"/>
                </a:cubicBezTo>
                <a:cubicBezTo>
                  <a:pt x="9390" y="8052"/>
                  <a:pt x="9417" y="8015"/>
                  <a:pt x="9426" y="7962"/>
                </a:cubicBezTo>
                <a:cubicBezTo>
                  <a:pt x="9435" y="7910"/>
                  <a:pt x="9454" y="7885"/>
                  <a:pt x="9475" y="7838"/>
                </a:cubicBezTo>
                <a:cubicBezTo>
                  <a:pt x="9505" y="7771"/>
                  <a:pt x="9541" y="7701"/>
                  <a:pt x="9575" y="7640"/>
                </a:cubicBezTo>
                <a:cubicBezTo>
                  <a:pt x="9594" y="7606"/>
                  <a:pt x="9627" y="7520"/>
                  <a:pt x="9649" y="7491"/>
                </a:cubicBezTo>
                <a:cubicBezTo>
                  <a:pt x="9688" y="7452"/>
                  <a:pt x="9705" y="7451"/>
                  <a:pt x="9699" y="7417"/>
                </a:cubicBezTo>
                <a:cubicBezTo>
                  <a:pt x="9719" y="7402"/>
                  <a:pt x="9728" y="7407"/>
                  <a:pt x="9748" y="7392"/>
                </a:cubicBezTo>
                <a:cubicBezTo>
                  <a:pt x="9778" y="7354"/>
                  <a:pt x="9802" y="7321"/>
                  <a:pt x="9847" y="7293"/>
                </a:cubicBezTo>
                <a:cubicBezTo>
                  <a:pt x="9887" y="7268"/>
                  <a:pt x="9971" y="7249"/>
                  <a:pt x="10021" y="7243"/>
                </a:cubicBezTo>
                <a:cubicBezTo>
                  <a:pt x="10083" y="7235"/>
                  <a:pt x="10136" y="7228"/>
                  <a:pt x="10195" y="7218"/>
                </a:cubicBezTo>
                <a:cubicBezTo>
                  <a:pt x="10237" y="7211"/>
                  <a:pt x="10279" y="7200"/>
                  <a:pt x="10319" y="7193"/>
                </a:cubicBezTo>
                <a:cubicBezTo>
                  <a:pt x="10343" y="7189"/>
                  <a:pt x="10369" y="7196"/>
                  <a:pt x="10393" y="7193"/>
                </a:cubicBezTo>
              </a:path>
              <a:path w="1043" h="2779">
                <a:moveTo>
                  <a:pt x="9674" y="6127"/>
                </a:moveTo>
                <a:cubicBezTo>
                  <a:pt x="9594" y="6127"/>
                  <a:pt x="9565" y="6183"/>
                  <a:pt x="9525" y="6251"/>
                </a:cubicBezTo>
                <a:cubicBezTo>
                  <a:pt x="9463" y="6357"/>
                  <a:pt x="9432" y="6477"/>
                  <a:pt x="9426" y="6598"/>
                </a:cubicBezTo>
                <a:cubicBezTo>
                  <a:pt x="9423" y="6670"/>
                  <a:pt x="9502" y="6683"/>
                  <a:pt x="9575" y="6672"/>
                </a:cubicBezTo>
                <a:cubicBezTo>
                  <a:pt x="9659" y="6659"/>
                  <a:pt x="9770" y="6618"/>
                  <a:pt x="9823" y="6548"/>
                </a:cubicBezTo>
                <a:cubicBezTo>
                  <a:pt x="9851" y="6511"/>
                  <a:pt x="9882" y="6462"/>
                  <a:pt x="9897" y="6424"/>
                </a:cubicBezTo>
                <a:cubicBezTo>
                  <a:pt x="9846" y="6364"/>
                  <a:pt x="9800" y="6330"/>
                  <a:pt x="9748" y="6400"/>
                </a:cubicBezTo>
                <a:cubicBezTo>
                  <a:pt x="9704" y="6458"/>
                  <a:pt x="9630" y="6594"/>
                  <a:pt x="9674" y="6672"/>
                </a:cubicBezTo>
                <a:cubicBezTo>
                  <a:pt x="9691" y="6702"/>
                  <a:pt x="9712" y="6684"/>
                  <a:pt x="9748" y="6672"/>
                </a:cubicBezTo>
              </a:path>
              <a:path w="1043" h="2779">
                <a:moveTo>
                  <a:pt x="10120" y="6052"/>
                </a:moveTo>
                <a:cubicBezTo>
                  <a:pt x="10120" y="6167"/>
                  <a:pt x="10120" y="6235"/>
                  <a:pt x="10120" y="6350"/>
                </a:cubicBezTo>
                <a:cubicBezTo>
                  <a:pt x="10120" y="6408"/>
                  <a:pt x="10120" y="6532"/>
                  <a:pt x="10120" y="6474"/>
                </a:cubicBezTo>
              </a:path>
              <a:path w="1043" h="2779">
                <a:moveTo>
                  <a:pt x="10393" y="5631"/>
                </a:moveTo>
                <a:cubicBezTo>
                  <a:pt x="10358" y="5642"/>
                  <a:pt x="10322" y="5729"/>
                  <a:pt x="10344" y="5779"/>
                </a:cubicBezTo>
                <a:cubicBezTo>
                  <a:pt x="10352" y="5779"/>
                  <a:pt x="10360" y="5779"/>
                  <a:pt x="10368" y="5779"/>
                </a:cubicBezTo>
                <a:cubicBezTo>
                  <a:pt x="10424" y="5752"/>
                  <a:pt x="10423" y="5719"/>
                  <a:pt x="10418" y="5705"/>
                </a:cubicBezTo>
                <a:cubicBezTo>
                  <a:pt x="10418" y="5697"/>
                  <a:pt x="10418" y="5688"/>
                  <a:pt x="10418" y="56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79960" y="3751200"/>
            <a:ext cx="1517400" cy="857160"/>
          </a:xfrm>
          <a:custGeom>
            <a:avLst/>
            <a:gdLst/>
            <a:ahLst/>
            <a:rect l="l" t="t" r="r" b="b"/>
            <a:pathLst>
              <a:path w="4217" h="2382">
                <a:moveTo>
                  <a:pt x="12179" y="12080"/>
                </a:moveTo>
                <a:cubicBezTo>
                  <a:pt x="12179" y="12072"/>
                  <a:pt x="12179" y="11988"/>
                  <a:pt x="12179" y="12055"/>
                </a:cubicBezTo>
                <a:cubicBezTo>
                  <a:pt x="12088" y="12220"/>
                  <a:pt x="12054" y="12423"/>
                  <a:pt x="11981" y="12601"/>
                </a:cubicBezTo>
                <a:cubicBezTo>
                  <a:pt x="11947" y="12684"/>
                  <a:pt x="11924" y="12764"/>
                  <a:pt x="11906" y="12675"/>
                </a:cubicBezTo>
              </a:path>
              <a:path w="4217" h="2382">
                <a:moveTo>
                  <a:pt x="12353" y="12080"/>
                </a:moveTo>
                <a:cubicBezTo>
                  <a:pt x="12353" y="12170"/>
                  <a:pt x="12372" y="12107"/>
                  <a:pt x="12427" y="12080"/>
                </a:cubicBezTo>
                <a:cubicBezTo>
                  <a:pt x="12547" y="12021"/>
                  <a:pt x="12630" y="12046"/>
                  <a:pt x="12650" y="12179"/>
                </a:cubicBezTo>
                <a:cubicBezTo>
                  <a:pt x="12680" y="12379"/>
                  <a:pt x="12517" y="12502"/>
                  <a:pt x="12353" y="12576"/>
                </a:cubicBezTo>
                <a:cubicBezTo>
                  <a:pt x="12264" y="12598"/>
                  <a:pt x="12239" y="12614"/>
                  <a:pt x="12204" y="12551"/>
                </a:cubicBezTo>
                <a:cubicBezTo>
                  <a:pt x="12242" y="12436"/>
                  <a:pt x="12315" y="12365"/>
                  <a:pt x="12452" y="12378"/>
                </a:cubicBezTo>
                <a:cubicBezTo>
                  <a:pt x="12610" y="12393"/>
                  <a:pt x="12529" y="12501"/>
                  <a:pt x="12576" y="12576"/>
                </a:cubicBezTo>
                <a:cubicBezTo>
                  <a:pt x="12584" y="12576"/>
                  <a:pt x="12593" y="12576"/>
                  <a:pt x="12601" y="12576"/>
                </a:cubicBezTo>
              </a:path>
              <a:path w="4217" h="2382">
                <a:moveTo>
                  <a:pt x="12849" y="12129"/>
                </a:moveTo>
                <a:cubicBezTo>
                  <a:pt x="12916" y="12151"/>
                  <a:pt x="12854" y="12246"/>
                  <a:pt x="12849" y="12303"/>
                </a:cubicBezTo>
                <a:cubicBezTo>
                  <a:pt x="12849" y="12336"/>
                  <a:pt x="12849" y="12369"/>
                  <a:pt x="12849" y="12402"/>
                </a:cubicBezTo>
                <a:cubicBezTo>
                  <a:pt x="12986" y="12422"/>
                  <a:pt x="13083" y="12388"/>
                  <a:pt x="13221" y="12378"/>
                </a:cubicBezTo>
                <a:cubicBezTo>
                  <a:pt x="13271" y="12378"/>
                  <a:pt x="13288" y="12378"/>
                  <a:pt x="13271" y="12328"/>
                </a:cubicBezTo>
              </a:path>
              <a:path w="4217" h="2382">
                <a:moveTo>
                  <a:pt x="13246" y="12005"/>
                </a:moveTo>
                <a:cubicBezTo>
                  <a:pt x="13234" y="12202"/>
                  <a:pt x="13203" y="12402"/>
                  <a:pt x="13221" y="12601"/>
                </a:cubicBezTo>
                <a:cubicBezTo>
                  <a:pt x="13228" y="12676"/>
                  <a:pt x="13246" y="12849"/>
                  <a:pt x="13246" y="12774"/>
                </a:cubicBezTo>
              </a:path>
              <a:path w="4217" h="2382">
                <a:moveTo>
                  <a:pt x="13543" y="11956"/>
                </a:moveTo>
                <a:cubicBezTo>
                  <a:pt x="13531" y="12016"/>
                  <a:pt x="13519" y="12063"/>
                  <a:pt x="13519" y="12129"/>
                </a:cubicBezTo>
                <a:cubicBezTo>
                  <a:pt x="13533" y="12126"/>
                  <a:pt x="13719" y="12038"/>
                  <a:pt x="13667" y="12005"/>
                </a:cubicBezTo>
                <a:cubicBezTo>
                  <a:pt x="13593" y="12005"/>
                  <a:pt x="13552" y="12005"/>
                  <a:pt x="13494" y="12005"/>
                </a:cubicBezTo>
              </a:path>
              <a:path w="4217" h="2382">
                <a:moveTo>
                  <a:pt x="13047" y="10641"/>
                </a:moveTo>
                <a:cubicBezTo>
                  <a:pt x="13082" y="10622"/>
                  <a:pt x="13128" y="10582"/>
                  <a:pt x="13171" y="10567"/>
                </a:cubicBezTo>
                <a:cubicBezTo>
                  <a:pt x="13215" y="10551"/>
                  <a:pt x="13272" y="10548"/>
                  <a:pt x="13320" y="10542"/>
                </a:cubicBezTo>
                <a:cubicBezTo>
                  <a:pt x="13435" y="10527"/>
                  <a:pt x="13558" y="10544"/>
                  <a:pt x="13667" y="10567"/>
                </a:cubicBezTo>
                <a:cubicBezTo>
                  <a:pt x="13769" y="10589"/>
                  <a:pt x="13805" y="10621"/>
                  <a:pt x="13891" y="10666"/>
                </a:cubicBezTo>
                <a:cubicBezTo>
                  <a:pt x="13980" y="10713"/>
                  <a:pt x="14055" y="10761"/>
                  <a:pt x="14139" y="10815"/>
                </a:cubicBezTo>
                <a:cubicBezTo>
                  <a:pt x="14173" y="10837"/>
                  <a:pt x="14265" y="10868"/>
                  <a:pt x="14288" y="10889"/>
                </a:cubicBezTo>
                <a:cubicBezTo>
                  <a:pt x="14303" y="10903"/>
                  <a:pt x="14345" y="10955"/>
                  <a:pt x="14362" y="10988"/>
                </a:cubicBezTo>
                <a:cubicBezTo>
                  <a:pt x="14412" y="11083"/>
                  <a:pt x="14496" y="11187"/>
                  <a:pt x="14536" y="11286"/>
                </a:cubicBezTo>
                <a:cubicBezTo>
                  <a:pt x="14581" y="11398"/>
                  <a:pt x="14629" y="11541"/>
                  <a:pt x="14660" y="11658"/>
                </a:cubicBezTo>
                <a:cubicBezTo>
                  <a:pt x="14681" y="11739"/>
                  <a:pt x="14682" y="11822"/>
                  <a:pt x="14684" y="11906"/>
                </a:cubicBezTo>
                <a:cubicBezTo>
                  <a:pt x="14687" y="12002"/>
                  <a:pt x="14669" y="12090"/>
                  <a:pt x="14660" y="12179"/>
                </a:cubicBezTo>
                <a:cubicBezTo>
                  <a:pt x="14654" y="12243"/>
                  <a:pt x="14679" y="12304"/>
                  <a:pt x="14635" y="12353"/>
                </a:cubicBezTo>
                <a:cubicBezTo>
                  <a:pt x="14612" y="12376"/>
                  <a:pt x="14604" y="12387"/>
                  <a:pt x="14610" y="12353"/>
                </a:cubicBezTo>
              </a:path>
              <a:path w="4217" h="2382">
                <a:moveTo>
                  <a:pt x="15081" y="11509"/>
                </a:moveTo>
                <a:cubicBezTo>
                  <a:pt x="15106" y="11509"/>
                  <a:pt x="15131" y="11509"/>
                  <a:pt x="15156" y="11509"/>
                </a:cubicBezTo>
                <a:cubicBezTo>
                  <a:pt x="15074" y="11525"/>
                  <a:pt x="14992" y="11565"/>
                  <a:pt x="14908" y="11584"/>
                </a:cubicBezTo>
                <a:cubicBezTo>
                  <a:pt x="14880" y="11584"/>
                  <a:pt x="14869" y="11586"/>
                  <a:pt x="14858" y="11609"/>
                </a:cubicBezTo>
                <a:cubicBezTo>
                  <a:pt x="14891" y="11684"/>
                  <a:pt x="14883" y="11768"/>
                  <a:pt x="14883" y="11857"/>
                </a:cubicBezTo>
                <a:cubicBezTo>
                  <a:pt x="14883" y="11865"/>
                  <a:pt x="14883" y="11873"/>
                  <a:pt x="14883" y="11881"/>
                </a:cubicBezTo>
                <a:cubicBezTo>
                  <a:pt x="14952" y="11864"/>
                  <a:pt x="15002" y="11797"/>
                  <a:pt x="15081" y="11782"/>
                </a:cubicBezTo>
                <a:cubicBezTo>
                  <a:pt x="15190" y="11762"/>
                  <a:pt x="15312" y="11830"/>
                  <a:pt x="15280" y="11956"/>
                </a:cubicBezTo>
                <a:cubicBezTo>
                  <a:pt x="15245" y="12094"/>
                  <a:pt x="15105" y="12160"/>
                  <a:pt x="14982" y="12129"/>
                </a:cubicBezTo>
                <a:cubicBezTo>
                  <a:pt x="14936" y="12117"/>
                  <a:pt x="14914" y="12086"/>
                  <a:pt x="14883" y="12055"/>
                </a:cubicBezTo>
              </a:path>
              <a:path w="4217" h="2382">
                <a:moveTo>
                  <a:pt x="15379" y="11584"/>
                </a:moveTo>
                <a:cubicBezTo>
                  <a:pt x="15404" y="11535"/>
                  <a:pt x="15420" y="11647"/>
                  <a:pt x="15429" y="11683"/>
                </a:cubicBezTo>
                <a:cubicBezTo>
                  <a:pt x="15453" y="11773"/>
                  <a:pt x="15380" y="11960"/>
                  <a:pt x="15429" y="12030"/>
                </a:cubicBezTo>
                <a:cubicBezTo>
                  <a:pt x="15483" y="12106"/>
                  <a:pt x="15636" y="12023"/>
                  <a:pt x="15677" y="11981"/>
                </a:cubicBezTo>
                <a:cubicBezTo>
                  <a:pt x="15718" y="11940"/>
                  <a:pt x="15740" y="11885"/>
                  <a:pt x="15751" y="11832"/>
                </a:cubicBezTo>
                <a:cubicBezTo>
                  <a:pt x="15662" y="11861"/>
                  <a:pt x="15600" y="11907"/>
                  <a:pt x="15577" y="12005"/>
                </a:cubicBezTo>
                <a:cubicBezTo>
                  <a:pt x="15577" y="12047"/>
                  <a:pt x="15569" y="12063"/>
                  <a:pt x="15602" y="12055"/>
                </a:cubicBezTo>
              </a:path>
              <a:path w="4217" h="2382">
                <a:moveTo>
                  <a:pt x="15801" y="11237"/>
                </a:moveTo>
                <a:cubicBezTo>
                  <a:pt x="15724" y="11280"/>
                  <a:pt x="15713" y="11354"/>
                  <a:pt x="15701" y="11460"/>
                </a:cubicBezTo>
                <a:cubicBezTo>
                  <a:pt x="15753" y="11447"/>
                  <a:pt x="15867" y="11398"/>
                  <a:pt x="15825" y="11311"/>
                </a:cubicBezTo>
                <a:cubicBezTo>
                  <a:pt x="15812" y="11284"/>
                  <a:pt x="15712" y="11332"/>
                  <a:pt x="15701" y="11336"/>
                </a:cubicBezTo>
              </a:path>
              <a:path w="4217" h="2382">
                <a:moveTo>
                  <a:pt x="11881" y="10691"/>
                </a:moveTo>
                <a:cubicBezTo>
                  <a:pt x="11881" y="10666"/>
                  <a:pt x="11881" y="10658"/>
                  <a:pt x="11906" y="10666"/>
                </a:cubicBezTo>
                <a:cubicBezTo>
                  <a:pt x="11845" y="10666"/>
                  <a:pt x="11764" y="10676"/>
                  <a:pt x="11708" y="10691"/>
                </a:cubicBezTo>
                <a:cubicBezTo>
                  <a:pt x="11636" y="10711"/>
                  <a:pt x="11619" y="10740"/>
                  <a:pt x="11609" y="10815"/>
                </a:cubicBezTo>
                <a:cubicBezTo>
                  <a:pt x="11604" y="10853"/>
                  <a:pt x="11609" y="10900"/>
                  <a:pt x="11609" y="10939"/>
                </a:cubicBezTo>
                <a:cubicBezTo>
                  <a:pt x="11669" y="10929"/>
                  <a:pt x="11771" y="10866"/>
                  <a:pt x="11832" y="10889"/>
                </a:cubicBezTo>
                <a:cubicBezTo>
                  <a:pt x="11916" y="10921"/>
                  <a:pt x="11980" y="11034"/>
                  <a:pt x="11906" y="11112"/>
                </a:cubicBezTo>
                <a:cubicBezTo>
                  <a:pt x="11841" y="11181"/>
                  <a:pt x="11704" y="11185"/>
                  <a:pt x="11633" y="11137"/>
                </a:cubicBezTo>
                <a:cubicBezTo>
                  <a:pt x="11625" y="11129"/>
                  <a:pt x="11617" y="11120"/>
                  <a:pt x="11609" y="11112"/>
                </a:cubicBezTo>
              </a:path>
              <a:path w="4217" h="2382">
                <a:moveTo>
                  <a:pt x="12005" y="10666"/>
                </a:moveTo>
                <a:cubicBezTo>
                  <a:pt x="12005" y="10778"/>
                  <a:pt x="11970" y="10935"/>
                  <a:pt x="11981" y="11038"/>
                </a:cubicBezTo>
                <a:cubicBezTo>
                  <a:pt x="12003" y="11061"/>
                  <a:pt x="12011" y="11066"/>
                  <a:pt x="12005" y="11088"/>
                </a:cubicBezTo>
                <a:cubicBezTo>
                  <a:pt x="12081" y="11104"/>
                  <a:pt x="12179" y="11102"/>
                  <a:pt x="12229" y="11013"/>
                </a:cubicBezTo>
                <a:cubicBezTo>
                  <a:pt x="12260" y="10957"/>
                  <a:pt x="12276" y="10926"/>
                  <a:pt x="12254" y="10914"/>
                </a:cubicBezTo>
                <a:cubicBezTo>
                  <a:pt x="12169" y="10926"/>
                  <a:pt x="12127" y="10970"/>
                  <a:pt x="12105" y="11063"/>
                </a:cubicBezTo>
                <a:cubicBezTo>
                  <a:pt x="12084" y="11151"/>
                  <a:pt x="12132" y="11126"/>
                  <a:pt x="12179" y="11112"/>
                </a:cubicBezTo>
              </a:path>
              <a:path w="4217" h="2382">
                <a:moveTo>
                  <a:pt x="12303" y="10418"/>
                </a:moveTo>
                <a:cubicBezTo>
                  <a:pt x="12273" y="10433"/>
                  <a:pt x="12215" y="10491"/>
                  <a:pt x="12229" y="10542"/>
                </a:cubicBezTo>
                <a:cubicBezTo>
                  <a:pt x="12237" y="10559"/>
                  <a:pt x="12246" y="10575"/>
                  <a:pt x="12254" y="10592"/>
                </a:cubicBezTo>
                <a:cubicBezTo>
                  <a:pt x="12319" y="10579"/>
                  <a:pt x="12346" y="10562"/>
                  <a:pt x="12353" y="10492"/>
                </a:cubicBezTo>
                <a:cubicBezTo>
                  <a:pt x="12358" y="10444"/>
                  <a:pt x="12311" y="10468"/>
                  <a:pt x="12278" y="104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49960" y="3286080"/>
            <a:ext cx="1036800" cy="1455840"/>
          </a:xfrm>
          <a:custGeom>
            <a:avLst/>
            <a:gdLst/>
            <a:ahLst/>
            <a:rect l="l" t="t" r="r" b="b"/>
            <a:pathLst>
              <a:path w="2879" h="4044">
                <a:moveTo>
                  <a:pt x="18058" y="10071"/>
                </a:moveTo>
                <a:cubicBezTo>
                  <a:pt x="18058" y="10238"/>
                  <a:pt x="18079" y="10400"/>
                  <a:pt x="18083" y="10567"/>
                </a:cubicBezTo>
                <a:cubicBezTo>
                  <a:pt x="18085" y="10681"/>
                  <a:pt x="18046" y="10706"/>
                  <a:pt x="18132" y="10691"/>
                </a:cubicBezTo>
              </a:path>
              <a:path w="2879" h="4044">
                <a:moveTo>
                  <a:pt x="18728" y="10096"/>
                </a:moveTo>
                <a:cubicBezTo>
                  <a:pt x="18627" y="10156"/>
                  <a:pt x="18456" y="10257"/>
                  <a:pt x="18405" y="10368"/>
                </a:cubicBezTo>
                <a:cubicBezTo>
                  <a:pt x="18344" y="10501"/>
                  <a:pt x="18664" y="10565"/>
                  <a:pt x="18728" y="10641"/>
                </a:cubicBezTo>
                <a:cubicBezTo>
                  <a:pt x="18736" y="10666"/>
                  <a:pt x="18744" y="10691"/>
                  <a:pt x="18752" y="10716"/>
                </a:cubicBezTo>
                <a:cubicBezTo>
                  <a:pt x="18653" y="10793"/>
                  <a:pt x="18657" y="10782"/>
                  <a:pt x="18529" y="10765"/>
                </a:cubicBezTo>
                <a:cubicBezTo>
                  <a:pt x="18548" y="10563"/>
                  <a:pt x="18607" y="10405"/>
                  <a:pt x="18678" y="10220"/>
                </a:cubicBezTo>
                <a:cubicBezTo>
                  <a:pt x="18678" y="10185"/>
                  <a:pt x="18669" y="10181"/>
                  <a:pt x="18628" y="10220"/>
                </a:cubicBezTo>
              </a:path>
              <a:path w="2879" h="4044">
                <a:moveTo>
                  <a:pt x="19124" y="10120"/>
                </a:moveTo>
                <a:cubicBezTo>
                  <a:pt x="19124" y="10027"/>
                  <a:pt x="19082" y="10252"/>
                  <a:pt x="19075" y="10344"/>
                </a:cubicBezTo>
                <a:cubicBezTo>
                  <a:pt x="19064" y="10489"/>
                  <a:pt x="19076" y="10736"/>
                  <a:pt x="19298" y="10666"/>
                </a:cubicBezTo>
                <a:cubicBezTo>
                  <a:pt x="19468" y="10612"/>
                  <a:pt x="19633" y="10369"/>
                  <a:pt x="19521" y="10195"/>
                </a:cubicBezTo>
                <a:cubicBezTo>
                  <a:pt x="19417" y="10034"/>
                  <a:pt x="19233" y="10095"/>
                  <a:pt x="19124" y="10170"/>
                </a:cubicBezTo>
              </a:path>
              <a:path w="2879" h="4044">
                <a:moveTo>
                  <a:pt x="17462" y="11509"/>
                </a:moveTo>
                <a:cubicBezTo>
                  <a:pt x="17567" y="11530"/>
                  <a:pt x="17625" y="11499"/>
                  <a:pt x="17735" y="11485"/>
                </a:cubicBezTo>
                <a:cubicBezTo>
                  <a:pt x="17793" y="11485"/>
                  <a:pt x="17802" y="11485"/>
                  <a:pt x="17835" y="11485"/>
                </a:cubicBezTo>
              </a:path>
              <a:path w="2879" h="4044">
                <a:moveTo>
                  <a:pt x="18331" y="11187"/>
                </a:moveTo>
                <a:cubicBezTo>
                  <a:pt x="18353" y="11326"/>
                  <a:pt x="18394" y="11466"/>
                  <a:pt x="18405" y="11609"/>
                </a:cubicBezTo>
                <a:cubicBezTo>
                  <a:pt x="18411" y="11691"/>
                  <a:pt x="18405" y="11840"/>
                  <a:pt x="18405" y="11757"/>
                </a:cubicBezTo>
              </a:path>
              <a:path w="2879" h="4044">
                <a:moveTo>
                  <a:pt x="18653" y="11261"/>
                </a:moveTo>
                <a:cubicBezTo>
                  <a:pt x="18728" y="11219"/>
                  <a:pt x="18896" y="11161"/>
                  <a:pt x="18976" y="11237"/>
                </a:cubicBezTo>
                <a:cubicBezTo>
                  <a:pt x="19074" y="11330"/>
                  <a:pt x="18905" y="11543"/>
                  <a:pt x="18852" y="11609"/>
                </a:cubicBezTo>
                <a:cubicBezTo>
                  <a:pt x="18813" y="11647"/>
                  <a:pt x="18796" y="11649"/>
                  <a:pt x="18802" y="11683"/>
                </a:cubicBezTo>
                <a:cubicBezTo>
                  <a:pt x="18871" y="11706"/>
                  <a:pt x="18994" y="11672"/>
                  <a:pt x="19075" y="11633"/>
                </a:cubicBezTo>
                <a:cubicBezTo>
                  <a:pt x="19083" y="11625"/>
                  <a:pt x="19092" y="11617"/>
                  <a:pt x="19100" y="11609"/>
                </a:cubicBezTo>
              </a:path>
              <a:path w="2879" h="4044">
                <a:moveTo>
                  <a:pt x="19248" y="11088"/>
                </a:moveTo>
                <a:cubicBezTo>
                  <a:pt x="19223" y="11190"/>
                  <a:pt x="19206" y="11289"/>
                  <a:pt x="19273" y="11385"/>
                </a:cubicBezTo>
                <a:cubicBezTo>
                  <a:pt x="19336" y="11474"/>
                  <a:pt x="19524" y="11400"/>
                  <a:pt x="19596" y="11336"/>
                </a:cubicBezTo>
                <a:cubicBezTo>
                  <a:pt x="19604" y="11319"/>
                  <a:pt x="19613" y="11303"/>
                  <a:pt x="19621" y="11286"/>
                </a:cubicBezTo>
              </a:path>
              <a:path w="2879" h="4044">
                <a:moveTo>
                  <a:pt x="19521" y="10864"/>
                </a:moveTo>
                <a:cubicBezTo>
                  <a:pt x="19531" y="11070"/>
                  <a:pt x="19581" y="11258"/>
                  <a:pt x="19621" y="11460"/>
                </a:cubicBezTo>
                <a:cubicBezTo>
                  <a:pt x="19638" y="11548"/>
                  <a:pt x="19669" y="11597"/>
                  <a:pt x="19645" y="11658"/>
                </a:cubicBezTo>
              </a:path>
              <a:path w="2879" h="4044">
                <a:moveTo>
                  <a:pt x="17363" y="12129"/>
                </a:moveTo>
                <a:cubicBezTo>
                  <a:pt x="17474" y="12075"/>
                  <a:pt x="17536" y="12067"/>
                  <a:pt x="17661" y="12055"/>
                </a:cubicBezTo>
                <a:cubicBezTo>
                  <a:pt x="18174" y="12006"/>
                  <a:pt x="18683" y="11960"/>
                  <a:pt x="19199" y="11956"/>
                </a:cubicBezTo>
                <a:cubicBezTo>
                  <a:pt x="19532" y="11953"/>
                  <a:pt x="19863" y="11975"/>
                  <a:pt x="20191" y="12005"/>
                </a:cubicBezTo>
                <a:cubicBezTo>
                  <a:pt x="20216" y="12005"/>
                  <a:pt x="20224" y="12005"/>
                  <a:pt x="20241" y="12005"/>
                </a:cubicBezTo>
              </a:path>
              <a:path w="2879" h="4044">
                <a:moveTo>
                  <a:pt x="18405" y="10220"/>
                </a:moveTo>
                <a:cubicBezTo>
                  <a:pt x="18430" y="10187"/>
                  <a:pt x="18444" y="10143"/>
                  <a:pt x="18430" y="10096"/>
                </a:cubicBezTo>
                <a:cubicBezTo>
                  <a:pt x="18410" y="10055"/>
                  <a:pt x="18401" y="10049"/>
                  <a:pt x="18405" y="10021"/>
                </a:cubicBezTo>
                <a:cubicBezTo>
                  <a:pt x="18483" y="10153"/>
                  <a:pt x="18643" y="10262"/>
                  <a:pt x="18728" y="10418"/>
                </a:cubicBezTo>
                <a:cubicBezTo>
                  <a:pt x="18732" y="10424"/>
                  <a:pt x="18890" y="10790"/>
                  <a:pt x="18901" y="10790"/>
                </a:cubicBezTo>
                <a:cubicBezTo>
                  <a:pt x="18901" y="10782"/>
                  <a:pt x="18901" y="10773"/>
                  <a:pt x="18901" y="10765"/>
                </a:cubicBezTo>
              </a:path>
              <a:path w="2879" h="4044">
                <a:moveTo>
                  <a:pt x="18182" y="9203"/>
                </a:moveTo>
                <a:cubicBezTo>
                  <a:pt x="18303" y="9203"/>
                  <a:pt x="18408" y="9197"/>
                  <a:pt x="18529" y="9178"/>
                </a:cubicBezTo>
                <a:cubicBezTo>
                  <a:pt x="18654" y="9157"/>
                  <a:pt x="18681" y="9156"/>
                  <a:pt x="18752" y="9128"/>
                </a:cubicBezTo>
                <a:cubicBezTo>
                  <a:pt x="18752" y="9305"/>
                  <a:pt x="18744" y="9474"/>
                  <a:pt x="18728" y="9649"/>
                </a:cubicBezTo>
                <a:cubicBezTo>
                  <a:pt x="18728" y="9690"/>
                  <a:pt x="18719" y="9707"/>
                  <a:pt x="18752" y="9699"/>
                </a:cubicBezTo>
              </a:path>
              <a:path w="2879" h="4044">
                <a:moveTo>
                  <a:pt x="19000" y="9277"/>
                </a:moveTo>
                <a:cubicBezTo>
                  <a:pt x="19000" y="9426"/>
                  <a:pt x="19000" y="9574"/>
                  <a:pt x="19000" y="9723"/>
                </a:cubicBezTo>
              </a:path>
              <a:path w="2879" h="4044">
                <a:moveTo>
                  <a:pt x="19546" y="12551"/>
                </a:moveTo>
                <a:cubicBezTo>
                  <a:pt x="19546" y="12501"/>
                  <a:pt x="19522" y="12799"/>
                  <a:pt x="19521" y="12824"/>
                </a:cubicBezTo>
                <a:cubicBezTo>
                  <a:pt x="19520" y="12894"/>
                  <a:pt x="19476" y="13138"/>
                  <a:pt x="19571" y="13171"/>
                </a:cubicBezTo>
                <a:cubicBezTo>
                  <a:pt x="19704" y="13217"/>
                  <a:pt x="19876" y="13100"/>
                  <a:pt x="19968" y="13022"/>
                </a:cubicBezTo>
                <a:cubicBezTo>
                  <a:pt x="20035" y="12966"/>
                  <a:pt x="20055" y="12922"/>
                  <a:pt x="20092" y="12849"/>
                </a:cubicBezTo>
                <a:cubicBezTo>
                  <a:pt x="20035" y="12807"/>
                  <a:pt x="19965" y="12803"/>
                  <a:pt x="19918" y="12874"/>
                </a:cubicBezTo>
                <a:cubicBezTo>
                  <a:pt x="19880" y="12931"/>
                  <a:pt x="19893" y="13008"/>
                  <a:pt x="19893" y="13072"/>
                </a:cubicBezTo>
              </a:path>
              <a:path w="2879" h="4044">
                <a:moveTo>
                  <a:pt x="19273" y="12477"/>
                </a:moveTo>
                <a:cubicBezTo>
                  <a:pt x="19193" y="12477"/>
                  <a:pt x="19131" y="12517"/>
                  <a:pt x="19050" y="12526"/>
                </a:cubicBezTo>
                <a:cubicBezTo>
                  <a:pt x="19025" y="12526"/>
                  <a:pt x="19017" y="12526"/>
                  <a:pt x="19000" y="12526"/>
                </a:cubicBezTo>
                <a:cubicBezTo>
                  <a:pt x="18987" y="12621"/>
                  <a:pt x="18957" y="12704"/>
                  <a:pt x="18951" y="12799"/>
                </a:cubicBezTo>
                <a:cubicBezTo>
                  <a:pt x="18951" y="12824"/>
                  <a:pt x="18951" y="12832"/>
                  <a:pt x="18951" y="12849"/>
                </a:cubicBezTo>
                <a:cubicBezTo>
                  <a:pt x="19039" y="12809"/>
                  <a:pt x="19146" y="12752"/>
                  <a:pt x="19224" y="12849"/>
                </a:cubicBezTo>
                <a:cubicBezTo>
                  <a:pt x="19322" y="12971"/>
                  <a:pt x="19204" y="13092"/>
                  <a:pt x="19100" y="13146"/>
                </a:cubicBezTo>
                <a:cubicBezTo>
                  <a:pt x="19029" y="13183"/>
                  <a:pt x="18987" y="13177"/>
                  <a:pt x="18926" y="131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27160" y="4179960"/>
            <a:ext cx="419040" cy="446040"/>
          </a:xfrm>
          <a:custGeom>
            <a:avLst/>
            <a:gdLst/>
            <a:ahLst/>
            <a:rect l="l" t="t" r="r" b="b"/>
            <a:pathLst>
              <a:path w="1166" h="1241">
                <a:moveTo>
                  <a:pt x="5655" y="12328"/>
                </a:moveTo>
                <a:cubicBezTo>
                  <a:pt x="5644" y="12387"/>
                  <a:pt x="5702" y="12635"/>
                  <a:pt x="5705" y="12750"/>
                </a:cubicBezTo>
                <a:cubicBezTo>
                  <a:pt x="5706" y="12791"/>
                  <a:pt x="5705" y="12865"/>
                  <a:pt x="5705" y="12824"/>
                </a:cubicBezTo>
              </a:path>
              <a:path w="1166" h="1241">
                <a:moveTo>
                  <a:pt x="5879" y="12229"/>
                </a:moveTo>
                <a:cubicBezTo>
                  <a:pt x="5913" y="12195"/>
                  <a:pt x="5964" y="12439"/>
                  <a:pt x="5978" y="12502"/>
                </a:cubicBezTo>
                <a:cubicBezTo>
                  <a:pt x="5998" y="12594"/>
                  <a:pt x="6004" y="12651"/>
                  <a:pt x="6052" y="12725"/>
                </a:cubicBezTo>
              </a:path>
              <a:path w="1166" h="1241">
                <a:moveTo>
                  <a:pt x="6102" y="12129"/>
                </a:moveTo>
                <a:cubicBezTo>
                  <a:pt x="6200" y="12110"/>
                  <a:pt x="6281" y="12039"/>
                  <a:pt x="6375" y="12005"/>
                </a:cubicBezTo>
                <a:cubicBezTo>
                  <a:pt x="6465" y="11983"/>
                  <a:pt x="6489" y="11975"/>
                  <a:pt x="6548" y="11981"/>
                </a:cubicBezTo>
                <a:cubicBezTo>
                  <a:pt x="6586" y="12200"/>
                  <a:pt x="6598" y="12404"/>
                  <a:pt x="6598" y="12626"/>
                </a:cubicBezTo>
                <a:cubicBezTo>
                  <a:pt x="6598" y="12634"/>
                  <a:pt x="6598" y="12642"/>
                  <a:pt x="6598" y="12650"/>
                </a:cubicBezTo>
              </a:path>
              <a:path w="1166" h="1241">
                <a:moveTo>
                  <a:pt x="6747" y="11633"/>
                </a:moveTo>
                <a:cubicBezTo>
                  <a:pt x="6714" y="11710"/>
                  <a:pt x="6705" y="11688"/>
                  <a:pt x="6772" y="11733"/>
                </a:cubicBezTo>
                <a:cubicBezTo>
                  <a:pt x="6779" y="11686"/>
                  <a:pt x="6827" y="11616"/>
                  <a:pt x="6772" y="11609"/>
                </a:cubicBezTo>
                <a:cubicBezTo>
                  <a:pt x="6726" y="11609"/>
                  <a:pt x="6705" y="11627"/>
                  <a:pt x="6697" y="116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95320" y="4759200"/>
            <a:ext cx="392400" cy="331920"/>
          </a:xfrm>
          <a:custGeom>
            <a:avLst/>
            <a:gdLst/>
            <a:ahLst/>
            <a:rect l="l" t="t" r="r" b="b"/>
            <a:pathLst>
              <a:path w="1092" h="919">
                <a:moveTo>
                  <a:pt x="5308" y="13295"/>
                </a:moveTo>
                <a:cubicBezTo>
                  <a:pt x="5234" y="13332"/>
                  <a:pt x="5178" y="13461"/>
                  <a:pt x="5135" y="13543"/>
                </a:cubicBezTo>
                <a:cubicBezTo>
                  <a:pt x="5054" y="13698"/>
                  <a:pt x="4965" y="13840"/>
                  <a:pt x="5011" y="14015"/>
                </a:cubicBezTo>
                <a:cubicBezTo>
                  <a:pt x="5034" y="14102"/>
                  <a:pt x="5146" y="14169"/>
                  <a:pt x="5234" y="14139"/>
                </a:cubicBezTo>
                <a:cubicBezTo>
                  <a:pt x="5329" y="14107"/>
                  <a:pt x="5407" y="13995"/>
                  <a:pt x="5457" y="13915"/>
                </a:cubicBezTo>
                <a:cubicBezTo>
                  <a:pt x="5442" y="13872"/>
                  <a:pt x="5384" y="13858"/>
                  <a:pt x="5333" y="13891"/>
                </a:cubicBezTo>
                <a:cubicBezTo>
                  <a:pt x="5307" y="13908"/>
                  <a:pt x="5209" y="14111"/>
                  <a:pt x="5234" y="14114"/>
                </a:cubicBezTo>
                <a:cubicBezTo>
                  <a:pt x="5250" y="14106"/>
                  <a:pt x="5267" y="14097"/>
                  <a:pt x="5283" y="14089"/>
                </a:cubicBezTo>
              </a:path>
              <a:path w="1092" h="919">
                <a:moveTo>
                  <a:pt x="5581" y="13469"/>
                </a:moveTo>
                <a:cubicBezTo>
                  <a:pt x="5597" y="13406"/>
                  <a:pt x="5652" y="13405"/>
                  <a:pt x="5705" y="13370"/>
                </a:cubicBezTo>
                <a:cubicBezTo>
                  <a:pt x="5729" y="13527"/>
                  <a:pt x="5678" y="13541"/>
                  <a:pt x="5606" y="13667"/>
                </a:cubicBezTo>
                <a:cubicBezTo>
                  <a:pt x="5606" y="13692"/>
                  <a:pt x="5606" y="13700"/>
                  <a:pt x="5581" y="13692"/>
                </a:cubicBezTo>
                <a:cubicBezTo>
                  <a:pt x="5635" y="13692"/>
                  <a:pt x="5681" y="13678"/>
                  <a:pt x="5705" y="13717"/>
                </a:cubicBezTo>
                <a:cubicBezTo>
                  <a:pt x="5772" y="13827"/>
                  <a:pt x="5660" y="13934"/>
                  <a:pt x="5556" y="13965"/>
                </a:cubicBezTo>
                <a:cubicBezTo>
                  <a:pt x="5490" y="13985"/>
                  <a:pt x="5435" y="13952"/>
                  <a:pt x="5407" y="13915"/>
                </a:cubicBezTo>
              </a:path>
              <a:path w="1092" h="919">
                <a:moveTo>
                  <a:pt x="5978" y="13246"/>
                </a:moveTo>
                <a:cubicBezTo>
                  <a:pt x="5881" y="13282"/>
                  <a:pt x="5866" y="13335"/>
                  <a:pt x="5854" y="13444"/>
                </a:cubicBezTo>
                <a:cubicBezTo>
                  <a:pt x="5968" y="13425"/>
                  <a:pt x="6031" y="13400"/>
                  <a:pt x="6077" y="13295"/>
                </a:cubicBezTo>
                <a:cubicBezTo>
                  <a:pt x="6118" y="13203"/>
                  <a:pt x="5959" y="13227"/>
                  <a:pt x="5928" y="132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25840" y="4062240"/>
            <a:ext cx="482400" cy="411480"/>
          </a:xfrm>
          <a:custGeom>
            <a:avLst/>
            <a:gdLst/>
            <a:ahLst/>
            <a:rect l="l" t="t" r="r" b="b"/>
            <a:pathLst>
              <a:path w="1340" h="1142">
                <a:moveTo>
                  <a:pt x="7293" y="12129"/>
                </a:moveTo>
                <a:cubicBezTo>
                  <a:pt x="7346" y="12129"/>
                  <a:pt x="7378" y="12119"/>
                  <a:pt x="7417" y="12154"/>
                </a:cubicBezTo>
                <a:cubicBezTo>
                  <a:pt x="7440" y="12175"/>
                  <a:pt x="7530" y="12277"/>
                  <a:pt x="7541" y="12303"/>
                </a:cubicBezTo>
                <a:cubicBezTo>
                  <a:pt x="7562" y="12354"/>
                  <a:pt x="7555" y="12381"/>
                  <a:pt x="7590" y="12427"/>
                </a:cubicBezTo>
              </a:path>
              <a:path w="1340" h="1142">
                <a:moveTo>
                  <a:pt x="7789" y="11733"/>
                </a:moveTo>
                <a:cubicBezTo>
                  <a:pt x="7764" y="11741"/>
                  <a:pt x="7722" y="11790"/>
                  <a:pt x="7714" y="11832"/>
                </a:cubicBezTo>
                <a:cubicBezTo>
                  <a:pt x="7703" y="11894"/>
                  <a:pt x="7668" y="11969"/>
                  <a:pt x="7665" y="12030"/>
                </a:cubicBezTo>
                <a:cubicBezTo>
                  <a:pt x="7663" y="12076"/>
                  <a:pt x="7666" y="12151"/>
                  <a:pt x="7714" y="12154"/>
                </a:cubicBezTo>
                <a:cubicBezTo>
                  <a:pt x="7795" y="12159"/>
                  <a:pt x="7920" y="12127"/>
                  <a:pt x="7987" y="12080"/>
                </a:cubicBezTo>
                <a:cubicBezTo>
                  <a:pt x="8045" y="12040"/>
                  <a:pt x="8037" y="12033"/>
                  <a:pt x="8037" y="11981"/>
                </a:cubicBezTo>
                <a:cubicBezTo>
                  <a:pt x="8000" y="11981"/>
                  <a:pt x="7914" y="11966"/>
                  <a:pt x="7888" y="12005"/>
                </a:cubicBezTo>
                <a:cubicBezTo>
                  <a:pt x="7840" y="12076"/>
                  <a:pt x="7788" y="12324"/>
                  <a:pt x="7838" y="12254"/>
                </a:cubicBezTo>
                <a:cubicBezTo>
                  <a:pt x="7846" y="12229"/>
                  <a:pt x="7855" y="12204"/>
                  <a:pt x="7863" y="12179"/>
                </a:cubicBezTo>
              </a:path>
              <a:path w="1340" h="1142">
                <a:moveTo>
                  <a:pt x="8062" y="11708"/>
                </a:moveTo>
                <a:cubicBezTo>
                  <a:pt x="8080" y="11652"/>
                  <a:pt x="8178" y="11642"/>
                  <a:pt x="8235" y="11609"/>
                </a:cubicBezTo>
                <a:cubicBezTo>
                  <a:pt x="8260" y="11584"/>
                  <a:pt x="8268" y="11576"/>
                  <a:pt x="8285" y="11609"/>
                </a:cubicBezTo>
                <a:cubicBezTo>
                  <a:pt x="8274" y="11723"/>
                  <a:pt x="8265" y="11834"/>
                  <a:pt x="8161" y="11906"/>
                </a:cubicBezTo>
                <a:cubicBezTo>
                  <a:pt x="8153" y="11906"/>
                  <a:pt x="8144" y="11906"/>
                  <a:pt x="8136" y="11906"/>
                </a:cubicBezTo>
                <a:cubicBezTo>
                  <a:pt x="8206" y="11906"/>
                  <a:pt x="8259" y="11853"/>
                  <a:pt x="8334" y="11881"/>
                </a:cubicBezTo>
                <a:cubicBezTo>
                  <a:pt x="8432" y="11918"/>
                  <a:pt x="8461" y="12045"/>
                  <a:pt x="8359" y="12105"/>
                </a:cubicBezTo>
                <a:cubicBezTo>
                  <a:pt x="8248" y="12170"/>
                  <a:pt x="8143" y="12099"/>
                  <a:pt x="8062" y="12030"/>
                </a:cubicBezTo>
              </a:path>
              <a:path w="1340" h="1142">
                <a:moveTo>
                  <a:pt x="8533" y="11336"/>
                </a:moveTo>
                <a:cubicBezTo>
                  <a:pt x="8497" y="11300"/>
                  <a:pt x="8502" y="11385"/>
                  <a:pt x="8508" y="11410"/>
                </a:cubicBezTo>
                <a:cubicBezTo>
                  <a:pt x="8508" y="11418"/>
                  <a:pt x="8508" y="11427"/>
                  <a:pt x="8508" y="11435"/>
                </a:cubicBezTo>
                <a:cubicBezTo>
                  <a:pt x="8587" y="11424"/>
                  <a:pt x="8611" y="11410"/>
                  <a:pt x="8632" y="11336"/>
                </a:cubicBezTo>
                <a:cubicBezTo>
                  <a:pt x="8565" y="11282"/>
                  <a:pt x="8551" y="11282"/>
                  <a:pt x="8483" y="113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90840" y="4749840"/>
            <a:ext cx="349200" cy="331920"/>
          </a:xfrm>
          <a:custGeom>
            <a:avLst/>
            <a:gdLst/>
            <a:ahLst/>
            <a:rect l="l" t="t" r="r" b="b"/>
            <a:pathLst>
              <a:path w="968" h="919">
                <a:moveTo>
                  <a:pt x="6921" y="13568"/>
                </a:moveTo>
                <a:cubicBezTo>
                  <a:pt x="6921" y="13713"/>
                  <a:pt x="6940" y="13848"/>
                  <a:pt x="6970" y="13990"/>
                </a:cubicBezTo>
                <a:cubicBezTo>
                  <a:pt x="6982" y="14045"/>
                  <a:pt x="7000" y="14187"/>
                  <a:pt x="7020" y="14064"/>
                </a:cubicBezTo>
              </a:path>
              <a:path w="968" h="919">
                <a:moveTo>
                  <a:pt x="7193" y="13494"/>
                </a:moveTo>
                <a:cubicBezTo>
                  <a:pt x="7235" y="13521"/>
                  <a:pt x="7294" y="13698"/>
                  <a:pt x="7317" y="13767"/>
                </a:cubicBezTo>
                <a:cubicBezTo>
                  <a:pt x="7327" y="13796"/>
                  <a:pt x="7367" y="14079"/>
                  <a:pt x="7367" y="13940"/>
                </a:cubicBezTo>
              </a:path>
              <a:path w="968" h="919">
                <a:moveTo>
                  <a:pt x="7417" y="13345"/>
                </a:moveTo>
                <a:cubicBezTo>
                  <a:pt x="7509" y="13326"/>
                  <a:pt x="7581" y="13260"/>
                  <a:pt x="7665" y="13221"/>
                </a:cubicBezTo>
                <a:cubicBezTo>
                  <a:pt x="7690" y="13213"/>
                  <a:pt x="7714" y="13204"/>
                  <a:pt x="7739" y="13196"/>
                </a:cubicBezTo>
                <a:cubicBezTo>
                  <a:pt x="7792" y="13337"/>
                  <a:pt x="7825" y="13466"/>
                  <a:pt x="7863" y="13618"/>
                </a:cubicBezTo>
                <a:cubicBezTo>
                  <a:pt x="7885" y="13683"/>
                  <a:pt x="7893" y="13698"/>
                  <a:pt x="7888" y="137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01960" y="4626000"/>
            <a:ext cx="54000" cy="34920"/>
          </a:xfrm>
          <a:custGeom>
            <a:avLst/>
            <a:gdLst/>
            <a:ahLst/>
            <a:rect l="l" t="t" r="r" b="b"/>
            <a:pathLst>
              <a:path w="149" h="100">
                <a:moveTo>
                  <a:pt x="8111" y="12849"/>
                </a:moveTo>
                <a:cubicBezTo>
                  <a:pt x="8061" y="12874"/>
                  <a:pt x="8069" y="12888"/>
                  <a:pt x="8062" y="12948"/>
                </a:cubicBezTo>
                <a:cubicBezTo>
                  <a:pt x="8109" y="12948"/>
                  <a:pt x="8217" y="12950"/>
                  <a:pt x="8210" y="12874"/>
                </a:cubicBezTo>
                <a:cubicBezTo>
                  <a:pt x="8176" y="12838"/>
                  <a:pt x="8154" y="12835"/>
                  <a:pt x="8111" y="128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040" y="2232000"/>
            <a:ext cx="546120" cy="822240"/>
          </a:xfrm>
          <a:custGeom>
            <a:avLst/>
            <a:gdLst/>
            <a:ahLst/>
            <a:rect l="l" t="t" r="r" b="b"/>
            <a:pathLst>
              <a:path w="1514" h="2283">
                <a:moveTo>
                  <a:pt x="1910" y="6251"/>
                </a:moveTo>
                <a:cubicBezTo>
                  <a:pt x="1889" y="6187"/>
                  <a:pt x="1815" y="6244"/>
                  <a:pt x="1761" y="6251"/>
                </a:cubicBezTo>
                <a:cubicBezTo>
                  <a:pt x="1723" y="6256"/>
                  <a:pt x="1635" y="6254"/>
                  <a:pt x="1612" y="6300"/>
                </a:cubicBezTo>
                <a:cubicBezTo>
                  <a:pt x="1580" y="6366"/>
                  <a:pt x="1520" y="6451"/>
                  <a:pt x="1513" y="6524"/>
                </a:cubicBezTo>
                <a:cubicBezTo>
                  <a:pt x="1513" y="6532"/>
                  <a:pt x="1513" y="6540"/>
                  <a:pt x="1513" y="6548"/>
                </a:cubicBezTo>
                <a:cubicBezTo>
                  <a:pt x="1606" y="6533"/>
                  <a:pt x="1692" y="6499"/>
                  <a:pt x="1786" y="6548"/>
                </a:cubicBezTo>
                <a:cubicBezTo>
                  <a:pt x="1882" y="6598"/>
                  <a:pt x="1844" y="6716"/>
                  <a:pt x="1761" y="6747"/>
                </a:cubicBezTo>
                <a:cubicBezTo>
                  <a:pt x="1673" y="6780"/>
                  <a:pt x="1470" y="6812"/>
                  <a:pt x="1389" y="6747"/>
                </a:cubicBezTo>
                <a:cubicBezTo>
                  <a:pt x="1389" y="6739"/>
                  <a:pt x="1389" y="6730"/>
                  <a:pt x="1389" y="6722"/>
                </a:cubicBezTo>
              </a:path>
              <a:path w="1514" h="2283">
                <a:moveTo>
                  <a:pt x="2108" y="6201"/>
                </a:moveTo>
                <a:cubicBezTo>
                  <a:pt x="2108" y="6338"/>
                  <a:pt x="2096" y="6463"/>
                  <a:pt x="2084" y="6598"/>
                </a:cubicBezTo>
                <a:cubicBezTo>
                  <a:pt x="2078" y="6667"/>
                  <a:pt x="2075" y="6677"/>
                  <a:pt x="2108" y="6722"/>
                </a:cubicBezTo>
                <a:cubicBezTo>
                  <a:pt x="2244" y="6703"/>
                  <a:pt x="2368" y="6660"/>
                  <a:pt x="2480" y="6573"/>
                </a:cubicBezTo>
                <a:cubicBezTo>
                  <a:pt x="2537" y="6529"/>
                  <a:pt x="2530" y="6529"/>
                  <a:pt x="2530" y="6474"/>
                </a:cubicBezTo>
                <a:cubicBezTo>
                  <a:pt x="2421" y="6433"/>
                  <a:pt x="2368" y="6431"/>
                  <a:pt x="2282" y="6524"/>
                </a:cubicBezTo>
                <a:cubicBezTo>
                  <a:pt x="2224" y="6587"/>
                  <a:pt x="2216" y="6644"/>
                  <a:pt x="2208" y="6722"/>
                </a:cubicBezTo>
              </a:path>
              <a:path w="1514" h="2283">
                <a:moveTo>
                  <a:pt x="1637" y="6921"/>
                </a:moveTo>
                <a:cubicBezTo>
                  <a:pt x="1637" y="7002"/>
                  <a:pt x="1614" y="7066"/>
                  <a:pt x="1588" y="7144"/>
                </a:cubicBezTo>
                <a:cubicBezTo>
                  <a:pt x="1569" y="7200"/>
                  <a:pt x="1517" y="7279"/>
                  <a:pt x="1538" y="7342"/>
                </a:cubicBezTo>
                <a:cubicBezTo>
                  <a:pt x="1562" y="7414"/>
                  <a:pt x="1664" y="7428"/>
                  <a:pt x="1736" y="7417"/>
                </a:cubicBezTo>
                <a:cubicBezTo>
                  <a:pt x="1851" y="7400"/>
                  <a:pt x="1864" y="7322"/>
                  <a:pt x="1935" y="7268"/>
                </a:cubicBezTo>
                <a:cubicBezTo>
                  <a:pt x="1943" y="7268"/>
                  <a:pt x="1952" y="7268"/>
                  <a:pt x="1960" y="7268"/>
                </a:cubicBezTo>
                <a:cubicBezTo>
                  <a:pt x="1906" y="7214"/>
                  <a:pt x="1896" y="7213"/>
                  <a:pt x="1836" y="7268"/>
                </a:cubicBezTo>
                <a:cubicBezTo>
                  <a:pt x="1777" y="7323"/>
                  <a:pt x="1716" y="7376"/>
                  <a:pt x="1811" y="7392"/>
                </a:cubicBezTo>
              </a:path>
              <a:path w="1514" h="2283">
                <a:moveTo>
                  <a:pt x="2257" y="6970"/>
                </a:moveTo>
                <a:cubicBezTo>
                  <a:pt x="2242" y="7058"/>
                  <a:pt x="2225" y="7156"/>
                  <a:pt x="2208" y="7243"/>
                </a:cubicBezTo>
                <a:cubicBezTo>
                  <a:pt x="2194" y="7312"/>
                  <a:pt x="2183" y="7347"/>
                  <a:pt x="2183" y="7417"/>
                </a:cubicBezTo>
              </a:path>
              <a:path w="1514" h="2283">
                <a:moveTo>
                  <a:pt x="1166" y="7714"/>
                </a:moveTo>
                <a:cubicBezTo>
                  <a:pt x="1243" y="7705"/>
                  <a:pt x="1287" y="7691"/>
                  <a:pt x="1364" y="7665"/>
                </a:cubicBezTo>
                <a:cubicBezTo>
                  <a:pt x="1541" y="7604"/>
                  <a:pt x="1698" y="7568"/>
                  <a:pt x="1885" y="7541"/>
                </a:cubicBezTo>
                <a:cubicBezTo>
                  <a:pt x="2102" y="7510"/>
                  <a:pt x="2314" y="7508"/>
                  <a:pt x="2530" y="7466"/>
                </a:cubicBezTo>
                <a:cubicBezTo>
                  <a:pt x="2621" y="7448"/>
                  <a:pt x="2628" y="7439"/>
                  <a:pt x="2679" y="7441"/>
                </a:cubicBezTo>
              </a:path>
              <a:path w="1514" h="2283">
                <a:moveTo>
                  <a:pt x="1364" y="7020"/>
                </a:moveTo>
                <a:cubicBezTo>
                  <a:pt x="1425" y="7040"/>
                  <a:pt x="1380" y="7138"/>
                  <a:pt x="1364" y="7193"/>
                </a:cubicBezTo>
                <a:cubicBezTo>
                  <a:pt x="1356" y="7218"/>
                  <a:pt x="1347" y="7243"/>
                  <a:pt x="1339" y="7268"/>
                </a:cubicBezTo>
              </a:path>
              <a:path w="1514" h="2283">
                <a:moveTo>
                  <a:pt x="1191" y="7268"/>
                </a:moveTo>
                <a:cubicBezTo>
                  <a:pt x="1265" y="7253"/>
                  <a:pt x="1374" y="7208"/>
                  <a:pt x="1414" y="7193"/>
                </a:cubicBezTo>
                <a:cubicBezTo>
                  <a:pt x="1439" y="7193"/>
                  <a:pt x="1447" y="7193"/>
                  <a:pt x="1439" y="7218"/>
                </a:cubicBezTo>
              </a:path>
              <a:path w="1514" h="2283">
                <a:moveTo>
                  <a:pt x="1339" y="7938"/>
                </a:moveTo>
                <a:cubicBezTo>
                  <a:pt x="1339" y="7851"/>
                  <a:pt x="1314" y="8053"/>
                  <a:pt x="1290" y="8136"/>
                </a:cubicBezTo>
                <a:cubicBezTo>
                  <a:pt x="1258" y="8249"/>
                  <a:pt x="1185" y="8405"/>
                  <a:pt x="1290" y="8483"/>
                </a:cubicBezTo>
                <a:cubicBezTo>
                  <a:pt x="1336" y="8468"/>
                  <a:pt x="1322" y="8435"/>
                  <a:pt x="1339" y="8359"/>
                </a:cubicBezTo>
              </a:path>
              <a:path w="1514" h="2283">
                <a:moveTo>
                  <a:pt x="1712" y="7938"/>
                </a:moveTo>
                <a:cubicBezTo>
                  <a:pt x="1683" y="8070"/>
                  <a:pt x="1683" y="8203"/>
                  <a:pt x="1637" y="8334"/>
                </a:cubicBezTo>
                <a:cubicBezTo>
                  <a:pt x="1613" y="8382"/>
                  <a:pt x="1605" y="8397"/>
                  <a:pt x="1612" y="8434"/>
                </a:cubicBezTo>
              </a:path>
              <a:path w="1514" h="2283">
                <a:moveTo>
                  <a:pt x="1885" y="7987"/>
                </a:moveTo>
                <a:cubicBezTo>
                  <a:pt x="1900" y="7943"/>
                  <a:pt x="2005" y="7920"/>
                  <a:pt x="2059" y="7913"/>
                </a:cubicBezTo>
                <a:cubicBezTo>
                  <a:pt x="2096" y="7908"/>
                  <a:pt x="2144" y="7913"/>
                  <a:pt x="2183" y="7913"/>
                </a:cubicBezTo>
                <a:cubicBezTo>
                  <a:pt x="2183" y="7984"/>
                  <a:pt x="2166" y="8046"/>
                  <a:pt x="2158" y="8111"/>
                </a:cubicBezTo>
                <a:cubicBezTo>
                  <a:pt x="2147" y="8197"/>
                  <a:pt x="2122" y="8274"/>
                  <a:pt x="2108" y="83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7200" y="3276720"/>
            <a:ext cx="669960" cy="768240"/>
          </a:xfrm>
          <a:custGeom>
            <a:avLst/>
            <a:gdLst/>
            <a:ahLst/>
            <a:rect l="l" t="t" r="r" b="b"/>
            <a:pathLst>
              <a:path w="1861" h="2135">
                <a:moveTo>
                  <a:pt x="1315" y="9227"/>
                </a:moveTo>
                <a:cubicBezTo>
                  <a:pt x="1323" y="9219"/>
                  <a:pt x="1331" y="9211"/>
                  <a:pt x="1339" y="9203"/>
                </a:cubicBezTo>
                <a:cubicBezTo>
                  <a:pt x="1315" y="9299"/>
                  <a:pt x="1253" y="9402"/>
                  <a:pt x="1215" y="9500"/>
                </a:cubicBezTo>
                <a:cubicBezTo>
                  <a:pt x="1196" y="9547"/>
                  <a:pt x="1177" y="9582"/>
                  <a:pt x="1166" y="9624"/>
                </a:cubicBezTo>
              </a:path>
              <a:path w="1861" h="2135">
                <a:moveTo>
                  <a:pt x="1836" y="9103"/>
                </a:moveTo>
                <a:cubicBezTo>
                  <a:pt x="1772" y="9130"/>
                  <a:pt x="1612" y="9182"/>
                  <a:pt x="1612" y="9277"/>
                </a:cubicBezTo>
                <a:cubicBezTo>
                  <a:pt x="1612" y="9377"/>
                  <a:pt x="1779" y="9392"/>
                  <a:pt x="1761" y="9500"/>
                </a:cubicBezTo>
                <a:cubicBezTo>
                  <a:pt x="1744" y="9600"/>
                  <a:pt x="1582" y="9616"/>
                  <a:pt x="1563" y="9500"/>
                </a:cubicBezTo>
                <a:cubicBezTo>
                  <a:pt x="1548" y="9406"/>
                  <a:pt x="1728" y="9284"/>
                  <a:pt x="1786" y="9227"/>
                </a:cubicBezTo>
                <a:cubicBezTo>
                  <a:pt x="1794" y="9219"/>
                  <a:pt x="1803" y="9211"/>
                  <a:pt x="1811" y="9203"/>
                </a:cubicBezTo>
              </a:path>
              <a:path w="1861" h="2135">
                <a:moveTo>
                  <a:pt x="2183" y="9128"/>
                </a:moveTo>
                <a:cubicBezTo>
                  <a:pt x="2153" y="9218"/>
                  <a:pt x="2043" y="9329"/>
                  <a:pt x="2034" y="9426"/>
                </a:cubicBezTo>
                <a:cubicBezTo>
                  <a:pt x="2042" y="9451"/>
                  <a:pt x="2051" y="9475"/>
                  <a:pt x="2059" y="9500"/>
                </a:cubicBezTo>
                <a:cubicBezTo>
                  <a:pt x="2191" y="9527"/>
                  <a:pt x="2320" y="9469"/>
                  <a:pt x="2381" y="9327"/>
                </a:cubicBezTo>
                <a:cubicBezTo>
                  <a:pt x="2448" y="9172"/>
                  <a:pt x="2239" y="9183"/>
                  <a:pt x="2158" y="9178"/>
                </a:cubicBezTo>
              </a:path>
              <a:path w="1861" h="2135">
                <a:moveTo>
                  <a:pt x="620" y="9922"/>
                </a:moveTo>
                <a:cubicBezTo>
                  <a:pt x="713" y="9906"/>
                  <a:pt x="798" y="9879"/>
                  <a:pt x="893" y="9872"/>
                </a:cubicBezTo>
              </a:path>
              <a:path w="1861" h="2135">
                <a:moveTo>
                  <a:pt x="1240" y="9823"/>
                </a:moveTo>
                <a:cubicBezTo>
                  <a:pt x="1226" y="9961"/>
                  <a:pt x="1164" y="10087"/>
                  <a:pt x="1141" y="10220"/>
                </a:cubicBezTo>
                <a:cubicBezTo>
                  <a:pt x="1128" y="10292"/>
                  <a:pt x="1123" y="10335"/>
                  <a:pt x="1141" y="10344"/>
                </a:cubicBezTo>
              </a:path>
              <a:path w="1861" h="2135">
                <a:moveTo>
                  <a:pt x="1637" y="9823"/>
                </a:moveTo>
                <a:cubicBezTo>
                  <a:pt x="1624" y="9929"/>
                  <a:pt x="1589" y="10038"/>
                  <a:pt x="1563" y="10145"/>
                </a:cubicBezTo>
                <a:cubicBezTo>
                  <a:pt x="1549" y="10202"/>
                  <a:pt x="1538" y="10328"/>
                  <a:pt x="1538" y="10269"/>
                </a:cubicBezTo>
              </a:path>
              <a:path w="1861" h="2135">
                <a:moveTo>
                  <a:pt x="1935" y="9798"/>
                </a:moveTo>
                <a:cubicBezTo>
                  <a:pt x="2003" y="9781"/>
                  <a:pt x="2080" y="9734"/>
                  <a:pt x="2158" y="9723"/>
                </a:cubicBezTo>
                <a:cubicBezTo>
                  <a:pt x="2308" y="9701"/>
                  <a:pt x="2265" y="9880"/>
                  <a:pt x="2232" y="9971"/>
                </a:cubicBezTo>
                <a:cubicBezTo>
                  <a:pt x="2202" y="10054"/>
                  <a:pt x="2166" y="10138"/>
                  <a:pt x="2133" y="10220"/>
                </a:cubicBezTo>
              </a:path>
              <a:path w="1861" h="2135">
                <a:moveTo>
                  <a:pt x="521" y="10592"/>
                </a:moveTo>
                <a:cubicBezTo>
                  <a:pt x="743" y="10552"/>
                  <a:pt x="966" y="10501"/>
                  <a:pt x="1191" y="10468"/>
                </a:cubicBezTo>
                <a:cubicBezTo>
                  <a:pt x="1413" y="10435"/>
                  <a:pt x="1669" y="10445"/>
                  <a:pt x="1885" y="10393"/>
                </a:cubicBezTo>
                <a:cubicBezTo>
                  <a:pt x="1916" y="10385"/>
                  <a:pt x="1943" y="10372"/>
                  <a:pt x="1984" y="10368"/>
                </a:cubicBezTo>
              </a:path>
              <a:path w="1861" h="2135">
                <a:moveTo>
                  <a:pt x="1588" y="10691"/>
                </a:moveTo>
                <a:cubicBezTo>
                  <a:pt x="1588" y="10683"/>
                  <a:pt x="1588" y="10674"/>
                  <a:pt x="1588" y="10666"/>
                </a:cubicBezTo>
                <a:cubicBezTo>
                  <a:pt x="1641" y="10684"/>
                  <a:pt x="1603" y="10787"/>
                  <a:pt x="1588" y="10840"/>
                </a:cubicBezTo>
                <a:cubicBezTo>
                  <a:pt x="1547" y="10983"/>
                  <a:pt x="1516" y="11073"/>
                  <a:pt x="1563" y="11212"/>
                </a:cubicBezTo>
                <a:cubicBezTo>
                  <a:pt x="1683" y="11192"/>
                  <a:pt x="1750" y="11120"/>
                  <a:pt x="1836" y="11038"/>
                </a:cubicBezTo>
                <a:cubicBezTo>
                  <a:pt x="1858" y="11016"/>
                  <a:pt x="1869" y="11007"/>
                  <a:pt x="1836" y="11013"/>
                </a:cubicBezTo>
                <a:cubicBezTo>
                  <a:pt x="1720" y="11042"/>
                  <a:pt x="1687" y="11128"/>
                  <a:pt x="1637" y="11237"/>
                </a:cubicBezTo>
              </a:path>
              <a:path w="1861" h="2135">
                <a:moveTo>
                  <a:pt x="2059" y="10765"/>
                </a:moveTo>
                <a:cubicBezTo>
                  <a:pt x="2075" y="10718"/>
                  <a:pt x="2171" y="10684"/>
                  <a:pt x="2232" y="10666"/>
                </a:cubicBezTo>
                <a:cubicBezTo>
                  <a:pt x="2240" y="10666"/>
                  <a:pt x="2249" y="10666"/>
                  <a:pt x="2257" y="10666"/>
                </a:cubicBezTo>
                <a:cubicBezTo>
                  <a:pt x="2238" y="10778"/>
                  <a:pt x="2179" y="10899"/>
                  <a:pt x="2108" y="10988"/>
                </a:cubicBezTo>
                <a:cubicBezTo>
                  <a:pt x="2026" y="11071"/>
                  <a:pt x="2010" y="11088"/>
                  <a:pt x="1960" y="11137"/>
                </a:cubicBezTo>
                <a:cubicBezTo>
                  <a:pt x="1982" y="11204"/>
                  <a:pt x="2124" y="11152"/>
                  <a:pt x="2183" y="11137"/>
                </a:cubicBezTo>
                <a:cubicBezTo>
                  <a:pt x="2224" y="11126"/>
                  <a:pt x="2300" y="11112"/>
                  <a:pt x="2257" y="11112"/>
                </a:cubicBezTo>
              </a:path>
              <a:path w="1861" h="2135">
                <a:moveTo>
                  <a:pt x="2059" y="10691"/>
                </a:moveTo>
                <a:cubicBezTo>
                  <a:pt x="2003" y="10663"/>
                  <a:pt x="2169" y="10622"/>
                  <a:pt x="2208" y="10616"/>
                </a:cubicBezTo>
                <a:cubicBezTo>
                  <a:pt x="2233" y="10616"/>
                  <a:pt x="2257" y="10616"/>
                  <a:pt x="2282" y="10616"/>
                </a:cubicBezTo>
                <a:cubicBezTo>
                  <a:pt x="2265" y="10701"/>
                  <a:pt x="2196" y="10803"/>
                  <a:pt x="2133" y="10864"/>
                </a:cubicBezTo>
                <a:cubicBezTo>
                  <a:pt x="2074" y="10904"/>
                  <a:pt x="2062" y="10908"/>
                  <a:pt x="2034" y="10939"/>
                </a:cubicBezTo>
                <a:cubicBezTo>
                  <a:pt x="2087" y="10915"/>
                  <a:pt x="2197" y="10851"/>
                  <a:pt x="2257" y="10889"/>
                </a:cubicBezTo>
                <a:cubicBezTo>
                  <a:pt x="2309" y="10922"/>
                  <a:pt x="2368" y="11007"/>
                  <a:pt x="2307" y="11063"/>
                </a:cubicBezTo>
                <a:cubicBezTo>
                  <a:pt x="2251" y="11115"/>
                  <a:pt x="2131" y="11132"/>
                  <a:pt x="2059" y="11137"/>
                </a:cubicBezTo>
                <a:cubicBezTo>
                  <a:pt x="2051" y="11137"/>
                  <a:pt x="2042" y="11137"/>
                  <a:pt x="2034" y="11137"/>
                </a:cubicBezTo>
              </a:path>
              <a:path w="1861" h="2135">
                <a:moveTo>
                  <a:pt x="2034" y="10616"/>
                </a:moveTo>
                <a:cubicBezTo>
                  <a:pt x="2092" y="10605"/>
                  <a:pt x="2148" y="10577"/>
                  <a:pt x="2208" y="10567"/>
                </a:cubicBezTo>
                <a:cubicBezTo>
                  <a:pt x="2208" y="10665"/>
                  <a:pt x="2220" y="10709"/>
                  <a:pt x="2158" y="10790"/>
                </a:cubicBezTo>
                <a:cubicBezTo>
                  <a:pt x="2123" y="10836"/>
                  <a:pt x="2077" y="10855"/>
                  <a:pt x="2034" y="10889"/>
                </a:cubicBezTo>
                <a:cubicBezTo>
                  <a:pt x="2099" y="10889"/>
                  <a:pt x="2204" y="10865"/>
                  <a:pt x="2257" y="10914"/>
                </a:cubicBezTo>
                <a:cubicBezTo>
                  <a:pt x="2345" y="10997"/>
                  <a:pt x="2225" y="11101"/>
                  <a:pt x="2158" y="11137"/>
                </a:cubicBezTo>
                <a:cubicBezTo>
                  <a:pt x="2110" y="11163"/>
                  <a:pt x="2002" y="11217"/>
                  <a:pt x="1984" y="111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49880" y="1241280"/>
            <a:ext cx="108000" cy="258840"/>
          </a:xfrm>
          <a:custGeom>
            <a:avLst/>
            <a:gdLst/>
            <a:ahLst/>
            <a:rect l="l" t="t" r="r" b="b"/>
            <a:pathLst>
              <a:path w="299" h="720">
                <a:moveTo>
                  <a:pt x="14858" y="3448"/>
                </a:moveTo>
                <a:cubicBezTo>
                  <a:pt x="14910" y="3482"/>
                  <a:pt x="14755" y="3792"/>
                  <a:pt x="14734" y="3845"/>
                </a:cubicBezTo>
                <a:cubicBezTo>
                  <a:pt x="14689" y="3956"/>
                  <a:pt x="14639" y="4061"/>
                  <a:pt x="14585" y="41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38880" y="1231920"/>
            <a:ext cx="115920" cy="260280"/>
          </a:xfrm>
          <a:custGeom>
            <a:avLst/>
            <a:gdLst/>
            <a:ahLst/>
            <a:rect l="l" t="t" r="r" b="b"/>
            <a:pathLst>
              <a:path w="324" h="720">
                <a:moveTo>
                  <a:pt x="15429" y="3423"/>
                </a:moveTo>
                <a:cubicBezTo>
                  <a:pt x="15297" y="3449"/>
                  <a:pt x="15209" y="3507"/>
                  <a:pt x="15131" y="3621"/>
                </a:cubicBezTo>
                <a:cubicBezTo>
                  <a:pt x="15056" y="3732"/>
                  <a:pt x="15237" y="3777"/>
                  <a:pt x="15280" y="3870"/>
                </a:cubicBezTo>
                <a:cubicBezTo>
                  <a:pt x="15348" y="4016"/>
                  <a:pt x="15261" y="4113"/>
                  <a:pt x="15131" y="4142"/>
                </a:cubicBezTo>
                <a:cubicBezTo>
                  <a:pt x="15118" y="3965"/>
                  <a:pt x="15203" y="3848"/>
                  <a:pt x="15304" y="3696"/>
                </a:cubicBezTo>
                <a:cubicBezTo>
                  <a:pt x="15344" y="3636"/>
                  <a:pt x="15347" y="3624"/>
                  <a:pt x="15379" y="35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6720" y="1224000"/>
            <a:ext cx="187200" cy="231840"/>
          </a:xfrm>
          <a:custGeom>
            <a:avLst/>
            <a:gdLst/>
            <a:ahLst/>
            <a:rect l="l" t="t" r="r" b="b"/>
            <a:pathLst>
              <a:path w="522" h="646">
                <a:moveTo>
                  <a:pt x="15875" y="3398"/>
                </a:moveTo>
                <a:cubicBezTo>
                  <a:pt x="15796" y="3518"/>
                  <a:pt x="15677" y="3635"/>
                  <a:pt x="15627" y="3795"/>
                </a:cubicBezTo>
                <a:cubicBezTo>
                  <a:pt x="15606" y="3919"/>
                  <a:pt x="15598" y="3943"/>
                  <a:pt x="15602" y="4018"/>
                </a:cubicBezTo>
                <a:cubicBezTo>
                  <a:pt x="15803" y="4047"/>
                  <a:pt x="15921" y="3987"/>
                  <a:pt x="16049" y="3820"/>
                </a:cubicBezTo>
                <a:cubicBezTo>
                  <a:pt x="16225" y="3591"/>
                  <a:pt x="16045" y="3546"/>
                  <a:pt x="15850" y="34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45040" y="1633680"/>
            <a:ext cx="108000" cy="19080"/>
          </a:xfrm>
          <a:custGeom>
            <a:avLst/>
            <a:gdLst/>
            <a:ahLst/>
            <a:rect l="l" t="t" r="r" b="b"/>
            <a:pathLst>
              <a:path w="298" h="51">
                <a:moveTo>
                  <a:pt x="14015" y="4589"/>
                </a:moveTo>
                <a:cubicBezTo>
                  <a:pt x="14117" y="4567"/>
                  <a:pt x="14210" y="4547"/>
                  <a:pt x="14312" y="45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7960" y="1571760"/>
            <a:ext cx="98280" cy="214200"/>
          </a:xfrm>
          <a:custGeom>
            <a:avLst/>
            <a:gdLst/>
            <a:ahLst/>
            <a:rect l="l" t="t" r="r" b="b"/>
            <a:pathLst>
              <a:path w="273" h="596">
                <a:moveTo>
                  <a:pt x="14684" y="4366"/>
                </a:moveTo>
                <a:cubicBezTo>
                  <a:pt x="14645" y="4520"/>
                  <a:pt x="14561" y="4647"/>
                  <a:pt x="14486" y="4787"/>
                </a:cubicBezTo>
                <a:cubicBezTo>
                  <a:pt x="14450" y="4854"/>
                  <a:pt x="14336" y="4988"/>
                  <a:pt x="14461" y="49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57880" y="1598760"/>
            <a:ext cx="71280" cy="187200"/>
          </a:xfrm>
          <a:custGeom>
            <a:avLst/>
            <a:gdLst/>
            <a:ahLst/>
            <a:rect l="l" t="t" r="r" b="b"/>
            <a:pathLst>
              <a:path w="199" h="522">
                <a:moveTo>
                  <a:pt x="15081" y="4465"/>
                </a:moveTo>
                <a:cubicBezTo>
                  <a:pt x="15081" y="4444"/>
                  <a:pt x="15002" y="4667"/>
                  <a:pt x="14982" y="4713"/>
                </a:cubicBezTo>
                <a:cubicBezTo>
                  <a:pt x="14960" y="4764"/>
                  <a:pt x="14830" y="4962"/>
                  <a:pt x="14908" y="49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18080" y="1581120"/>
            <a:ext cx="135000" cy="223920"/>
          </a:xfrm>
          <a:custGeom>
            <a:avLst/>
            <a:gdLst/>
            <a:ahLst/>
            <a:rect l="l" t="t" r="r" b="b"/>
            <a:pathLst>
              <a:path w="373" h="622">
                <a:moveTo>
                  <a:pt x="15652" y="4415"/>
                </a:moveTo>
                <a:cubicBezTo>
                  <a:pt x="15534" y="4389"/>
                  <a:pt x="15439" y="4440"/>
                  <a:pt x="15354" y="4539"/>
                </a:cubicBezTo>
                <a:cubicBezTo>
                  <a:pt x="15346" y="4556"/>
                  <a:pt x="15337" y="4572"/>
                  <a:pt x="15329" y="4589"/>
                </a:cubicBezTo>
                <a:cubicBezTo>
                  <a:pt x="15447" y="4667"/>
                  <a:pt x="15519" y="4626"/>
                  <a:pt x="15627" y="4539"/>
                </a:cubicBezTo>
                <a:cubicBezTo>
                  <a:pt x="15682" y="4484"/>
                  <a:pt x="15707" y="4486"/>
                  <a:pt x="15701" y="4440"/>
                </a:cubicBezTo>
                <a:cubicBezTo>
                  <a:pt x="15701" y="4560"/>
                  <a:pt x="15658" y="4651"/>
                  <a:pt x="15627" y="4762"/>
                </a:cubicBezTo>
                <a:cubicBezTo>
                  <a:pt x="15593" y="4883"/>
                  <a:pt x="15601" y="4941"/>
                  <a:pt x="15503" y="50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7760" y="1839960"/>
            <a:ext cx="731520" cy="34920"/>
          </a:xfrm>
          <a:custGeom>
            <a:avLst/>
            <a:gdLst/>
            <a:ahLst/>
            <a:rect l="l" t="t" r="r" b="b"/>
            <a:pathLst>
              <a:path w="2035" h="100">
                <a:moveTo>
                  <a:pt x="13965" y="5209"/>
                </a:moveTo>
                <a:cubicBezTo>
                  <a:pt x="14108" y="5185"/>
                  <a:pt x="14264" y="5164"/>
                  <a:pt x="14412" y="5159"/>
                </a:cubicBezTo>
                <a:cubicBezTo>
                  <a:pt x="14835" y="5145"/>
                  <a:pt x="15255" y="5128"/>
                  <a:pt x="15677" y="5110"/>
                </a:cubicBezTo>
                <a:cubicBezTo>
                  <a:pt x="15783" y="5105"/>
                  <a:pt x="15893" y="5110"/>
                  <a:pt x="15999" y="51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67240" y="1901880"/>
            <a:ext cx="160560" cy="223920"/>
          </a:xfrm>
          <a:custGeom>
            <a:avLst/>
            <a:gdLst/>
            <a:ahLst/>
            <a:rect l="l" t="t" r="r" b="b"/>
            <a:pathLst>
              <a:path w="447" h="622">
                <a:moveTo>
                  <a:pt x="14982" y="5283"/>
                </a:moveTo>
                <a:cubicBezTo>
                  <a:pt x="14982" y="5371"/>
                  <a:pt x="14981" y="5444"/>
                  <a:pt x="14957" y="5531"/>
                </a:cubicBezTo>
                <a:cubicBezTo>
                  <a:pt x="14931" y="5624"/>
                  <a:pt x="14883" y="5730"/>
                  <a:pt x="14908" y="5829"/>
                </a:cubicBezTo>
                <a:cubicBezTo>
                  <a:pt x="14937" y="5945"/>
                  <a:pt x="15081" y="5889"/>
                  <a:pt x="15156" y="5854"/>
                </a:cubicBezTo>
                <a:cubicBezTo>
                  <a:pt x="15204" y="5832"/>
                  <a:pt x="15364" y="5744"/>
                  <a:pt x="15354" y="5680"/>
                </a:cubicBezTo>
                <a:cubicBezTo>
                  <a:pt x="15341" y="5595"/>
                  <a:pt x="15234" y="5548"/>
                  <a:pt x="15180" y="5631"/>
                </a:cubicBezTo>
                <a:cubicBezTo>
                  <a:pt x="15147" y="5683"/>
                  <a:pt x="15089" y="5841"/>
                  <a:pt x="15180" y="5854"/>
                </a:cubicBezTo>
                <a:cubicBezTo>
                  <a:pt x="15197" y="5854"/>
                  <a:pt x="15213" y="5854"/>
                  <a:pt x="15230" y="58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26080" y="1928880"/>
            <a:ext cx="9720" cy="179280"/>
          </a:xfrm>
          <a:custGeom>
            <a:avLst/>
            <a:gdLst/>
            <a:ahLst/>
            <a:rect l="l" t="t" r="r" b="b"/>
            <a:pathLst>
              <a:path w="26" h="497">
                <a:moveTo>
                  <a:pt x="15652" y="5383"/>
                </a:moveTo>
                <a:cubicBezTo>
                  <a:pt x="15652" y="5317"/>
                  <a:pt x="15663" y="5466"/>
                  <a:pt x="15652" y="5531"/>
                </a:cubicBezTo>
                <a:cubicBezTo>
                  <a:pt x="15634" y="5641"/>
                  <a:pt x="15640" y="5741"/>
                  <a:pt x="15627" y="58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9840" y="4956120"/>
            <a:ext cx="71280" cy="285840"/>
          </a:xfrm>
          <a:custGeom>
            <a:avLst/>
            <a:gdLst/>
            <a:ahLst/>
            <a:rect l="l" t="t" r="r" b="b"/>
            <a:pathLst>
              <a:path w="199" h="794">
                <a:moveTo>
                  <a:pt x="1141" y="13791"/>
                </a:moveTo>
                <a:cubicBezTo>
                  <a:pt x="1141" y="13663"/>
                  <a:pt x="1100" y="13990"/>
                  <a:pt x="1067" y="14114"/>
                </a:cubicBezTo>
                <a:cubicBezTo>
                  <a:pt x="1066" y="14119"/>
                  <a:pt x="947" y="14580"/>
                  <a:pt x="967" y="14560"/>
                </a:cubicBezTo>
                <a:cubicBezTo>
                  <a:pt x="984" y="14535"/>
                  <a:pt x="1000" y="14511"/>
                  <a:pt x="1017" y="144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9040" y="4929120"/>
            <a:ext cx="117360" cy="304920"/>
          </a:xfrm>
          <a:custGeom>
            <a:avLst/>
            <a:gdLst/>
            <a:ahLst/>
            <a:rect l="l" t="t" r="r" b="b"/>
            <a:pathLst>
              <a:path w="323" h="845">
                <a:moveTo>
                  <a:pt x="1488" y="13692"/>
                </a:moveTo>
                <a:cubicBezTo>
                  <a:pt x="1466" y="13782"/>
                  <a:pt x="1325" y="13891"/>
                  <a:pt x="1265" y="13965"/>
                </a:cubicBezTo>
                <a:cubicBezTo>
                  <a:pt x="1122" y="14140"/>
                  <a:pt x="1151" y="14107"/>
                  <a:pt x="1265" y="14238"/>
                </a:cubicBezTo>
                <a:cubicBezTo>
                  <a:pt x="1356" y="14342"/>
                  <a:pt x="1356" y="14436"/>
                  <a:pt x="1290" y="14536"/>
                </a:cubicBezTo>
                <a:cubicBezTo>
                  <a:pt x="1125" y="14536"/>
                  <a:pt x="1250" y="14382"/>
                  <a:pt x="1290" y="14288"/>
                </a:cubicBezTo>
                <a:cubicBezTo>
                  <a:pt x="1338" y="14175"/>
                  <a:pt x="1378" y="14062"/>
                  <a:pt x="1463" y="139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320" y="4946760"/>
            <a:ext cx="142920" cy="206280"/>
          </a:xfrm>
          <a:custGeom>
            <a:avLst/>
            <a:gdLst/>
            <a:ahLst/>
            <a:rect l="l" t="t" r="r" b="b"/>
            <a:pathLst>
              <a:path w="398" h="571">
                <a:moveTo>
                  <a:pt x="1910" y="13742"/>
                </a:moveTo>
                <a:cubicBezTo>
                  <a:pt x="1800" y="13807"/>
                  <a:pt x="1727" y="14037"/>
                  <a:pt x="1687" y="14163"/>
                </a:cubicBezTo>
                <a:cubicBezTo>
                  <a:pt x="1667" y="14264"/>
                  <a:pt x="1637" y="14296"/>
                  <a:pt x="1712" y="14312"/>
                </a:cubicBezTo>
                <a:cubicBezTo>
                  <a:pt x="1873" y="14237"/>
                  <a:pt x="2089" y="14107"/>
                  <a:pt x="2059" y="13891"/>
                </a:cubicBezTo>
                <a:cubicBezTo>
                  <a:pt x="2034" y="13715"/>
                  <a:pt x="1845" y="13863"/>
                  <a:pt x="1786" y="138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8000" y="5446800"/>
            <a:ext cx="106200" cy="9360"/>
          </a:xfrm>
          <a:custGeom>
            <a:avLst/>
            <a:gdLst/>
            <a:ahLst/>
            <a:rect l="l" t="t" r="r" b="b"/>
            <a:pathLst>
              <a:path w="298" h="26">
                <a:moveTo>
                  <a:pt x="298" y="15156"/>
                </a:moveTo>
                <a:cubicBezTo>
                  <a:pt x="377" y="15143"/>
                  <a:pt x="463" y="15112"/>
                  <a:pt x="546" y="15131"/>
                </a:cubicBezTo>
                <a:cubicBezTo>
                  <a:pt x="562" y="15139"/>
                  <a:pt x="579" y="15148"/>
                  <a:pt x="595" y="151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1120" y="5384880"/>
            <a:ext cx="133560" cy="214200"/>
          </a:xfrm>
          <a:custGeom>
            <a:avLst/>
            <a:gdLst/>
            <a:ahLst/>
            <a:rect l="l" t="t" r="r" b="b"/>
            <a:pathLst>
              <a:path w="373" h="597">
                <a:moveTo>
                  <a:pt x="1191" y="14957"/>
                </a:moveTo>
                <a:cubicBezTo>
                  <a:pt x="1141" y="15124"/>
                  <a:pt x="1122" y="15255"/>
                  <a:pt x="1166" y="15429"/>
                </a:cubicBezTo>
                <a:cubicBezTo>
                  <a:pt x="1190" y="15500"/>
                  <a:pt x="1197" y="15523"/>
                  <a:pt x="1240" y="15553"/>
                </a:cubicBezTo>
                <a:cubicBezTo>
                  <a:pt x="1390" y="15519"/>
                  <a:pt x="1464" y="15403"/>
                  <a:pt x="1513" y="15255"/>
                </a:cubicBezTo>
                <a:cubicBezTo>
                  <a:pt x="1513" y="15238"/>
                  <a:pt x="1513" y="15222"/>
                  <a:pt x="1513" y="15205"/>
                </a:cubicBezTo>
                <a:cubicBezTo>
                  <a:pt x="1395" y="15205"/>
                  <a:pt x="1361" y="15222"/>
                  <a:pt x="1290" y="15329"/>
                </a:cubicBezTo>
                <a:cubicBezTo>
                  <a:pt x="1245" y="15396"/>
                  <a:pt x="1157" y="15540"/>
                  <a:pt x="1290" y="154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4040" y="5313240"/>
            <a:ext cx="142920" cy="24156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1588" y="14858"/>
                </a:moveTo>
                <a:cubicBezTo>
                  <a:pt x="1651" y="14793"/>
                  <a:pt x="1727" y="14789"/>
                  <a:pt x="1811" y="14759"/>
                </a:cubicBezTo>
                <a:cubicBezTo>
                  <a:pt x="1859" y="14918"/>
                  <a:pt x="1798" y="14965"/>
                  <a:pt x="1687" y="15081"/>
                </a:cubicBezTo>
                <a:cubicBezTo>
                  <a:pt x="1670" y="15098"/>
                  <a:pt x="1654" y="15114"/>
                  <a:pt x="1637" y="15131"/>
                </a:cubicBezTo>
                <a:cubicBezTo>
                  <a:pt x="1720" y="15048"/>
                  <a:pt x="1799" y="15045"/>
                  <a:pt x="1910" y="15032"/>
                </a:cubicBezTo>
                <a:cubicBezTo>
                  <a:pt x="1923" y="15197"/>
                  <a:pt x="1850" y="15322"/>
                  <a:pt x="1687" y="15404"/>
                </a:cubicBezTo>
                <a:cubicBezTo>
                  <a:pt x="1603" y="15425"/>
                  <a:pt x="1584" y="15440"/>
                  <a:pt x="1538" y="154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2920" y="5643720"/>
            <a:ext cx="608040" cy="115560"/>
          </a:xfrm>
          <a:custGeom>
            <a:avLst/>
            <a:gdLst/>
            <a:ahLst/>
            <a:rect l="l" t="t" r="r" b="b"/>
            <a:pathLst>
              <a:path w="1688" h="323">
                <a:moveTo>
                  <a:pt x="397" y="15999"/>
                </a:moveTo>
                <a:cubicBezTo>
                  <a:pt x="638" y="15919"/>
                  <a:pt x="892" y="15847"/>
                  <a:pt x="1141" y="15801"/>
                </a:cubicBezTo>
                <a:cubicBezTo>
                  <a:pt x="1441" y="15745"/>
                  <a:pt x="1754" y="15689"/>
                  <a:pt x="2059" y="15677"/>
                </a:cubicBezTo>
                <a:cubicBezTo>
                  <a:pt x="2067" y="15677"/>
                  <a:pt x="2076" y="15677"/>
                  <a:pt x="2084" y="156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1 Workbook pg. 120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2 Workbook pg. 130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Students will find missing angles using rules of geom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9360" y="1644480"/>
            <a:ext cx="45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upplementary Angles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6960" y="166068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gles whose su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180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2286000"/>
            <a:ext cx="763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480060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733920" y="3352680"/>
            <a:ext cx="20574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5880" y="4159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4191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366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790640" y="5105520"/>
                <a:ext cx="4457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Ð</m:t>
                    </m:r>
                    <m:r>
                      <m:rPr>
                        <m:lit/>
                        <m:nor/>
                      </m:rPr>
                      <m:t xml:space="preserve">a  + m</m:t>
                    </m:r>
                    <m:r>
                      <m:t xml:space="preserve">Ð</m:t>
                    </m:r>
                    <m:r>
                      <m:rPr>
                        <m:lit/>
                        <m:nor/>
                      </m:rPr>
                      <m:t xml:space="preserve"> b = 1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6248520" y="5105520"/>
            <a:ext cx="75960" cy="7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value of 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312408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33920" y="1676160"/>
            <a:ext cx="205740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5880" y="2482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514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2590920"/>
            <a:ext cx="75960" cy="7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2590920"/>
            <a:ext cx="76320" cy="7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58120" y="3549600"/>
            <a:ext cx="26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+ 30  = 1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14960" y="4113360"/>
            <a:ext cx="21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30     - 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8006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11320" y="492120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  = 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4876920"/>
            <a:ext cx="243828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supplement of the given 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9120" y="13701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  4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225432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  18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36640" y="233208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3280" y="324468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  15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9000" y="438768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 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446580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3800" y="13716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8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150804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3800" y="22860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)  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2362320"/>
            <a:ext cx="9180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3800" y="342900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)  13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04080" y="3505320"/>
            <a:ext cx="9180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3800" y="449568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)  1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04080" y="457344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15080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65240" y="33368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30240" y="1133640"/>
            <a:ext cx="1125720" cy="831600"/>
          </a:xfrm>
          <a:custGeom>
            <a:avLst/>
            <a:gdLst/>
            <a:ahLst/>
            <a:rect l="l" t="t" r="r" b="b"/>
            <a:pathLst>
              <a:path w="3126" h="2308">
                <a:moveTo>
                  <a:pt x="5085" y="5308"/>
                </a:moveTo>
                <a:cubicBezTo>
                  <a:pt x="5085" y="5300"/>
                  <a:pt x="5085" y="5291"/>
                  <a:pt x="5085" y="5283"/>
                </a:cubicBezTo>
              </a:path>
              <a:path w="3126" h="2308">
                <a:moveTo>
                  <a:pt x="6251" y="3299"/>
                </a:moveTo>
                <a:cubicBezTo>
                  <a:pt x="6182" y="3276"/>
                  <a:pt x="6244" y="3358"/>
                  <a:pt x="6251" y="3473"/>
                </a:cubicBezTo>
                <a:cubicBezTo>
                  <a:pt x="6258" y="3596"/>
                  <a:pt x="6251" y="3722"/>
                  <a:pt x="6251" y="3845"/>
                </a:cubicBezTo>
              </a:path>
              <a:path w="3126" h="2308">
                <a:moveTo>
                  <a:pt x="6896" y="3150"/>
                </a:moveTo>
                <a:cubicBezTo>
                  <a:pt x="6792" y="3185"/>
                  <a:pt x="6754" y="3192"/>
                  <a:pt x="6672" y="3274"/>
                </a:cubicBezTo>
                <a:cubicBezTo>
                  <a:pt x="6621" y="3326"/>
                  <a:pt x="6604" y="3345"/>
                  <a:pt x="6598" y="3398"/>
                </a:cubicBezTo>
                <a:cubicBezTo>
                  <a:pt x="6701" y="3515"/>
                  <a:pt x="6840" y="3505"/>
                  <a:pt x="6970" y="3597"/>
                </a:cubicBezTo>
                <a:cubicBezTo>
                  <a:pt x="7068" y="3667"/>
                  <a:pt x="6979" y="3793"/>
                  <a:pt x="6871" y="3770"/>
                </a:cubicBezTo>
                <a:cubicBezTo>
                  <a:pt x="6846" y="3754"/>
                  <a:pt x="6821" y="3737"/>
                  <a:pt x="6796" y="3721"/>
                </a:cubicBezTo>
                <a:cubicBezTo>
                  <a:pt x="6777" y="3584"/>
                  <a:pt x="6798" y="3439"/>
                  <a:pt x="6896" y="3324"/>
                </a:cubicBezTo>
                <a:cubicBezTo>
                  <a:pt x="6936" y="3304"/>
                  <a:pt x="6952" y="3305"/>
                  <a:pt x="6945" y="3274"/>
                </a:cubicBezTo>
              </a:path>
              <a:path w="3126" h="2308">
                <a:moveTo>
                  <a:pt x="7491" y="3274"/>
                </a:moveTo>
                <a:cubicBezTo>
                  <a:pt x="7411" y="3290"/>
                  <a:pt x="7345" y="3368"/>
                  <a:pt x="7317" y="3448"/>
                </a:cubicBezTo>
                <a:cubicBezTo>
                  <a:pt x="7289" y="3529"/>
                  <a:pt x="7254" y="3762"/>
                  <a:pt x="7417" y="3746"/>
                </a:cubicBezTo>
                <a:cubicBezTo>
                  <a:pt x="7557" y="3732"/>
                  <a:pt x="7811" y="3538"/>
                  <a:pt x="7789" y="3373"/>
                </a:cubicBezTo>
                <a:cubicBezTo>
                  <a:pt x="7767" y="3202"/>
                  <a:pt x="7563" y="3262"/>
                  <a:pt x="7466" y="3274"/>
                </a:cubicBezTo>
                <a:cubicBezTo>
                  <a:pt x="7450" y="3274"/>
                  <a:pt x="7433" y="3274"/>
                  <a:pt x="7417" y="3274"/>
                </a:cubicBezTo>
              </a:path>
              <a:path w="3126" h="2308">
                <a:moveTo>
                  <a:pt x="5978" y="4415"/>
                </a:moveTo>
                <a:cubicBezTo>
                  <a:pt x="6035" y="4387"/>
                  <a:pt x="6091" y="4353"/>
                  <a:pt x="6152" y="4341"/>
                </a:cubicBezTo>
              </a:path>
              <a:path w="3126" h="2308">
                <a:moveTo>
                  <a:pt x="6772" y="4118"/>
                </a:moveTo>
                <a:cubicBezTo>
                  <a:pt x="6822" y="4135"/>
                  <a:pt x="6817" y="4208"/>
                  <a:pt x="6821" y="4266"/>
                </a:cubicBezTo>
                <a:cubicBezTo>
                  <a:pt x="6821" y="4274"/>
                  <a:pt x="6821" y="4283"/>
                  <a:pt x="6821" y="4291"/>
                </a:cubicBezTo>
                <a:cubicBezTo>
                  <a:pt x="6880" y="4291"/>
                  <a:pt x="7025" y="4303"/>
                  <a:pt x="7045" y="4217"/>
                </a:cubicBezTo>
                <a:cubicBezTo>
                  <a:pt x="7037" y="4200"/>
                  <a:pt x="7028" y="4184"/>
                  <a:pt x="7020" y="4167"/>
                </a:cubicBezTo>
              </a:path>
              <a:path w="3126" h="2308">
                <a:moveTo>
                  <a:pt x="6945" y="3969"/>
                </a:moveTo>
                <a:cubicBezTo>
                  <a:pt x="7017" y="4094"/>
                  <a:pt x="6999" y="4226"/>
                  <a:pt x="7020" y="4366"/>
                </a:cubicBezTo>
                <a:cubicBezTo>
                  <a:pt x="7028" y="4417"/>
                  <a:pt x="7022" y="4534"/>
                  <a:pt x="7045" y="4490"/>
                </a:cubicBezTo>
              </a:path>
              <a:path w="3126" h="2308">
                <a:moveTo>
                  <a:pt x="7317" y="3969"/>
                </a:moveTo>
                <a:cubicBezTo>
                  <a:pt x="7280" y="4083"/>
                  <a:pt x="7268" y="4170"/>
                  <a:pt x="7268" y="4291"/>
                </a:cubicBezTo>
                <a:cubicBezTo>
                  <a:pt x="7382" y="4291"/>
                  <a:pt x="7462" y="4287"/>
                  <a:pt x="7516" y="4167"/>
                </a:cubicBezTo>
                <a:cubicBezTo>
                  <a:pt x="7602" y="3978"/>
                  <a:pt x="7456" y="3978"/>
                  <a:pt x="7317" y="3969"/>
                </a:cubicBezTo>
              </a:path>
              <a:path w="3126" h="2308">
                <a:moveTo>
                  <a:pt x="5879" y="4936"/>
                </a:moveTo>
                <a:cubicBezTo>
                  <a:pt x="6098" y="4896"/>
                  <a:pt x="6330" y="4822"/>
                  <a:pt x="6548" y="4762"/>
                </a:cubicBezTo>
                <a:cubicBezTo>
                  <a:pt x="6922" y="4658"/>
                  <a:pt x="7286" y="4542"/>
                  <a:pt x="7665" y="4465"/>
                </a:cubicBezTo>
                <a:cubicBezTo>
                  <a:pt x="7739" y="4446"/>
                  <a:pt x="7746" y="4438"/>
                  <a:pt x="7789" y="4440"/>
                </a:cubicBezTo>
              </a:path>
              <a:path w="3126" h="2308">
                <a:moveTo>
                  <a:pt x="6449" y="4936"/>
                </a:moveTo>
                <a:cubicBezTo>
                  <a:pt x="6429" y="5075"/>
                  <a:pt x="6420" y="5220"/>
                  <a:pt x="6400" y="5358"/>
                </a:cubicBezTo>
                <a:cubicBezTo>
                  <a:pt x="6392" y="5391"/>
                  <a:pt x="6383" y="5424"/>
                  <a:pt x="6375" y="5457"/>
                </a:cubicBezTo>
              </a:path>
              <a:path w="3126" h="2308">
                <a:moveTo>
                  <a:pt x="6796" y="4911"/>
                </a:moveTo>
                <a:cubicBezTo>
                  <a:pt x="6789" y="4979"/>
                  <a:pt x="6772" y="5040"/>
                  <a:pt x="6772" y="5110"/>
                </a:cubicBezTo>
                <a:cubicBezTo>
                  <a:pt x="6899" y="5123"/>
                  <a:pt x="6969" y="5124"/>
                  <a:pt x="7094" y="5085"/>
                </a:cubicBezTo>
              </a:path>
              <a:path w="3126" h="2308">
                <a:moveTo>
                  <a:pt x="7045" y="4738"/>
                </a:moveTo>
                <a:cubicBezTo>
                  <a:pt x="7045" y="4898"/>
                  <a:pt x="7066" y="5050"/>
                  <a:pt x="7069" y="5209"/>
                </a:cubicBezTo>
                <a:cubicBezTo>
                  <a:pt x="7071" y="5293"/>
                  <a:pt x="7043" y="5478"/>
                  <a:pt x="7119" y="5308"/>
                </a:cubicBezTo>
              </a:path>
              <a:path w="3126" h="2308">
                <a:moveTo>
                  <a:pt x="7615" y="4688"/>
                </a:moveTo>
                <a:cubicBezTo>
                  <a:pt x="7544" y="4724"/>
                  <a:pt x="7490" y="4880"/>
                  <a:pt x="7466" y="4961"/>
                </a:cubicBezTo>
                <a:cubicBezTo>
                  <a:pt x="7432" y="5074"/>
                  <a:pt x="7434" y="5244"/>
                  <a:pt x="7590" y="5234"/>
                </a:cubicBezTo>
                <a:cubicBezTo>
                  <a:pt x="7773" y="5222"/>
                  <a:pt x="7843" y="5071"/>
                  <a:pt x="7863" y="4911"/>
                </a:cubicBezTo>
                <a:cubicBezTo>
                  <a:pt x="7881" y="4774"/>
                  <a:pt x="7808" y="4723"/>
                  <a:pt x="7689" y="4688"/>
                </a:cubicBezTo>
                <a:cubicBezTo>
                  <a:pt x="7665" y="4688"/>
                  <a:pt x="7657" y="4688"/>
                  <a:pt x="7665" y="4663"/>
                </a:cubicBezTo>
              </a:path>
              <a:path w="3126" h="2308">
                <a:moveTo>
                  <a:pt x="8136" y="4341"/>
                </a:moveTo>
                <a:cubicBezTo>
                  <a:pt x="8051" y="4394"/>
                  <a:pt x="7982" y="4457"/>
                  <a:pt x="7962" y="4564"/>
                </a:cubicBezTo>
                <a:cubicBezTo>
                  <a:pt x="7962" y="4632"/>
                  <a:pt x="7959" y="4651"/>
                  <a:pt x="7987" y="4688"/>
                </a:cubicBezTo>
                <a:cubicBezTo>
                  <a:pt x="8084" y="4677"/>
                  <a:pt x="8177" y="4648"/>
                  <a:pt x="8210" y="4539"/>
                </a:cubicBezTo>
                <a:cubicBezTo>
                  <a:pt x="8236" y="4453"/>
                  <a:pt x="8179" y="4419"/>
                  <a:pt x="8111" y="4415"/>
                </a:cubicBezTo>
                <a:cubicBezTo>
                  <a:pt x="8070" y="4415"/>
                  <a:pt x="8062" y="4415"/>
                  <a:pt x="8037" y="44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13000" y="2384280"/>
            <a:ext cx="588960" cy="322560"/>
          </a:xfrm>
          <a:custGeom>
            <a:avLst/>
            <a:gdLst/>
            <a:ahLst/>
            <a:rect l="l" t="t" r="r" b="b"/>
            <a:pathLst>
              <a:path w="1639" h="894">
                <a:moveTo>
                  <a:pt x="6424" y="6672"/>
                </a:moveTo>
                <a:cubicBezTo>
                  <a:pt x="6465" y="6820"/>
                  <a:pt x="6466" y="7011"/>
                  <a:pt x="6474" y="7169"/>
                </a:cubicBezTo>
                <a:cubicBezTo>
                  <a:pt x="6480" y="7276"/>
                  <a:pt x="6474" y="7384"/>
                  <a:pt x="6474" y="7491"/>
                </a:cubicBezTo>
              </a:path>
              <a:path w="1639" h="894">
                <a:moveTo>
                  <a:pt x="6747" y="6821"/>
                </a:moveTo>
                <a:cubicBezTo>
                  <a:pt x="6747" y="6923"/>
                  <a:pt x="6770" y="7016"/>
                  <a:pt x="6772" y="7119"/>
                </a:cubicBezTo>
                <a:cubicBezTo>
                  <a:pt x="6774" y="7206"/>
                  <a:pt x="6753" y="7423"/>
                  <a:pt x="6871" y="7466"/>
                </a:cubicBezTo>
                <a:cubicBezTo>
                  <a:pt x="6972" y="7503"/>
                  <a:pt x="7110" y="7418"/>
                  <a:pt x="7169" y="7342"/>
                </a:cubicBezTo>
                <a:cubicBezTo>
                  <a:pt x="7218" y="7278"/>
                  <a:pt x="7208" y="7234"/>
                  <a:pt x="7193" y="7169"/>
                </a:cubicBezTo>
                <a:cubicBezTo>
                  <a:pt x="7086" y="7151"/>
                  <a:pt x="6986" y="7161"/>
                  <a:pt x="6945" y="7293"/>
                </a:cubicBezTo>
                <a:cubicBezTo>
                  <a:pt x="6940" y="7308"/>
                  <a:pt x="6937" y="7516"/>
                  <a:pt x="6995" y="7491"/>
                </a:cubicBezTo>
                <a:cubicBezTo>
                  <a:pt x="7012" y="7474"/>
                  <a:pt x="7028" y="7458"/>
                  <a:pt x="7045" y="7441"/>
                </a:cubicBezTo>
              </a:path>
              <a:path w="1639" h="894">
                <a:moveTo>
                  <a:pt x="7417" y="6945"/>
                </a:moveTo>
                <a:cubicBezTo>
                  <a:pt x="7417" y="6874"/>
                  <a:pt x="7421" y="6814"/>
                  <a:pt x="7491" y="6772"/>
                </a:cubicBezTo>
                <a:cubicBezTo>
                  <a:pt x="7538" y="6744"/>
                  <a:pt x="7568" y="6747"/>
                  <a:pt x="7615" y="6747"/>
                </a:cubicBezTo>
                <a:cubicBezTo>
                  <a:pt x="7636" y="6917"/>
                  <a:pt x="7592" y="7081"/>
                  <a:pt x="7516" y="7243"/>
                </a:cubicBezTo>
                <a:cubicBezTo>
                  <a:pt x="7488" y="7303"/>
                  <a:pt x="7380" y="7504"/>
                  <a:pt x="7367" y="7491"/>
                </a:cubicBezTo>
                <a:cubicBezTo>
                  <a:pt x="7455" y="7403"/>
                  <a:pt x="7503" y="7350"/>
                  <a:pt x="7615" y="7317"/>
                </a:cubicBezTo>
                <a:cubicBezTo>
                  <a:pt x="7731" y="7283"/>
                  <a:pt x="7721" y="7372"/>
                  <a:pt x="7789" y="7367"/>
                </a:cubicBezTo>
                <a:cubicBezTo>
                  <a:pt x="7842" y="7340"/>
                  <a:pt x="7862" y="7328"/>
                  <a:pt x="7888" y="7293"/>
                </a:cubicBezTo>
              </a:path>
              <a:path w="1639" h="894">
                <a:moveTo>
                  <a:pt x="8037" y="6623"/>
                </a:moveTo>
                <a:cubicBezTo>
                  <a:pt x="7996" y="6664"/>
                  <a:pt x="7974" y="6689"/>
                  <a:pt x="7962" y="6747"/>
                </a:cubicBezTo>
                <a:cubicBezTo>
                  <a:pt x="7985" y="6744"/>
                  <a:pt x="8112" y="6710"/>
                  <a:pt x="8062" y="6648"/>
                </a:cubicBezTo>
                <a:cubicBezTo>
                  <a:pt x="8027" y="6648"/>
                  <a:pt x="8009" y="6643"/>
                  <a:pt x="7987" y="66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87760" y="3330720"/>
            <a:ext cx="617400" cy="401400"/>
          </a:xfrm>
          <a:custGeom>
            <a:avLst/>
            <a:gdLst/>
            <a:ahLst/>
            <a:rect l="l" t="t" r="r" b="b"/>
            <a:pathLst>
              <a:path w="1713" h="1117">
                <a:moveTo>
                  <a:pt x="7565" y="9599"/>
                </a:moveTo>
                <a:cubicBezTo>
                  <a:pt x="7632" y="9566"/>
                  <a:pt x="7676" y="9487"/>
                  <a:pt x="7764" y="9451"/>
                </a:cubicBezTo>
                <a:cubicBezTo>
                  <a:pt x="7789" y="9443"/>
                  <a:pt x="7813" y="9434"/>
                  <a:pt x="7838" y="9426"/>
                </a:cubicBezTo>
                <a:cubicBezTo>
                  <a:pt x="7838" y="9636"/>
                  <a:pt x="7790" y="9785"/>
                  <a:pt x="7689" y="9971"/>
                </a:cubicBezTo>
                <a:cubicBezTo>
                  <a:pt x="7614" y="10110"/>
                  <a:pt x="7528" y="10225"/>
                  <a:pt x="7466" y="10368"/>
                </a:cubicBezTo>
                <a:cubicBezTo>
                  <a:pt x="7570" y="10296"/>
                  <a:pt x="7647" y="10179"/>
                  <a:pt x="7789" y="10195"/>
                </a:cubicBezTo>
                <a:cubicBezTo>
                  <a:pt x="7892" y="10206"/>
                  <a:pt x="7875" y="10269"/>
                  <a:pt x="7987" y="10269"/>
                </a:cubicBezTo>
              </a:path>
              <a:path w="1713" h="1117">
                <a:moveTo>
                  <a:pt x="8235" y="9649"/>
                </a:moveTo>
                <a:cubicBezTo>
                  <a:pt x="8235" y="9684"/>
                  <a:pt x="8253" y="9596"/>
                  <a:pt x="8285" y="9550"/>
                </a:cubicBezTo>
                <a:cubicBezTo>
                  <a:pt x="8360" y="9443"/>
                  <a:pt x="8452" y="9394"/>
                  <a:pt x="8582" y="9376"/>
                </a:cubicBezTo>
                <a:cubicBezTo>
                  <a:pt x="8612" y="9372"/>
                  <a:pt x="8668" y="9366"/>
                  <a:pt x="8682" y="9401"/>
                </a:cubicBezTo>
                <a:cubicBezTo>
                  <a:pt x="8759" y="9600"/>
                  <a:pt x="8633" y="9854"/>
                  <a:pt x="8582" y="10046"/>
                </a:cubicBezTo>
                <a:cubicBezTo>
                  <a:pt x="8564" y="10114"/>
                  <a:pt x="8534" y="10171"/>
                  <a:pt x="8558" y="10195"/>
                </a:cubicBezTo>
              </a:path>
              <a:path w="1713" h="1117">
                <a:moveTo>
                  <a:pt x="9103" y="9252"/>
                </a:moveTo>
                <a:cubicBezTo>
                  <a:pt x="9033" y="9295"/>
                  <a:pt x="8997" y="9368"/>
                  <a:pt x="8979" y="9451"/>
                </a:cubicBezTo>
                <a:cubicBezTo>
                  <a:pt x="8999" y="9457"/>
                  <a:pt x="9156" y="9378"/>
                  <a:pt x="9178" y="9302"/>
                </a:cubicBezTo>
                <a:cubicBezTo>
                  <a:pt x="9144" y="9268"/>
                  <a:pt x="9123" y="9260"/>
                  <a:pt x="9079" y="92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920" y="4500720"/>
            <a:ext cx="687240" cy="357120"/>
          </a:xfrm>
          <a:custGeom>
            <a:avLst/>
            <a:gdLst/>
            <a:ahLst/>
            <a:rect l="l" t="t" r="r" b="b"/>
            <a:pathLst>
              <a:path w="1911" h="993">
                <a:moveTo>
                  <a:pt x="7342" y="12601"/>
                </a:moveTo>
                <a:cubicBezTo>
                  <a:pt x="7318" y="12747"/>
                  <a:pt x="7250" y="12886"/>
                  <a:pt x="7193" y="13022"/>
                </a:cubicBezTo>
                <a:cubicBezTo>
                  <a:pt x="7149" y="13127"/>
                  <a:pt x="6970" y="13386"/>
                  <a:pt x="6970" y="13494"/>
                </a:cubicBezTo>
                <a:cubicBezTo>
                  <a:pt x="7028" y="13494"/>
                  <a:pt x="7056" y="13468"/>
                  <a:pt x="7069" y="13395"/>
                </a:cubicBezTo>
              </a:path>
              <a:path w="1911" h="993">
                <a:moveTo>
                  <a:pt x="7764" y="12750"/>
                </a:moveTo>
                <a:cubicBezTo>
                  <a:pt x="7826" y="12770"/>
                  <a:pt x="7779" y="12924"/>
                  <a:pt x="7764" y="12973"/>
                </a:cubicBezTo>
                <a:cubicBezTo>
                  <a:pt x="7726" y="13098"/>
                  <a:pt x="7668" y="13225"/>
                  <a:pt x="7615" y="13345"/>
                </a:cubicBezTo>
              </a:path>
              <a:path w="1911" h="993">
                <a:moveTo>
                  <a:pt x="8062" y="12725"/>
                </a:moveTo>
                <a:cubicBezTo>
                  <a:pt x="8017" y="12805"/>
                  <a:pt x="7961" y="12872"/>
                  <a:pt x="7913" y="12948"/>
                </a:cubicBezTo>
                <a:cubicBezTo>
                  <a:pt x="8017" y="12948"/>
                  <a:pt x="8075" y="12925"/>
                  <a:pt x="8186" y="12948"/>
                </a:cubicBezTo>
                <a:cubicBezTo>
                  <a:pt x="8327" y="12977"/>
                  <a:pt x="8292" y="13114"/>
                  <a:pt x="8210" y="13196"/>
                </a:cubicBezTo>
                <a:cubicBezTo>
                  <a:pt x="8153" y="13253"/>
                  <a:pt x="7903" y="13425"/>
                  <a:pt x="7838" y="13271"/>
                </a:cubicBezTo>
                <a:cubicBezTo>
                  <a:pt x="7838" y="13229"/>
                  <a:pt x="7838" y="13188"/>
                  <a:pt x="7838" y="13146"/>
                </a:cubicBezTo>
              </a:path>
              <a:path w="1911" h="993">
                <a:moveTo>
                  <a:pt x="8186" y="12675"/>
                </a:moveTo>
                <a:cubicBezTo>
                  <a:pt x="8284" y="12668"/>
                  <a:pt x="8373" y="12648"/>
                  <a:pt x="8458" y="12626"/>
                </a:cubicBezTo>
                <a:cubicBezTo>
                  <a:pt x="8466" y="12626"/>
                  <a:pt x="8475" y="12626"/>
                  <a:pt x="8483" y="12626"/>
                </a:cubicBezTo>
              </a:path>
              <a:path w="1911" h="993">
                <a:moveTo>
                  <a:pt x="8830" y="12502"/>
                </a:moveTo>
                <a:cubicBezTo>
                  <a:pt x="8779" y="12512"/>
                  <a:pt x="8694" y="12552"/>
                  <a:pt x="8731" y="12626"/>
                </a:cubicBezTo>
                <a:cubicBezTo>
                  <a:pt x="8753" y="12670"/>
                  <a:pt x="8872" y="12567"/>
                  <a:pt x="8880" y="12551"/>
                </a:cubicBezTo>
                <a:cubicBezTo>
                  <a:pt x="8846" y="12517"/>
                  <a:pt x="8825" y="12509"/>
                  <a:pt x="8781" y="125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5720" y="1500120"/>
            <a:ext cx="546120" cy="374760"/>
          </a:xfrm>
          <a:custGeom>
            <a:avLst/>
            <a:gdLst/>
            <a:ahLst/>
            <a:rect l="l" t="t" r="r" b="b"/>
            <a:pathLst>
              <a:path w="1514" h="1043">
                <a:moveTo>
                  <a:pt x="19124" y="4415"/>
                </a:moveTo>
                <a:cubicBezTo>
                  <a:pt x="19124" y="4442"/>
                  <a:pt x="19068" y="4292"/>
                  <a:pt x="19025" y="4242"/>
                </a:cubicBezTo>
                <a:cubicBezTo>
                  <a:pt x="18923" y="4122"/>
                  <a:pt x="18811" y="4138"/>
                  <a:pt x="18728" y="4266"/>
                </a:cubicBezTo>
                <a:cubicBezTo>
                  <a:pt x="18625" y="4426"/>
                  <a:pt x="18592" y="4607"/>
                  <a:pt x="18678" y="4762"/>
                </a:cubicBezTo>
                <a:cubicBezTo>
                  <a:pt x="18862" y="4671"/>
                  <a:pt x="18911" y="4540"/>
                  <a:pt x="19025" y="4366"/>
                </a:cubicBezTo>
                <a:cubicBezTo>
                  <a:pt x="19033" y="4358"/>
                  <a:pt x="19042" y="4349"/>
                  <a:pt x="19050" y="4341"/>
                </a:cubicBezTo>
                <a:cubicBezTo>
                  <a:pt x="19050" y="4509"/>
                  <a:pt x="19043" y="4669"/>
                  <a:pt x="19025" y="4837"/>
                </a:cubicBezTo>
                <a:cubicBezTo>
                  <a:pt x="19012" y="4962"/>
                  <a:pt x="18987" y="5085"/>
                  <a:pt x="18976" y="5209"/>
                </a:cubicBezTo>
              </a:path>
              <a:path w="1514" h="1043">
                <a:moveTo>
                  <a:pt x="19596" y="4266"/>
                </a:moveTo>
                <a:cubicBezTo>
                  <a:pt x="19579" y="4448"/>
                  <a:pt x="19568" y="4629"/>
                  <a:pt x="19546" y="4812"/>
                </a:cubicBezTo>
                <a:cubicBezTo>
                  <a:pt x="19534" y="4914"/>
                  <a:pt x="19510" y="5010"/>
                  <a:pt x="19496" y="5110"/>
                </a:cubicBezTo>
              </a:path>
              <a:path w="1514" h="1043">
                <a:moveTo>
                  <a:pt x="20042" y="4167"/>
                </a:moveTo>
                <a:cubicBezTo>
                  <a:pt x="20022" y="4259"/>
                  <a:pt x="19993" y="4312"/>
                  <a:pt x="19993" y="4415"/>
                </a:cubicBezTo>
                <a:cubicBezTo>
                  <a:pt x="20064" y="4403"/>
                  <a:pt x="20173" y="4367"/>
                  <a:pt x="20141" y="4266"/>
                </a:cubicBezTo>
                <a:cubicBezTo>
                  <a:pt x="20099" y="4266"/>
                  <a:pt x="20073" y="4260"/>
                  <a:pt x="20042" y="42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34080" y="2411280"/>
            <a:ext cx="733680" cy="411120"/>
          </a:xfrm>
          <a:custGeom>
            <a:avLst/>
            <a:gdLst/>
            <a:ahLst/>
            <a:rect l="l" t="t" r="r" b="b"/>
            <a:pathLst>
              <a:path w="2035" h="1142">
                <a:moveTo>
                  <a:pt x="18529" y="7218"/>
                </a:moveTo>
                <a:cubicBezTo>
                  <a:pt x="18567" y="7205"/>
                  <a:pt x="18554" y="7189"/>
                  <a:pt x="18554" y="7144"/>
                </a:cubicBezTo>
                <a:cubicBezTo>
                  <a:pt x="18534" y="7322"/>
                  <a:pt x="18487" y="7511"/>
                  <a:pt x="18455" y="7689"/>
                </a:cubicBezTo>
                <a:cubicBezTo>
                  <a:pt x="18445" y="7747"/>
                  <a:pt x="18430" y="7872"/>
                  <a:pt x="18430" y="7813"/>
                </a:cubicBezTo>
              </a:path>
              <a:path w="2035" h="1142">
                <a:moveTo>
                  <a:pt x="19124" y="7045"/>
                </a:moveTo>
                <a:cubicBezTo>
                  <a:pt x="19093" y="7145"/>
                  <a:pt x="19042" y="7240"/>
                  <a:pt x="19025" y="7342"/>
                </a:cubicBezTo>
                <a:cubicBezTo>
                  <a:pt x="19083" y="7332"/>
                  <a:pt x="19258" y="7293"/>
                  <a:pt x="19298" y="7367"/>
                </a:cubicBezTo>
                <a:cubicBezTo>
                  <a:pt x="19375" y="7509"/>
                  <a:pt x="19186" y="7700"/>
                  <a:pt x="19050" y="7689"/>
                </a:cubicBezTo>
                <a:cubicBezTo>
                  <a:pt x="19017" y="7673"/>
                  <a:pt x="18984" y="7656"/>
                  <a:pt x="18951" y="7640"/>
                </a:cubicBezTo>
              </a:path>
              <a:path w="2035" h="1142">
                <a:moveTo>
                  <a:pt x="19149" y="7045"/>
                </a:moveTo>
                <a:cubicBezTo>
                  <a:pt x="19272" y="6999"/>
                  <a:pt x="19344" y="6978"/>
                  <a:pt x="19472" y="6970"/>
                </a:cubicBezTo>
              </a:path>
              <a:path w="2035" h="1142">
                <a:moveTo>
                  <a:pt x="19571" y="7144"/>
                </a:moveTo>
                <a:cubicBezTo>
                  <a:pt x="19625" y="7232"/>
                  <a:pt x="19619" y="7104"/>
                  <a:pt x="19670" y="7020"/>
                </a:cubicBezTo>
                <a:cubicBezTo>
                  <a:pt x="19728" y="6925"/>
                  <a:pt x="19848" y="6798"/>
                  <a:pt x="19968" y="6871"/>
                </a:cubicBezTo>
                <a:cubicBezTo>
                  <a:pt x="20097" y="6950"/>
                  <a:pt x="19992" y="7349"/>
                  <a:pt x="19968" y="7466"/>
                </a:cubicBezTo>
                <a:cubicBezTo>
                  <a:pt x="19940" y="7600"/>
                  <a:pt x="19882" y="7797"/>
                  <a:pt x="19918" y="7665"/>
                </a:cubicBezTo>
              </a:path>
              <a:path w="2035" h="1142">
                <a:moveTo>
                  <a:pt x="20340" y="6722"/>
                </a:moveTo>
                <a:cubicBezTo>
                  <a:pt x="20318" y="6772"/>
                  <a:pt x="20315" y="6773"/>
                  <a:pt x="20315" y="6821"/>
                </a:cubicBezTo>
                <a:cubicBezTo>
                  <a:pt x="20344" y="6811"/>
                  <a:pt x="20474" y="6749"/>
                  <a:pt x="20464" y="6697"/>
                </a:cubicBezTo>
                <a:cubicBezTo>
                  <a:pt x="20453" y="6644"/>
                  <a:pt x="20364" y="6724"/>
                  <a:pt x="20315" y="67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29280" y="3348000"/>
            <a:ext cx="536760" cy="393840"/>
          </a:xfrm>
          <a:custGeom>
            <a:avLst/>
            <a:gdLst/>
            <a:ahLst/>
            <a:rect l="l" t="t" r="r" b="b"/>
            <a:pathLst>
              <a:path w="1490" h="1092">
                <a:moveTo>
                  <a:pt x="19298" y="9599"/>
                </a:moveTo>
                <a:cubicBezTo>
                  <a:pt x="19336" y="9543"/>
                  <a:pt x="19353" y="9540"/>
                  <a:pt x="19348" y="9500"/>
                </a:cubicBezTo>
                <a:cubicBezTo>
                  <a:pt x="19348" y="9627"/>
                  <a:pt x="19278" y="9729"/>
                  <a:pt x="19248" y="9847"/>
                </a:cubicBezTo>
                <a:cubicBezTo>
                  <a:pt x="19248" y="9864"/>
                  <a:pt x="19248" y="9880"/>
                  <a:pt x="19248" y="9897"/>
                </a:cubicBezTo>
                <a:cubicBezTo>
                  <a:pt x="19404" y="9918"/>
                  <a:pt x="19539" y="9884"/>
                  <a:pt x="19695" y="9847"/>
                </a:cubicBezTo>
              </a:path>
              <a:path w="1490" h="1092">
                <a:moveTo>
                  <a:pt x="19720" y="9376"/>
                </a:moveTo>
                <a:cubicBezTo>
                  <a:pt x="19657" y="9673"/>
                  <a:pt x="19606" y="9972"/>
                  <a:pt x="19546" y="10269"/>
                </a:cubicBezTo>
                <a:cubicBezTo>
                  <a:pt x="19527" y="10343"/>
                  <a:pt x="19519" y="10402"/>
                  <a:pt x="19521" y="10344"/>
                </a:cubicBezTo>
              </a:path>
              <a:path w="1490" h="1092">
                <a:moveTo>
                  <a:pt x="20265" y="9649"/>
                </a:moveTo>
                <a:cubicBezTo>
                  <a:pt x="20310" y="9571"/>
                  <a:pt x="20335" y="9498"/>
                  <a:pt x="20241" y="9426"/>
                </a:cubicBezTo>
                <a:cubicBezTo>
                  <a:pt x="20216" y="9418"/>
                  <a:pt x="20191" y="9409"/>
                  <a:pt x="20166" y="9401"/>
                </a:cubicBezTo>
                <a:cubicBezTo>
                  <a:pt x="20003" y="9510"/>
                  <a:pt x="19899" y="9657"/>
                  <a:pt x="19893" y="9872"/>
                </a:cubicBezTo>
                <a:cubicBezTo>
                  <a:pt x="19901" y="9897"/>
                  <a:pt x="19910" y="9922"/>
                  <a:pt x="19918" y="9947"/>
                </a:cubicBezTo>
                <a:cubicBezTo>
                  <a:pt x="20081" y="9906"/>
                  <a:pt x="20186" y="9816"/>
                  <a:pt x="20265" y="9649"/>
                </a:cubicBezTo>
                <a:cubicBezTo>
                  <a:pt x="20265" y="9641"/>
                  <a:pt x="20265" y="9632"/>
                  <a:pt x="20265" y="9624"/>
                </a:cubicBezTo>
                <a:cubicBezTo>
                  <a:pt x="20265" y="9816"/>
                  <a:pt x="20270" y="10004"/>
                  <a:pt x="20241" y="10195"/>
                </a:cubicBezTo>
                <a:cubicBezTo>
                  <a:pt x="20230" y="10269"/>
                  <a:pt x="20216" y="10443"/>
                  <a:pt x="20216" y="10368"/>
                </a:cubicBezTo>
              </a:path>
              <a:path w="1490" h="1092">
                <a:moveTo>
                  <a:pt x="20662" y="9327"/>
                </a:moveTo>
                <a:cubicBezTo>
                  <a:pt x="20653" y="9371"/>
                  <a:pt x="20643" y="9406"/>
                  <a:pt x="20638" y="9451"/>
                </a:cubicBezTo>
                <a:cubicBezTo>
                  <a:pt x="20703" y="9434"/>
                  <a:pt x="20727" y="9392"/>
                  <a:pt x="20737" y="9327"/>
                </a:cubicBezTo>
                <a:cubicBezTo>
                  <a:pt x="20746" y="9270"/>
                  <a:pt x="20667" y="9321"/>
                  <a:pt x="20638" y="93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56280" y="4510080"/>
            <a:ext cx="517680" cy="428760"/>
          </a:xfrm>
          <a:custGeom>
            <a:avLst/>
            <a:gdLst/>
            <a:ahLst/>
            <a:rect l="l" t="t" r="r" b="b"/>
            <a:pathLst>
              <a:path w="1440" h="1192">
                <a:moveTo>
                  <a:pt x="19372" y="12973"/>
                </a:moveTo>
                <a:cubicBezTo>
                  <a:pt x="19432" y="12893"/>
                  <a:pt x="19388" y="12959"/>
                  <a:pt x="19372" y="13072"/>
                </a:cubicBezTo>
                <a:cubicBezTo>
                  <a:pt x="19341" y="13295"/>
                  <a:pt x="19299" y="13483"/>
                  <a:pt x="19372" y="13692"/>
                </a:cubicBezTo>
                <a:cubicBezTo>
                  <a:pt x="19564" y="13704"/>
                  <a:pt x="19769" y="13644"/>
                  <a:pt x="19893" y="13469"/>
                </a:cubicBezTo>
                <a:cubicBezTo>
                  <a:pt x="19939" y="13356"/>
                  <a:pt x="19955" y="13326"/>
                  <a:pt x="19943" y="13246"/>
                </a:cubicBezTo>
                <a:cubicBezTo>
                  <a:pt x="19798" y="13331"/>
                  <a:pt x="19725" y="13444"/>
                  <a:pt x="19695" y="13618"/>
                </a:cubicBezTo>
                <a:cubicBezTo>
                  <a:pt x="19674" y="13739"/>
                  <a:pt x="19805" y="13574"/>
                  <a:pt x="19869" y="13469"/>
                </a:cubicBezTo>
              </a:path>
              <a:path w="1440" h="1192">
                <a:moveTo>
                  <a:pt x="20092" y="12898"/>
                </a:moveTo>
                <a:cubicBezTo>
                  <a:pt x="20140" y="12859"/>
                  <a:pt x="20279" y="12736"/>
                  <a:pt x="20340" y="12824"/>
                </a:cubicBezTo>
                <a:cubicBezTo>
                  <a:pt x="20445" y="12976"/>
                  <a:pt x="20252" y="13285"/>
                  <a:pt x="20191" y="13419"/>
                </a:cubicBezTo>
                <a:cubicBezTo>
                  <a:pt x="20130" y="13553"/>
                  <a:pt x="20091" y="13587"/>
                  <a:pt x="20117" y="13717"/>
                </a:cubicBezTo>
                <a:cubicBezTo>
                  <a:pt x="20270" y="13668"/>
                  <a:pt x="20440" y="13577"/>
                  <a:pt x="20588" y="13543"/>
                </a:cubicBezTo>
                <a:cubicBezTo>
                  <a:pt x="20596" y="13543"/>
                  <a:pt x="20605" y="13543"/>
                  <a:pt x="20613" y="13543"/>
                </a:cubicBezTo>
              </a:path>
              <a:path w="1440" h="1192">
                <a:moveTo>
                  <a:pt x="20662" y="12526"/>
                </a:moveTo>
                <a:cubicBezTo>
                  <a:pt x="20641" y="12564"/>
                  <a:pt x="20622" y="12589"/>
                  <a:pt x="20613" y="12626"/>
                </a:cubicBezTo>
                <a:cubicBezTo>
                  <a:pt x="20655" y="12626"/>
                  <a:pt x="20777" y="12624"/>
                  <a:pt x="20762" y="12551"/>
                </a:cubicBezTo>
                <a:cubicBezTo>
                  <a:pt x="20727" y="12551"/>
                  <a:pt x="20709" y="12546"/>
                  <a:pt x="20687" y="125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lementary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85840" y="228600"/>
            <a:ext cx="305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gles who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 is 90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18480" y="83808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1240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71800" y="12952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28954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971800" y="1828800"/>
            <a:ext cx="19810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95840" y="24829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3372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219320" y="3352680"/>
                <a:ext cx="45720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Ð</m:t>
                    </m:r>
                    <m:r>
                      <m:rPr>
                        <m:lit/>
                        <m:nor/>
                      </m:rPr>
                      <m:t xml:space="preserve">a  + m</m:t>
                    </m:r>
                    <m:r>
                      <m:t xml:space="preserve">Ð</m:t>
                    </m:r>
                    <m:r>
                      <m:rPr>
                        <m:lit/>
                        <m:nor/>
                      </m:rPr>
                      <m:t xml:space="preserve"> b = 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715000" y="327672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019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133720" y="41911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133720" y="4723920"/>
            <a:ext cx="19810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5027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33720" y="540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18680" y="4311720"/>
            <a:ext cx="21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+ 40 = 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41960" y="48006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40   -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541008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30840" y="556092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= 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41760" y="547056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24680" y="56228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5562720"/>
            <a:ext cx="20574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2080" y="258840"/>
            <a:ext cx="543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complement of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9120" y="1217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9120" y="22543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 4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440" y="3321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9840" y="4387680"/>
            <a:ext cx="47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the supplement of 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1219320"/>
            <a:ext cx="9180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28600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33368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41960" y="441972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20920" y="1009800"/>
            <a:ext cx="814320" cy="982440"/>
          </a:xfrm>
          <a:custGeom>
            <a:avLst/>
            <a:gdLst/>
            <a:ahLst/>
            <a:rect l="l" t="t" r="r" b="b"/>
            <a:pathLst>
              <a:path w="2258" h="2729">
                <a:moveTo>
                  <a:pt x="7417" y="3026"/>
                </a:moveTo>
                <a:cubicBezTo>
                  <a:pt x="7430" y="2931"/>
                  <a:pt x="7364" y="2826"/>
                  <a:pt x="7243" y="2803"/>
                </a:cubicBezTo>
                <a:cubicBezTo>
                  <a:pt x="7069" y="2770"/>
                  <a:pt x="6967" y="2869"/>
                  <a:pt x="6921" y="3026"/>
                </a:cubicBezTo>
                <a:cubicBezTo>
                  <a:pt x="6898" y="3162"/>
                  <a:pt x="6884" y="3199"/>
                  <a:pt x="6945" y="3274"/>
                </a:cubicBezTo>
                <a:cubicBezTo>
                  <a:pt x="7143" y="3286"/>
                  <a:pt x="7173" y="3226"/>
                  <a:pt x="7293" y="3076"/>
                </a:cubicBezTo>
                <a:cubicBezTo>
                  <a:pt x="7309" y="3059"/>
                  <a:pt x="7326" y="3043"/>
                  <a:pt x="7342" y="3026"/>
                </a:cubicBezTo>
                <a:cubicBezTo>
                  <a:pt x="7321" y="3174"/>
                  <a:pt x="7295" y="3325"/>
                  <a:pt x="7268" y="3473"/>
                </a:cubicBezTo>
                <a:cubicBezTo>
                  <a:pt x="7253" y="3553"/>
                  <a:pt x="7205" y="3643"/>
                  <a:pt x="7268" y="3621"/>
                </a:cubicBezTo>
              </a:path>
              <a:path w="2258" h="2729">
                <a:moveTo>
                  <a:pt x="7689" y="2927"/>
                </a:moveTo>
                <a:cubicBezTo>
                  <a:pt x="7607" y="3127"/>
                  <a:pt x="7555" y="3301"/>
                  <a:pt x="7640" y="3497"/>
                </a:cubicBezTo>
                <a:cubicBezTo>
                  <a:pt x="7872" y="3514"/>
                  <a:pt x="7953" y="3391"/>
                  <a:pt x="7962" y="3150"/>
                </a:cubicBezTo>
                <a:cubicBezTo>
                  <a:pt x="7971" y="2931"/>
                  <a:pt x="7879" y="2961"/>
                  <a:pt x="7739" y="2977"/>
                </a:cubicBezTo>
              </a:path>
              <a:path w="2258" h="2729">
                <a:moveTo>
                  <a:pt x="6598" y="3994"/>
                </a:moveTo>
                <a:cubicBezTo>
                  <a:pt x="6728" y="3929"/>
                  <a:pt x="6756" y="3909"/>
                  <a:pt x="6846" y="3894"/>
                </a:cubicBezTo>
              </a:path>
              <a:path w="2258" h="2729">
                <a:moveTo>
                  <a:pt x="6921" y="3969"/>
                </a:moveTo>
                <a:cubicBezTo>
                  <a:pt x="7036" y="3916"/>
                  <a:pt x="7074" y="3912"/>
                  <a:pt x="7193" y="3919"/>
                </a:cubicBezTo>
                <a:cubicBezTo>
                  <a:pt x="7288" y="4093"/>
                  <a:pt x="7203" y="4212"/>
                  <a:pt x="7045" y="4341"/>
                </a:cubicBezTo>
                <a:cubicBezTo>
                  <a:pt x="6969" y="4403"/>
                  <a:pt x="6876" y="4442"/>
                  <a:pt x="6821" y="4415"/>
                </a:cubicBezTo>
                <a:cubicBezTo>
                  <a:pt x="6914" y="4309"/>
                  <a:pt x="7116" y="4070"/>
                  <a:pt x="7293" y="4167"/>
                </a:cubicBezTo>
                <a:cubicBezTo>
                  <a:pt x="7315" y="4234"/>
                  <a:pt x="7326" y="4252"/>
                  <a:pt x="7293" y="4291"/>
                </a:cubicBezTo>
              </a:path>
              <a:path w="2258" h="2729">
                <a:moveTo>
                  <a:pt x="7590" y="3721"/>
                </a:moveTo>
                <a:cubicBezTo>
                  <a:pt x="7494" y="3921"/>
                  <a:pt x="7402" y="4036"/>
                  <a:pt x="7491" y="4242"/>
                </a:cubicBezTo>
                <a:cubicBezTo>
                  <a:pt x="7666" y="4216"/>
                  <a:pt x="7885" y="4140"/>
                  <a:pt x="7813" y="3894"/>
                </a:cubicBezTo>
                <a:cubicBezTo>
                  <a:pt x="7760" y="3711"/>
                  <a:pt x="7620" y="3827"/>
                  <a:pt x="7516" y="3870"/>
                </a:cubicBezTo>
              </a:path>
              <a:path w="2258" h="2729">
                <a:moveTo>
                  <a:pt x="6449" y="4812"/>
                </a:moveTo>
                <a:cubicBezTo>
                  <a:pt x="6739" y="4715"/>
                  <a:pt x="7029" y="4619"/>
                  <a:pt x="7317" y="4514"/>
                </a:cubicBezTo>
                <a:cubicBezTo>
                  <a:pt x="7426" y="4474"/>
                  <a:pt x="7552" y="4418"/>
                  <a:pt x="7665" y="4390"/>
                </a:cubicBezTo>
              </a:path>
              <a:path w="2258" h="2729">
                <a:moveTo>
                  <a:pt x="7119" y="5011"/>
                </a:moveTo>
                <a:cubicBezTo>
                  <a:pt x="7286" y="4969"/>
                  <a:pt x="7438" y="4905"/>
                  <a:pt x="7615" y="4887"/>
                </a:cubicBezTo>
                <a:cubicBezTo>
                  <a:pt x="7828" y="4865"/>
                  <a:pt x="7769" y="5046"/>
                  <a:pt x="7714" y="5184"/>
                </a:cubicBezTo>
                <a:cubicBezTo>
                  <a:pt x="7708" y="5199"/>
                  <a:pt x="7580" y="5542"/>
                  <a:pt x="7590" y="5531"/>
                </a:cubicBezTo>
                <a:cubicBezTo>
                  <a:pt x="7615" y="5490"/>
                  <a:pt x="7640" y="5448"/>
                  <a:pt x="7665" y="5407"/>
                </a:cubicBezTo>
              </a:path>
              <a:path w="2258" h="2729">
                <a:moveTo>
                  <a:pt x="8186" y="4837"/>
                </a:moveTo>
                <a:cubicBezTo>
                  <a:pt x="8109" y="4952"/>
                  <a:pt x="8012" y="5133"/>
                  <a:pt x="8012" y="5283"/>
                </a:cubicBezTo>
                <a:cubicBezTo>
                  <a:pt x="8020" y="5300"/>
                  <a:pt x="8029" y="5316"/>
                  <a:pt x="8037" y="5333"/>
                </a:cubicBezTo>
                <a:cubicBezTo>
                  <a:pt x="8281" y="5347"/>
                  <a:pt x="8391" y="5276"/>
                  <a:pt x="8483" y="5035"/>
                </a:cubicBezTo>
                <a:cubicBezTo>
                  <a:pt x="8560" y="4832"/>
                  <a:pt x="8382" y="4772"/>
                  <a:pt x="8210" y="4787"/>
                </a:cubicBezTo>
                <a:cubicBezTo>
                  <a:pt x="8185" y="4795"/>
                  <a:pt x="8161" y="4804"/>
                  <a:pt x="8136" y="4812"/>
                </a:cubicBezTo>
              </a:path>
              <a:path w="2258" h="2729">
                <a:moveTo>
                  <a:pt x="8682" y="4242"/>
                </a:moveTo>
                <a:cubicBezTo>
                  <a:pt x="8611" y="4285"/>
                  <a:pt x="8601" y="4290"/>
                  <a:pt x="8582" y="4366"/>
                </a:cubicBezTo>
                <a:cubicBezTo>
                  <a:pt x="8603" y="4396"/>
                  <a:pt x="8682" y="4415"/>
                  <a:pt x="8706" y="4341"/>
                </a:cubicBezTo>
                <a:cubicBezTo>
                  <a:pt x="8706" y="4265"/>
                  <a:pt x="8705" y="4240"/>
                  <a:pt x="8632" y="42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84280" y="2374920"/>
            <a:ext cx="527040" cy="357120"/>
          </a:xfrm>
          <a:custGeom>
            <a:avLst/>
            <a:gdLst/>
            <a:ahLst/>
            <a:rect l="l" t="t" r="r" b="b"/>
            <a:pathLst>
              <a:path w="1464" h="993">
                <a:moveTo>
                  <a:pt x="6672" y="6871"/>
                </a:moveTo>
                <a:cubicBezTo>
                  <a:pt x="6644" y="6969"/>
                  <a:pt x="6599" y="7059"/>
                  <a:pt x="6623" y="7169"/>
                </a:cubicBezTo>
                <a:cubicBezTo>
                  <a:pt x="6654" y="7309"/>
                  <a:pt x="6827" y="7273"/>
                  <a:pt x="6921" y="7243"/>
                </a:cubicBezTo>
                <a:cubicBezTo>
                  <a:pt x="7031" y="7199"/>
                  <a:pt x="7060" y="7190"/>
                  <a:pt x="7119" y="7144"/>
                </a:cubicBezTo>
              </a:path>
              <a:path w="1464" h="993">
                <a:moveTo>
                  <a:pt x="7094" y="6871"/>
                </a:moveTo>
                <a:cubicBezTo>
                  <a:pt x="7073" y="7036"/>
                  <a:pt x="7046" y="7202"/>
                  <a:pt x="7020" y="7367"/>
                </a:cubicBezTo>
                <a:cubicBezTo>
                  <a:pt x="7001" y="7482"/>
                  <a:pt x="6992" y="7498"/>
                  <a:pt x="6995" y="7565"/>
                </a:cubicBezTo>
              </a:path>
              <a:path w="1464" h="993">
                <a:moveTo>
                  <a:pt x="7342" y="6970"/>
                </a:moveTo>
                <a:cubicBezTo>
                  <a:pt x="7405" y="6907"/>
                  <a:pt x="7493" y="6821"/>
                  <a:pt x="7590" y="6821"/>
                </a:cubicBezTo>
                <a:cubicBezTo>
                  <a:pt x="7615" y="6829"/>
                  <a:pt x="7640" y="6838"/>
                  <a:pt x="7665" y="6846"/>
                </a:cubicBezTo>
                <a:cubicBezTo>
                  <a:pt x="7703" y="6982"/>
                  <a:pt x="7609" y="7032"/>
                  <a:pt x="7541" y="7144"/>
                </a:cubicBezTo>
                <a:cubicBezTo>
                  <a:pt x="7541" y="7152"/>
                  <a:pt x="7541" y="7161"/>
                  <a:pt x="7541" y="7169"/>
                </a:cubicBezTo>
                <a:cubicBezTo>
                  <a:pt x="7610" y="7151"/>
                  <a:pt x="7702" y="7104"/>
                  <a:pt x="7764" y="7193"/>
                </a:cubicBezTo>
                <a:cubicBezTo>
                  <a:pt x="7873" y="7350"/>
                  <a:pt x="7685" y="7552"/>
                  <a:pt x="7541" y="7590"/>
                </a:cubicBezTo>
                <a:cubicBezTo>
                  <a:pt x="7391" y="7630"/>
                  <a:pt x="7316" y="7581"/>
                  <a:pt x="7243" y="7491"/>
                </a:cubicBezTo>
              </a:path>
              <a:path w="1464" h="993">
                <a:moveTo>
                  <a:pt x="7987" y="6598"/>
                </a:moveTo>
                <a:cubicBezTo>
                  <a:pt x="7981" y="6654"/>
                  <a:pt x="7973" y="6702"/>
                  <a:pt x="7987" y="6722"/>
                </a:cubicBezTo>
                <a:cubicBezTo>
                  <a:pt x="8024" y="6734"/>
                  <a:pt x="8155" y="6718"/>
                  <a:pt x="8086" y="6648"/>
                </a:cubicBezTo>
                <a:cubicBezTo>
                  <a:pt x="8051" y="6648"/>
                  <a:pt x="8034" y="6643"/>
                  <a:pt x="8012" y="66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76640" y="3483000"/>
            <a:ext cx="1009440" cy="285840"/>
          </a:xfrm>
          <a:custGeom>
            <a:avLst/>
            <a:gdLst/>
            <a:ahLst/>
            <a:rect l="l" t="t" r="r" b="b"/>
            <a:pathLst>
              <a:path w="2804" h="795">
                <a:moveTo>
                  <a:pt x="6772" y="9699"/>
                </a:moveTo>
                <a:cubicBezTo>
                  <a:pt x="6780" y="9915"/>
                  <a:pt x="6816" y="10128"/>
                  <a:pt x="6821" y="10344"/>
                </a:cubicBezTo>
                <a:cubicBezTo>
                  <a:pt x="6823" y="10422"/>
                  <a:pt x="6844" y="10452"/>
                  <a:pt x="6796" y="10468"/>
                </a:cubicBezTo>
              </a:path>
              <a:path w="2804" h="795">
                <a:moveTo>
                  <a:pt x="6325" y="10046"/>
                </a:moveTo>
                <a:cubicBezTo>
                  <a:pt x="6533" y="10098"/>
                  <a:pt x="6732" y="10093"/>
                  <a:pt x="6945" y="10071"/>
                </a:cubicBezTo>
                <a:cubicBezTo>
                  <a:pt x="7061" y="10052"/>
                  <a:pt x="7077" y="10043"/>
                  <a:pt x="7144" y="10046"/>
                </a:cubicBezTo>
              </a:path>
              <a:path w="2804" h="795">
                <a:moveTo>
                  <a:pt x="7094" y="9674"/>
                </a:moveTo>
                <a:cubicBezTo>
                  <a:pt x="7114" y="9835"/>
                  <a:pt x="7152" y="10013"/>
                  <a:pt x="7193" y="10170"/>
                </a:cubicBezTo>
                <a:cubicBezTo>
                  <a:pt x="7214" y="10253"/>
                  <a:pt x="7243" y="10453"/>
                  <a:pt x="7243" y="10368"/>
                </a:cubicBezTo>
                <a:cubicBezTo>
                  <a:pt x="7243" y="10256"/>
                  <a:pt x="7207" y="10055"/>
                  <a:pt x="7342" y="9996"/>
                </a:cubicBezTo>
                <a:cubicBezTo>
                  <a:pt x="7503" y="9926"/>
                  <a:pt x="7618" y="10099"/>
                  <a:pt x="7665" y="10220"/>
                </a:cubicBezTo>
                <a:cubicBezTo>
                  <a:pt x="7701" y="10314"/>
                  <a:pt x="7684" y="10364"/>
                  <a:pt x="7665" y="10443"/>
                </a:cubicBezTo>
              </a:path>
              <a:path w="2804" h="795">
                <a:moveTo>
                  <a:pt x="7813" y="10120"/>
                </a:moveTo>
                <a:cubicBezTo>
                  <a:pt x="7902" y="10103"/>
                  <a:pt x="7992" y="10058"/>
                  <a:pt x="8086" y="10046"/>
                </a:cubicBezTo>
                <a:cubicBezTo>
                  <a:pt x="8144" y="10046"/>
                  <a:pt x="8153" y="10046"/>
                  <a:pt x="8186" y="10046"/>
                </a:cubicBezTo>
                <a:cubicBezTo>
                  <a:pt x="8098" y="10002"/>
                  <a:pt x="8032" y="9897"/>
                  <a:pt x="7913" y="9897"/>
                </a:cubicBezTo>
                <a:cubicBezTo>
                  <a:pt x="7769" y="9897"/>
                  <a:pt x="7744" y="10120"/>
                  <a:pt x="7764" y="10220"/>
                </a:cubicBezTo>
                <a:cubicBezTo>
                  <a:pt x="7807" y="10432"/>
                  <a:pt x="8020" y="10442"/>
                  <a:pt x="8186" y="10344"/>
                </a:cubicBezTo>
                <a:cubicBezTo>
                  <a:pt x="8276" y="10291"/>
                  <a:pt x="8418" y="10157"/>
                  <a:pt x="8334" y="10046"/>
                </a:cubicBezTo>
                <a:cubicBezTo>
                  <a:pt x="8279" y="9974"/>
                  <a:pt x="8394" y="10213"/>
                  <a:pt x="8434" y="10294"/>
                </a:cubicBezTo>
                <a:cubicBezTo>
                  <a:pt x="8442" y="10311"/>
                  <a:pt x="8450" y="10327"/>
                  <a:pt x="8458" y="10344"/>
                </a:cubicBezTo>
                <a:cubicBezTo>
                  <a:pt x="8375" y="10176"/>
                  <a:pt x="8337" y="10099"/>
                  <a:pt x="8483" y="9971"/>
                </a:cubicBezTo>
                <a:cubicBezTo>
                  <a:pt x="8565" y="9899"/>
                  <a:pt x="8607" y="9883"/>
                  <a:pt x="8706" y="9872"/>
                </a:cubicBezTo>
              </a:path>
              <a:path w="2804" h="795">
                <a:moveTo>
                  <a:pt x="8830" y="10046"/>
                </a:moveTo>
                <a:cubicBezTo>
                  <a:pt x="8913" y="10046"/>
                  <a:pt x="8996" y="10046"/>
                  <a:pt x="9079" y="10046"/>
                </a:cubicBezTo>
                <a:cubicBezTo>
                  <a:pt x="9046" y="9974"/>
                  <a:pt x="8991" y="9855"/>
                  <a:pt x="8880" y="9897"/>
                </a:cubicBezTo>
                <a:cubicBezTo>
                  <a:pt x="8764" y="9941"/>
                  <a:pt x="8664" y="10096"/>
                  <a:pt x="8706" y="10220"/>
                </a:cubicBezTo>
                <a:cubicBezTo>
                  <a:pt x="8766" y="10398"/>
                  <a:pt x="8960" y="10368"/>
                  <a:pt x="9103" y="10368"/>
                </a:cubicBezTo>
                <a:cubicBezTo>
                  <a:pt x="9111" y="10368"/>
                  <a:pt x="9120" y="10368"/>
                  <a:pt x="9128" y="103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63920" y="3340080"/>
            <a:ext cx="349200" cy="401760"/>
          </a:xfrm>
          <a:custGeom>
            <a:avLst/>
            <a:gdLst/>
            <a:ahLst/>
            <a:rect l="l" t="t" r="r" b="b"/>
            <a:pathLst>
              <a:path w="969" h="1117">
                <a:moveTo>
                  <a:pt x="10021" y="9599"/>
                </a:moveTo>
                <a:cubicBezTo>
                  <a:pt x="9998" y="9600"/>
                  <a:pt x="10037" y="9837"/>
                  <a:pt x="10046" y="9922"/>
                </a:cubicBezTo>
                <a:cubicBezTo>
                  <a:pt x="10057" y="10027"/>
                  <a:pt x="10194" y="10515"/>
                  <a:pt x="10021" y="10294"/>
                </a:cubicBezTo>
              </a:path>
              <a:path w="969" h="1117">
                <a:moveTo>
                  <a:pt x="9624" y="9971"/>
                </a:moveTo>
                <a:cubicBezTo>
                  <a:pt x="9649" y="9971"/>
                  <a:pt x="9657" y="9971"/>
                  <a:pt x="9674" y="9971"/>
                </a:cubicBezTo>
              </a:path>
              <a:path w="969" h="1117">
                <a:moveTo>
                  <a:pt x="9723" y="9996"/>
                </a:moveTo>
                <a:lnTo>
                  <a:pt x="9723" y="9996"/>
                </a:lnTo>
              </a:path>
              <a:path w="969" h="1117">
                <a:moveTo>
                  <a:pt x="10096" y="9922"/>
                </a:moveTo>
                <a:cubicBezTo>
                  <a:pt x="10096" y="9914"/>
                  <a:pt x="10096" y="9905"/>
                  <a:pt x="10096" y="9897"/>
                </a:cubicBezTo>
              </a:path>
              <a:path w="969" h="1117">
                <a:moveTo>
                  <a:pt x="9971" y="9277"/>
                </a:moveTo>
                <a:lnTo>
                  <a:pt x="9971" y="9277"/>
                </a:lnTo>
                <a:lnTo>
                  <a:pt x="9971" y="9277"/>
                </a:lnTo>
              </a:path>
              <a:path w="969" h="1117">
                <a:moveTo>
                  <a:pt x="10567" y="9872"/>
                </a:moveTo>
                <a:cubicBezTo>
                  <a:pt x="10610" y="9759"/>
                  <a:pt x="10579" y="9712"/>
                  <a:pt x="10443" y="9723"/>
                </a:cubicBezTo>
                <a:cubicBezTo>
                  <a:pt x="10298" y="9734"/>
                  <a:pt x="10255" y="9796"/>
                  <a:pt x="10170" y="9897"/>
                </a:cubicBezTo>
                <a:cubicBezTo>
                  <a:pt x="10212" y="10022"/>
                  <a:pt x="10356" y="9891"/>
                  <a:pt x="10468" y="9947"/>
                </a:cubicBezTo>
                <a:cubicBezTo>
                  <a:pt x="10557" y="10036"/>
                  <a:pt x="10590" y="10056"/>
                  <a:pt x="10567" y="10145"/>
                </a:cubicBezTo>
                <a:cubicBezTo>
                  <a:pt x="10435" y="10277"/>
                  <a:pt x="10367" y="10241"/>
                  <a:pt x="10195" y="101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27320" y="3500280"/>
            <a:ext cx="357480" cy="223920"/>
          </a:xfrm>
          <a:custGeom>
            <a:avLst/>
            <a:gdLst/>
            <a:ahLst/>
            <a:rect l="l" t="t" r="r" b="b"/>
            <a:pathLst>
              <a:path w="993" h="622">
                <a:moveTo>
                  <a:pt x="11237" y="9922"/>
                </a:moveTo>
                <a:cubicBezTo>
                  <a:pt x="11237" y="9911"/>
                  <a:pt x="11237" y="9805"/>
                  <a:pt x="11237" y="9872"/>
                </a:cubicBezTo>
                <a:cubicBezTo>
                  <a:pt x="11237" y="10024"/>
                  <a:pt x="11220" y="10169"/>
                  <a:pt x="11212" y="10319"/>
                </a:cubicBezTo>
                <a:cubicBezTo>
                  <a:pt x="11212" y="10344"/>
                  <a:pt x="11212" y="10352"/>
                  <a:pt x="11212" y="10319"/>
                </a:cubicBezTo>
                <a:cubicBezTo>
                  <a:pt x="11189" y="10128"/>
                  <a:pt x="11201" y="9963"/>
                  <a:pt x="11212" y="9773"/>
                </a:cubicBezTo>
                <a:cubicBezTo>
                  <a:pt x="11342" y="9903"/>
                  <a:pt x="11396" y="10123"/>
                  <a:pt x="11534" y="10269"/>
                </a:cubicBezTo>
                <a:cubicBezTo>
                  <a:pt x="11598" y="10311"/>
                  <a:pt x="11609" y="10328"/>
                  <a:pt x="11658" y="10319"/>
                </a:cubicBezTo>
                <a:cubicBezTo>
                  <a:pt x="11732" y="10160"/>
                  <a:pt x="11768" y="10000"/>
                  <a:pt x="11708" y="9823"/>
                </a:cubicBezTo>
                <a:cubicBezTo>
                  <a:pt x="11685" y="9800"/>
                  <a:pt x="11674" y="9792"/>
                  <a:pt x="11708" y="9798"/>
                </a:cubicBezTo>
              </a:path>
              <a:path w="993" h="622">
                <a:moveTo>
                  <a:pt x="11981" y="9723"/>
                </a:moveTo>
                <a:cubicBezTo>
                  <a:pt x="11830" y="9914"/>
                  <a:pt x="11755" y="10008"/>
                  <a:pt x="11881" y="10220"/>
                </a:cubicBezTo>
                <a:cubicBezTo>
                  <a:pt x="12035" y="10229"/>
                  <a:pt x="12239" y="10168"/>
                  <a:pt x="12179" y="9947"/>
                </a:cubicBezTo>
                <a:cubicBezTo>
                  <a:pt x="12144" y="9820"/>
                  <a:pt x="12007" y="9805"/>
                  <a:pt x="11906" y="97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53000" y="3303720"/>
            <a:ext cx="1990800" cy="546120"/>
          </a:xfrm>
          <a:custGeom>
            <a:avLst/>
            <a:gdLst/>
            <a:ahLst/>
            <a:rect l="l" t="t" r="r" b="b"/>
            <a:pathLst>
              <a:path w="5533" h="1514">
                <a:moveTo>
                  <a:pt x="13246" y="9872"/>
                </a:moveTo>
                <a:cubicBezTo>
                  <a:pt x="13246" y="9930"/>
                  <a:pt x="13212" y="9819"/>
                  <a:pt x="13196" y="9798"/>
                </a:cubicBezTo>
                <a:cubicBezTo>
                  <a:pt x="13179" y="9781"/>
                  <a:pt x="13163" y="9765"/>
                  <a:pt x="13146" y="9748"/>
                </a:cubicBezTo>
                <a:cubicBezTo>
                  <a:pt x="12997" y="9836"/>
                  <a:pt x="12892" y="9976"/>
                  <a:pt x="12923" y="10170"/>
                </a:cubicBezTo>
                <a:cubicBezTo>
                  <a:pt x="12956" y="10373"/>
                  <a:pt x="13125" y="10290"/>
                  <a:pt x="13246" y="10269"/>
                </a:cubicBezTo>
              </a:path>
              <a:path w="5533" h="1514">
                <a:moveTo>
                  <a:pt x="13469" y="9823"/>
                </a:moveTo>
                <a:cubicBezTo>
                  <a:pt x="13420" y="9950"/>
                  <a:pt x="13326" y="10178"/>
                  <a:pt x="13469" y="10294"/>
                </a:cubicBezTo>
                <a:cubicBezTo>
                  <a:pt x="13634" y="10429"/>
                  <a:pt x="13779" y="10189"/>
                  <a:pt x="13742" y="10046"/>
                </a:cubicBezTo>
                <a:cubicBezTo>
                  <a:pt x="13711" y="9927"/>
                  <a:pt x="13366" y="9889"/>
                  <a:pt x="13469" y="9823"/>
                </a:cubicBezTo>
                <a:cubicBezTo>
                  <a:pt x="13502" y="9815"/>
                  <a:pt x="13535" y="9806"/>
                  <a:pt x="13568" y="9798"/>
                </a:cubicBezTo>
              </a:path>
              <a:path w="5533" h="1514">
                <a:moveTo>
                  <a:pt x="13891" y="9971"/>
                </a:moveTo>
                <a:cubicBezTo>
                  <a:pt x="13910" y="10085"/>
                  <a:pt x="13926" y="10187"/>
                  <a:pt x="13965" y="10294"/>
                </a:cubicBezTo>
                <a:cubicBezTo>
                  <a:pt x="13965" y="10156"/>
                  <a:pt x="13947" y="9989"/>
                  <a:pt x="14039" y="9872"/>
                </a:cubicBezTo>
                <a:cubicBezTo>
                  <a:pt x="14180" y="9694"/>
                  <a:pt x="14250" y="10042"/>
                  <a:pt x="14263" y="10120"/>
                </a:cubicBezTo>
                <a:cubicBezTo>
                  <a:pt x="14263" y="10137"/>
                  <a:pt x="14263" y="10153"/>
                  <a:pt x="14263" y="10170"/>
                </a:cubicBezTo>
                <a:cubicBezTo>
                  <a:pt x="14263" y="10162"/>
                  <a:pt x="14263" y="10153"/>
                  <a:pt x="14263" y="10145"/>
                </a:cubicBezTo>
                <a:cubicBezTo>
                  <a:pt x="14255" y="10070"/>
                  <a:pt x="14215" y="9736"/>
                  <a:pt x="14412" y="9823"/>
                </a:cubicBezTo>
                <a:cubicBezTo>
                  <a:pt x="14551" y="9884"/>
                  <a:pt x="14586" y="10090"/>
                  <a:pt x="14560" y="10220"/>
                </a:cubicBezTo>
                <a:cubicBezTo>
                  <a:pt x="14537" y="10267"/>
                  <a:pt x="14529" y="10286"/>
                  <a:pt x="14536" y="10220"/>
                </a:cubicBezTo>
              </a:path>
              <a:path w="5533" h="1514">
                <a:moveTo>
                  <a:pt x="14660" y="9996"/>
                </a:moveTo>
                <a:cubicBezTo>
                  <a:pt x="14695" y="10225"/>
                  <a:pt x="14735" y="10454"/>
                  <a:pt x="14833" y="10666"/>
                </a:cubicBezTo>
                <a:cubicBezTo>
                  <a:pt x="14863" y="10696"/>
                  <a:pt x="14868" y="10698"/>
                  <a:pt x="14833" y="10641"/>
                </a:cubicBezTo>
              </a:path>
              <a:path w="5533" h="1514">
                <a:moveTo>
                  <a:pt x="14610" y="9773"/>
                </a:moveTo>
                <a:cubicBezTo>
                  <a:pt x="14795" y="9835"/>
                  <a:pt x="15032" y="9874"/>
                  <a:pt x="15081" y="10096"/>
                </a:cubicBezTo>
                <a:cubicBezTo>
                  <a:pt x="15133" y="10329"/>
                  <a:pt x="14764" y="10278"/>
                  <a:pt x="14660" y="10269"/>
                </a:cubicBezTo>
              </a:path>
              <a:path w="5533" h="1514">
                <a:moveTo>
                  <a:pt x="15280" y="9500"/>
                </a:moveTo>
                <a:cubicBezTo>
                  <a:pt x="15292" y="9706"/>
                  <a:pt x="15352" y="9896"/>
                  <a:pt x="15379" y="10096"/>
                </a:cubicBezTo>
                <a:cubicBezTo>
                  <a:pt x="15390" y="10182"/>
                  <a:pt x="15379" y="10280"/>
                  <a:pt x="15379" y="10368"/>
                </a:cubicBezTo>
              </a:path>
              <a:path w="5533" h="1514">
                <a:moveTo>
                  <a:pt x="15627" y="10046"/>
                </a:moveTo>
                <a:cubicBezTo>
                  <a:pt x="15644" y="10041"/>
                  <a:pt x="15838" y="10012"/>
                  <a:pt x="15850" y="9996"/>
                </a:cubicBezTo>
                <a:cubicBezTo>
                  <a:pt x="15891" y="9944"/>
                  <a:pt x="15859" y="9877"/>
                  <a:pt x="15850" y="9823"/>
                </a:cubicBezTo>
                <a:cubicBezTo>
                  <a:pt x="15686" y="9799"/>
                  <a:pt x="15539" y="9823"/>
                  <a:pt x="15453" y="9996"/>
                </a:cubicBezTo>
                <a:cubicBezTo>
                  <a:pt x="15342" y="10219"/>
                  <a:pt x="15554" y="10269"/>
                  <a:pt x="15701" y="10269"/>
                </a:cubicBezTo>
              </a:path>
              <a:path w="5533" h="1514">
                <a:moveTo>
                  <a:pt x="16073" y="9922"/>
                </a:moveTo>
                <a:cubicBezTo>
                  <a:pt x="16056" y="9982"/>
                  <a:pt x="16019" y="10116"/>
                  <a:pt x="16073" y="10170"/>
                </a:cubicBezTo>
                <a:cubicBezTo>
                  <a:pt x="16073" y="10162"/>
                  <a:pt x="16073" y="10153"/>
                  <a:pt x="16073" y="10145"/>
                </a:cubicBezTo>
                <a:cubicBezTo>
                  <a:pt x="16042" y="10066"/>
                  <a:pt x="15971" y="9901"/>
                  <a:pt x="16049" y="9823"/>
                </a:cubicBezTo>
                <a:cubicBezTo>
                  <a:pt x="16186" y="9686"/>
                  <a:pt x="16330" y="9958"/>
                  <a:pt x="16371" y="10046"/>
                </a:cubicBezTo>
                <a:cubicBezTo>
                  <a:pt x="16379" y="10071"/>
                  <a:pt x="16388" y="10095"/>
                  <a:pt x="16396" y="10120"/>
                </a:cubicBezTo>
                <a:cubicBezTo>
                  <a:pt x="16396" y="10128"/>
                  <a:pt x="16396" y="10137"/>
                  <a:pt x="16396" y="10145"/>
                </a:cubicBezTo>
                <a:cubicBezTo>
                  <a:pt x="16303" y="10068"/>
                  <a:pt x="16340" y="9958"/>
                  <a:pt x="16396" y="9847"/>
                </a:cubicBezTo>
                <a:cubicBezTo>
                  <a:pt x="16476" y="9687"/>
                  <a:pt x="16608" y="9813"/>
                  <a:pt x="16669" y="9922"/>
                </a:cubicBezTo>
                <a:cubicBezTo>
                  <a:pt x="16723" y="10018"/>
                  <a:pt x="16775" y="10189"/>
                  <a:pt x="16644" y="10170"/>
                </a:cubicBezTo>
              </a:path>
              <a:path w="5533" h="1514">
                <a:moveTo>
                  <a:pt x="16768" y="10021"/>
                </a:moveTo>
                <a:cubicBezTo>
                  <a:pt x="16845" y="9975"/>
                  <a:pt x="16947" y="9975"/>
                  <a:pt x="17041" y="9971"/>
                </a:cubicBezTo>
                <a:cubicBezTo>
                  <a:pt x="17049" y="9971"/>
                  <a:pt x="17058" y="9971"/>
                  <a:pt x="17066" y="9971"/>
                </a:cubicBezTo>
                <a:cubicBezTo>
                  <a:pt x="17066" y="9916"/>
                  <a:pt x="17079" y="9844"/>
                  <a:pt x="17041" y="9798"/>
                </a:cubicBezTo>
                <a:cubicBezTo>
                  <a:pt x="16949" y="9685"/>
                  <a:pt x="16794" y="9872"/>
                  <a:pt x="16768" y="9947"/>
                </a:cubicBezTo>
                <a:cubicBezTo>
                  <a:pt x="16699" y="10149"/>
                  <a:pt x="16958" y="10204"/>
                  <a:pt x="17090" y="10195"/>
                </a:cubicBezTo>
                <a:cubicBezTo>
                  <a:pt x="17287" y="10181"/>
                  <a:pt x="17331" y="10056"/>
                  <a:pt x="17388" y="9897"/>
                </a:cubicBezTo>
                <a:cubicBezTo>
                  <a:pt x="17388" y="9828"/>
                  <a:pt x="17360" y="10054"/>
                  <a:pt x="17363" y="10071"/>
                </a:cubicBezTo>
                <a:cubicBezTo>
                  <a:pt x="17371" y="10119"/>
                  <a:pt x="17392" y="10182"/>
                  <a:pt x="17363" y="10096"/>
                </a:cubicBezTo>
                <a:cubicBezTo>
                  <a:pt x="17326" y="9985"/>
                  <a:pt x="17315" y="9884"/>
                  <a:pt x="17388" y="9798"/>
                </a:cubicBezTo>
                <a:cubicBezTo>
                  <a:pt x="17462" y="9711"/>
                  <a:pt x="17603" y="9652"/>
                  <a:pt x="17686" y="9773"/>
                </a:cubicBezTo>
                <a:cubicBezTo>
                  <a:pt x="17761" y="9883"/>
                  <a:pt x="17778" y="10066"/>
                  <a:pt x="17785" y="10195"/>
                </a:cubicBezTo>
                <a:cubicBezTo>
                  <a:pt x="17785" y="10203"/>
                  <a:pt x="17785" y="10212"/>
                  <a:pt x="17785" y="10220"/>
                </a:cubicBezTo>
              </a:path>
              <a:path w="5533" h="1514">
                <a:moveTo>
                  <a:pt x="18008" y="9178"/>
                </a:moveTo>
                <a:cubicBezTo>
                  <a:pt x="18041" y="9388"/>
                  <a:pt x="18086" y="9614"/>
                  <a:pt x="18132" y="9823"/>
                </a:cubicBezTo>
                <a:cubicBezTo>
                  <a:pt x="18142" y="9868"/>
                  <a:pt x="18205" y="10148"/>
                  <a:pt x="18231" y="10120"/>
                </a:cubicBezTo>
              </a:path>
              <a:path w="5533" h="1514">
                <a:moveTo>
                  <a:pt x="17760" y="9599"/>
                </a:moveTo>
                <a:cubicBezTo>
                  <a:pt x="17947" y="9563"/>
                  <a:pt x="18139" y="9575"/>
                  <a:pt x="18331" y="9575"/>
                </a:cubicBezTo>
                <a:cubicBezTo>
                  <a:pt x="18405" y="9575"/>
                  <a:pt x="18414" y="9575"/>
                  <a:pt x="18455" y="95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2000" y="5062680"/>
            <a:ext cx="1312920" cy="911160"/>
          </a:xfrm>
          <a:custGeom>
            <a:avLst/>
            <a:gdLst/>
            <a:ahLst/>
            <a:rect l="l" t="t" r="r" b="b"/>
            <a:pathLst>
              <a:path w="3647" h="2531">
                <a:moveTo>
                  <a:pt x="3919" y="14213"/>
                </a:moveTo>
                <a:cubicBezTo>
                  <a:pt x="3941" y="14406"/>
                  <a:pt x="3944" y="14590"/>
                  <a:pt x="3944" y="14784"/>
                </a:cubicBezTo>
              </a:path>
              <a:path w="3647" h="2531">
                <a:moveTo>
                  <a:pt x="4738" y="14089"/>
                </a:moveTo>
                <a:cubicBezTo>
                  <a:pt x="4667" y="14119"/>
                  <a:pt x="4492" y="14178"/>
                  <a:pt x="4465" y="14263"/>
                </a:cubicBezTo>
                <a:cubicBezTo>
                  <a:pt x="4409" y="14438"/>
                  <a:pt x="4636" y="14498"/>
                  <a:pt x="4713" y="14610"/>
                </a:cubicBezTo>
                <a:cubicBezTo>
                  <a:pt x="4733" y="14670"/>
                  <a:pt x="4752" y="14685"/>
                  <a:pt x="4713" y="14709"/>
                </a:cubicBezTo>
                <a:cubicBezTo>
                  <a:pt x="4521" y="14725"/>
                  <a:pt x="4518" y="14631"/>
                  <a:pt x="4614" y="14461"/>
                </a:cubicBezTo>
                <a:cubicBezTo>
                  <a:pt x="4685" y="14365"/>
                  <a:pt x="4708" y="14336"/>
                  <a:pt x="4738" y="14263"/>
                </a:cubicBezTo>
              </a:path>
              <a:path w="3647" h="2531">
                <a:moveTo>
                  <a:pt x="5234" y="14064"/>
                </a:moveTo>
                <a:cubicBezTo>
                  <a:pt x="5156" y="14164"/>
                  <a:pt x="5013" y="14367"/>
                  <a:pt x="5085" y="14511"/>
                </a:cubicBezTo>
                <a:cubicBezTo>
                  <a:pt x="5110" y="14527"/>
                  <a:pt x="5134" y="14544"/>
                  <a:pt x="5159" y="14560"/>
                </a:cubicBezTo>
                <a:cubicBezTo>
                  <a:pt x="5327" y="14522"/>
                  <a:pt x="5452" y="14389"/>
                  <a:pt x="5432" y="14188"/>
                </a:cubicBezTo>
                <a:cubicBezTo>
                  <a:pt x="5386" y="14118"/>
                  <a:pt x="5374" y="14093"/>
                  <a:pt x="5308" y="14114"/>
                </a:cubicBezTo>
              </a:path>
              <a:path w="3647" h="2531">
                <a:moveTo>
                  <a:pt x="2952" y="15453"/>
                </a:moveTo>
                <a:cubicBezTo>
                  <a:pt x="3085" y="15437"/>
                  <a:pt x="3217" y="15406"/>
                  <a:pt x="3349" y="15379"/>
                </a:cubicBezTo>
              </a:path>
              <a:path w="3647" h="2531">
                <a:moveTo>
                  <a:pt x="3994" y="15156"/>
                </a:moveTo>
                <a:cubicBezTo>
                  <a:pt x="4023" y="15305"/>
                  <a:pt x="4060" y="15451"/>
                  <a:pt x="4068" y="15602"/>
                </a:cubicBezTo>
                <a:cubicBezTo>
                  <a:pt x="4068" y="15610"/>
                  <a:pt x="4068" y="15619"/>
                  <a:pt x="4068" y="15627"/>
                </a:cubicBezTo>
              </a:path>
              <a:path w="3647" h="2531">
                <a:moveTo>
                  <a:pt x="4514" y="15131"/>
                </a:moveTo>
                <a:cubicBezTo>
                  <a:pt x="4587" y="15221"/>
                  <a:pt x="4648" y="15205"/>
                  <a:pt x="4762" y="15255"/>
                </a:cubicBezTo>
                <a:cubicBezTo>
                  <a:pt x="4823" y="15282"/>
                  <a:pt x="5009" y="15383"/>
                  <a:pt x="4887" y="15478"/>
                </a:cubicBezTo>
                <a:cubicBezTo>
                  <a:pt x="4787" y="15511"/>
                  <a:pt x="4738" y="15511"/>
                  <a:pt x="4663" y="15453"/>
                </a:cubicBezTo>
              </a:path>
              <a:path w="3647" h="2531">
                <a:moveTo>
                  <a:pt x="4638" y="15056"/>
                </a:moveTo>
                <a:cubicBezTo>
                  <a:pt x="4838" y="14993"/>
                  <a:pt x="5002" y="14962"/>
                  <a:pt x="5209" y="14982"/>
                </a:cubicBezTo>
              </a:path>
              <a:path w="3647" h="2531">
                <a:moveTo>
                  <a:pt x="5705" y="14957"/>
                </a:moveTo>
                <a:cubicBezTo>
                  <a:pt x="5604" y="15068"/>
                  <a:pt x="5426" y="15213"/>
                  <a:pt x="5457" y="15379"/>
                </a:cubicBezTo>
                <a:cubicBezTo>
                  <a:pt x="5474" y="15404"/>
                  <a:pt x="5490" y="15428"/>
                  <a:pt x="5507" y="15453"/>
                </a:cubicBezTo>
                <a:cubicBezTo>
                  <a:pt x="5717" y="15423"/>
                  <a:pt x="5921" y="15351"/>
                  <a:pt x="5904" y="15081"/>
                </a:cubicBezTo>
                <a:cubicBezTo>
                  <a:pt x="5886" y="14794"/>
                  <a:pt x="5526" y="15049"/>
                  <a:pt x="5407" y="15106"/>
                </a:cubicBezTo>
              </a:path>
              <a:path w="3647" h="2531">
                <a:moveTo>
                  <a:pt x="3894" y="15974"/>
                </a:moveTo>
                <a:cubicBezTo>
                  <a:pt x="4425" y="15844"/>
                  <a:pt x="4933" y="15748"/>
                  <a:pt x="5482" y="15726"/>
                </a:cubicBezTo>
                <a:cubicBezTo>
                  <a:pt x="5636" y="15720"/>
                  <a:pt x="5798" y="15726"/>
                  <a:pt x="5953" y="15726"/>
                </a:cubicBezTo>
              </a:path>
              <a:path w="3647" h="2531">
                <a:moveTo>
                  <a:pt x="5060" y="15974"/>
                </a:moveTo>
                <a:cubicBezTo>
                  <a:pt x="5182" y="15994"/>
                  <a:pt x="5309" y="16022"/>
                  <a:pt x="5432" y="16049"/>
                </a:cubicBezTo>
                <a:cubicBezTo>
                  <a:pt x="5658" y="16098"/>
                  <a:pt x="5427" y="16175"/>
                  <a:pt x="5333" y="16222"/>
                </a:cubicBezTo>
                <a:cubicBezTo>
                  <a:pt x="5300" y="16239"/>
                  <a:pt x="5267" y="16255"/>
                  <a:pt x="5234" y="16272"/>
                </a:cubicBezTo>
                <a:cubicBezTo>
                  <a:pt x="5217" y="16280"/>
                  <a:pt x="5201" y="16289"/>
                  <a:pt x="5184" y="16297"/>
                </a:cubicBezTo>
                <a:cubicBezTo>
                  <a:pt x="5287" y="16288"/>
                  <a:pt x="5356" y="16285"/>
                  <a:pt x="5457" y="16297"/>
                </a:cubicBezTo>
                <a:cubicBezTo>
                  <a:pt x="5502" y="16401"/>
                  <a:pt x="5438" y="16467"/>
                  <a:pt x="5333" y="16520"/>
                </a:cubicBezTo>
                <a:cubicBezTo>
                  <a:pt x="5194" y="16590"/>
                  <a:pt x="5036" y="16653"/>
                  <a:pt x="5035" y="16495"/>
                </a:cubicBezTo>
              </a:path>
              <a:path w="3647" h="2531">
                <a:moveTo>
                  <a:pt x="5879" y="16024"/>
                </a:moveTo>
                <a:cubicBezTo>
                  <a:pt x="5822" y="16115"/>
                  <a:pt x="5714" y="16234"/>
                  <a:pt x="5730" y="16346"/>
                </a:cubicBezTo>
                <a:cubicBezTo>
                  <a:pt x="5738" y="16363"/>
                  <a:pt x="5747" y="16379"/>
                  <a:pt x="5755" y="16396"/>
                </a:cubicBezTo>
                <a:cubicBezTo>
                  <a:pt x="5928" y="16375"/>
                  <a:pt x="6107" y="16337"/>
                  <a:pt x="6176" y="16148"/>
                </a:cubicBezTo>
                <a:cubicBezTo>
                  <a:pt x="6243" y="15965"/>
                  <a:pt x="5942" y="16059"/>
                  <a:pt x="5854" y="16073"/>
                </a:cubicBezTo>
              </a:path>
              <a:path w="3647" h="2531">
                <a:moveTo>
                  <a:pt x="6424" y="15999"/>
                </a:moveTo>
                <a:cubicBezTo>
                  <a:pt x="6416" y="16007"/>
                  <a:pt x="6408" y="16016"/>
                  <a:pt x="6400" y="16024"/>
                </a:cubicBezTo>
                <a:cubicBezTo>
                  <a:pt x="6423" y="16096"/>
                  <a:pt x="6526" y="16030"/>
                  <a:pt x="6573" y="15999"/>
                </a:cubicBezTo>
                <a:cubicBezTo>
                  <a:pt x="6679" y="15930"/>
                  <a:pt x="6450" y="15974"/>
                  <a:pt x="6449" y="159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2200" y="5099040"/>
            <a:ext cx="1455840" cy="1268280"/>
          </a:xfrm>
          <a:custGeom>
            <a:avLst/>
            <a:gdLst/>
            <a:ahLst/>
            <a:rect l="l" t="t" r="r" b="b"/>
            <a:pathLst>
              <a:path w="4044" h="3524">
                <a:moveTo>
                  <a:pt x="11286" y="14312"/>
                </a:moveTo>
                <a:cubicBezTo>
                  <a:pt x="11286" y="14248"/>
                  <a:pt x="11304" y="14217"/>
                  <a:pt x="11237" y="14188"/>
                </a:cubicBezTo>
                <a:cubicBezTo>
                  <a:pt x="11123" y="14139"/>
                  <a:pt x="11010" y="14162"/>
                  <a:pt x="10914" y="14238"/>
                </a:cubicBezTo>
                <a:cubicBezTo>
                  <a:pt x="10818" y="14314"/>
                  <a:pt x="10819" y="14359"/>
                  <a:pt x="10840" y="14461"/>
                </a:cubicBezTo>
                <a:cubicBezTo>
                  <a:pt x="11013" y="14498"/>
                  <a:pt x="11108" y="14471"/>
                  <a:pt x="11237" y="14337"/>
                </a:cubicBezTo>
                <a:cubicBezTo>
                  <a:pt x="11253" y="14312"/>
                  <a:pt x="11270" y="14288"/>
                  <a:pt x="11286" y="14263"/>
                </a:cubicBezTo>
                <a:cubicBezTo>
                  <a:pt x="11274" y="14429"/>
                  <a:pt x="11232" y="14617"/>
                  <a:pt x="11261" y="14784"/>
                </a:cubicBezTo>
                <a:cubicBezTo>
                  <a:pt x="11281" y="14824"/>
                  <a:pt x="11290" y="14850"/>
                  <a:pt x="11286" y="14808"/>
                </a:cubicBezTo>
              </a:path>
              <a:path w="4044" h="3524">
                <a:moveTo>
                  <a:pt x="11733" y="14163"/>
                </a:moveTo>
                <a:cubicBezTo>
                  <a:pt x="11577" y="14259"/>
                  <a:pt x="11462" y="14429"/>
                  <a:pt x="11485" y="14635"/>
                </a:cubicBezTo>
                <a:cubicBezTo>
                  <a:pt x="11505" y="14817"/>
                  <a:pt x="11729" y="14812"/>
                  <a:pt x="11832" y="14709"/>
                </a:cubicBezTo>
                <a:cubicBezTo>
                  <a:pt x="11959" y="14581"/>
                  <a:pt x="11976" y="14297"/>
                  <a:pt x="11782" y="14213"/>
                </a:cubicBezTo>
                <a:cubicBezTo>
                  <a:pt x="11681" y="14213"/>
                  <a:pt x="11660" y="14203"/>
                  <a:pt x="11609" y="14238"/>
                </a:cubicBezTo>
              </a:path>
              <a:path w="4044" h="3524">
                <a:moveTo>
                  <a:pt x="10319" y="15280"/>
                </a:moveTo>
                <a:cubicBezTo>
                  <a:pt x="10494" y="15280"/>
                  <a:pt x="10622" y="15256"/>
                  <a:pt x="10790" y="15205"/>
                </a:cubicBezTo>
              </a:path>
              <a:path w="4044" h="3524">
                <a:moveTo>
                  <a:pt x="11088" y="15131"/>
                </a:moveTo>
                <a:cubicBezTo>
                  <a:pt x="11127" y="15092"/>
                  <a:pt x="11305" y="15088"/>
                  <a:pt x="11385" y="15106"/>
                </a:cubicBezTo>
                <a:cubicBezTo>
                  <a:pt x="11471" y="15126"/>
                  <a:pt x="11338" y="15236"/>
                  <a:pt x="11261" y="15280"/>
                </a:cubicBezTo>
                <a:cubicBezTo>
                  <a:pt x="11236" y="15280"/>
                  <a:pt x="11212" y="15280"/>
                  <a:pt x="11187" y="15280"/>
                </a:cubicBezTo>
                <a:cubicBezTo>
                  <a:pt x="11325" y="15330"/>
                  <a:pt x="11417" y="15320"/>
                  <a:pt x="11534" y="15429"/>
                </a:cubicBezTo>
                <a:cubicBezTo>
                  <a:pt x="11446" y="15529"/>
                  <a:pt x="11330" y="15571"/>
                  <a:pt x="11187" y="15553"/>
                </a:cubicBezTo>
                <a:cubicBezTo>
                  <a:pt x="11108" y="15527"/>
                  <a:pt x="11086" y="15515"/>
                  <a:pt x="11162" y="15453"/>
                </a:cubicBezTo>
              </a:path>
              <a:path w="4044" h="3524">
                <a:moveTo>
                  <a:pt x="11906" y="15081"/>
                </a:moveTo>
                <a:cubicBezTo>
                  <a:pt x="11818" y="15125"/>
                  <a:pt x="11638" y="15265"/>
                  <a:pt x="11757" y="15404"/>
                </a:cubicBezTo>
                <a:cubicBezTo>
                  <a:pt x="11873" y="15541"/>
                  <a:pt x="12059" y="15428"/>
                  <a:pt x="12154" y="15354"/>
                </a:cubicBezTo>
                <a:cubicBezTo>
                  <a:pt x="12099" y="15190"/>
                  <a:pt x="12039" y="15083"/>
                  <a:pt x="11832" y="15106"/>
                </a:cubicBezTo>
                <a:cubicBezTo>
                  <a:pt x="11815" y="15114"/>
                  <a:pt x="11799" y="15123"/>
                  <a:pt x="11782" y="15131"/>
                </a:cubicBezTo>
              </a:path>
              <a:path w="4044" h="3524">
                <a:moveTo>
                  <a:pt x="10542" y="15726"/>
                </a:moveTo>
                <a:cubicBezTo>
                  <a:pt x="10764" y="15706"/>
                  <a:pt x="10989" y="15684"/>
                  <a:pt x="11212" y="15677"/>
                </a:cubicBezTo>
                <a:cubicBezTo>
                  <a:pt x="11630" y="15664"/>
                  <a:pt x="12039" y="15723"/>
                  <a:pt x="12452" y="15776"/>
                </a:cubicBezTo>
                <a:cubicBezTo>
                  <a:pt x="12617" y="15795"/>
                  <a:pt x="12633" y="15803"/>
                  <a:pt x="12725" y="15801"/>
                </a:cubicBezTo>
              </a:path>
              <a:path w="4044" h="3524">
                <a:moveTo>
                  <a:pt x="11137" y="16049"/>
                </a:moveTo>
                <a:cubicBezTo>
                  <a:pt x="11137" y="16198"/>
                  <a:pt x="11095" y="16283"/>
                  <a:pt x="11038" y="16421"/>
                </a:cubicBezTo>
                <a:cubicBezTo>
                  <a:pt x="10990" y="16537"/>
                  <a:pt x="10896" y="16701"/>
                  <a:pt x="11063" y="16768"/>
                </a:cubicBezTo>
                <a:cubicBezTo>
                  <a:pt x="11232" y="16836"/>
                  <a:pt x="11464" y="16770"/>
                  <a:pt x="11559" y="16619"/>
                </a:cubicBezTo>
                <a:cubicBezTo>
                  <a:pt x="11559" y="16568"/>
                  <a:pt x="11558" y="16549"/>
                  <a:pt x="11534" y="16520"/>
                </a:cubicBezTo>
                <a:cubicBezTo>
                  <a:pt x="11384" y="16511"/>
                  <a:pt x="11274" y="16529"/>
                  <a:pt x="11212" y="16694"/>
                </a:cubicBezTo>
                <a:cubicBezTo>
                  <a:pt x="11171" y="16803"/>
                  <a:pt x="11313" y="16786"/>
                  <a:pt x="11361" y="16793"/>
                </a:cubicBezTo>
              </a:path>
              <a:path w="4044" h="3524">
                <a:moveTo>
                  <a:pt x="11906" y="16222"/>
                </a:moveTo>
                <a:cubicBezTo>
                  <a:pt x="11764" y="16222"/>
                  <a:pt x="11748" y="16299"/>
                  <a:pt x="11683" y="16421"/>
                </a:cubicBezTo>
                <a:cubicBezTo>
                  <a:pt x="11624" y="16532"/>
                  <a:pt x="11593" y="16712"/>
                  <a:pt x="11782" y="16718"/>
                </a:cubicBezTo>
                <a:cubicBezTo>
                  <a:pt x="11950" y="16723"/>
                  <a:pt x="12139" y="16565"/>
                  <a:pt x="12129" y="16396"/>
                </a:cubicBezTo>
                <a:cubicBezTo>
                  <a:pt x="12122" y="16279"/>
                  <a:pt x="11983" y="16046"/>
                  <a:pt x="11832" y="16073"/>
                </a:cubicBezTo>
                <a:cubicBezTo>
                  <a:pt x="11807" y="16090"/>
                  <a:pt x="11782" y="16106"/>
                  <a:pt x="11757" y="16123"/>
                </a:cubicBezTo>
              </a:path>
              <a:path w="4044" h="3524">
                <a:moveTo>
                  <a:pt x="12254" y="16024"/>
                </a:moveTo>
                <a:cubicBezTo>
                  <a:pt x="12180" y="16053"/>
                  <a:pt x="12179" y="16073"/>
                  <a:pt x="12179" y="16148"/>
                </a:cubicBezTo>
                <a:cubicBezTo>
                  <a:pt x="12221" y="16143"/>
                  <a:pt x="12425" y="16078"/>
                  <a:pt x="12278" y="16049"/>
                </a:cubicBezTo>
                <a:cubicBezTo>
                  <a:pt x="12245" y="16049"/>
                  <a:pt x="12212" y="16049"/>
                  <a:pt x="12179" y="16049"/>
                </a:cubicBezTo>
              </a:path>
              <a:path w="4044" h="3524">
                <a:moveTo>
                  <a:pt x="10244" y="17289"/>
                </a:moveTo>
                <a:cubicBezTo>
                  <a:pt x="10679" y="17456"/>
                  <a:pt x="11142" y="17586"/>
                  <a:pt x="11609" y="17636"/>
                </a:cubicBezTo>
                <a:cubicBezTo>
                  <a:pt x="12261" y="17706"/>
                  <a:pt x="13186" y="17714"/>
                  <a:pt x="13717" y="17264"/>
                </a:cubicBezTo>
                <a:cubicBezTo>
                  <a:pt x="14118" y="16924"/>
                  <a:pt x="13925" y="16330"/>
                  <a:pt x="13667" y="15974"/>
                </a:cubicBezTo>
                <a:cubicBezTo>
                  <a:pt x="13293" y="15458"/>
                  <a:pt x="12518" y="15207"/>
                  <a:pt x="11906" y="15180"/>
                </a:cubicBezTo>
                <a:cubicBezTo>
                  <a:pt x="11291" y="15153"/>
                  <a:pt x="10671" y="15414"/>
                  <a:pt x="10244" y="15850"/>
                </a:cubicBezTo>
                <a:cubicBezTo>
                  <a:pt x="9940" y="16160"/>
                  <a:pt x="9721" y="16629"/>
                  <a:pt x="10071" y="16991"/>
                </a:cubicBezTo>
                <a:cubicBezTo>
                  <a:pt x="10519" y="17454"/>
                  <a:pt x="11317" y="17542"/>
                  <a:pt x="11906" y="176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8480" y="34920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180  Rule for Tri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2240" y="38088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8560" y="303120"/>
            <a:ext cx="465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um of the inter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gles of any triangle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ways 180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1432080"/>
            <a:ext cx="9180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38098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990720" y="2133720"/>
            <a:ext cx="167616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2133720"/>
            <a:ext cx="167652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3160" y="35035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40080" y="1492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5680" y="3579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28600" y="4191120"/>
                <a:ext cx="6172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Ð</m:t>
                    </m:r>
                    <m:r>
                      <m:rPr>
                        <m:lit/>
                        <m:nor/>
                      </m:rPr>
                      <m:t xml:space="preserve">a  + m</m:t>
                    </m:r>
                    <m:r>
                      <m:t xml:space="preserve">Ð</m:t>
                    </m:r>
                    <m:r>
                      <m:rPr>
                        <m:lit/>
                        <m:nor/>
                      </m:rPr>
                      <m:t xml:space="preserve"> b + m </m:t>
                    </m:r>
                    <m:r>
                      <m:t xml:space="preserve">Ð</m:t>
                    </m:r>
                    <m:r>
                      <m:rPr>
                        <m:lit/>
                        <m:nor/>
                      </m:rPr>
                      <m:t xml:space="preserve"> c = 1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6324480" y="411480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33520" y="3198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7800" y="2482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38640" y="3168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20040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249876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2960" y="4724280"/>
            <a:ext cx="49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    +  80    +   x    =  1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80120" y="5302080"/>
            <a:ext cx="32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0  +  x  =  1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9920" y="598788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=  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6400" y="601992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31840" y="304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tical Angle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31720" y="304920"/>
            <a:ext cx="39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opposite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intersecting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be eq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523880" y="1447920"/>
            <a:ext cx="2057400" cy="3200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1523880"/>
            <a:ext cx="1676520" cy="327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2571840"/>
            <a:ext cx="533520" cy="96840"/>
          </a:xfrm>
          <a:custGeom>
            <a:avLst/>
            <a:gdLst/>
            <a:ahLst/>
            <a:rect l="l" t="t" r="r" b="b"/>
            <a:pathLst>
              <a:path w="336" h="61">
                <a:moveTo>
                  <a:pt x="0" y="60"/>
                </a:moveTo>
                <a:lnTo>
                  <a:pt x="96" y="24"/>
                </a:lnTo>
                <a:lnTo>
                  <a:pt x="168" y="0"/>
                </a:lnTo>
                <a:lnTo>
                  <a:pt x="252" y="24"/>
                </a:lnTo>
                <a:lnTo>
                  <a:pt x="336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 rot="193800">
            <a:off x="2286000" y="3504240"/>
            <a:ext cx="533520" cy="96840"/>
          </a:xfrm>
          <a:custGeom>
            <a:avLst/>
            <a:gdLst/>
            <a:ahLst/>
            <a:rect l="l" t="t" r="r" b="b"/>
            <a:pathLst>
              <a:path w="336" h="61">
                <a:moveTo>
                  <a:pt x="0" y="60"/>
                </a:moveTo>
                <a:lnTo>
                  <a:pt x="96" y="24"/>
                </a:lnTo>
                <a:lnTo>
                  <a:pt x="168" y="0"/>
                </a:lnTo>
                <a:lnTo>
                  <a:pt x="252" y="24"/>
                </a:lnTo>
                <a:lnTo>
                  <a:pt x="336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74920" y="2509920"/>
            <a:ext cx="411120" cy="222120"/>
          </a:xfrm>
          <a:custGeom>
            <a:avLst/>
            <a:gdLst/>
            <a:ahLst/>
            <a:rect l="l" t="t" r="r" b="b"/>
            <a:pathLst>
              <a:path w="1142" h="621">
                <a:moveTo>
                  <a:pt x="6598" y="7367"/>
                </a:moveTo>
                <a:cubicBezTo>
                  <a:pt x="6608" y="7351"/>
                  <a:pt x="6609" y="7309"/>
                  <a:pt x="6623" y="7293"/>
                </a:cubicBezTo>
                <a:cubicBezTo>
                  <a:pt x="6643" y="7271"/>
                  <a:pt x="6719" y="7221"/>
                  <a:pt x="6747" y="7193"/>
                </a:cubicBezTo>
                <a:cubicBezTo>
                  <a:pt x="6771" y="7169"/>
                  <a:pt x="6803" y="7176"/>
                  <a:pt x="6846" y="7144"/>
                </a:cubicBezTo>
                <a:cubicBezTo>
                  <a:pt x="6894" y="7108"/>
                  <a:pt x="6893" y="7108"/>
                  <a:pt x="6945" y="7069"/>
                </a:cubicBezTo>
                <a:cubicBezTo>
                  <a:pt x="6978" y="7045"/>
                  <a:pt x="7008" y="7005"/>
                  <a:pt x="7045" y="6995"/>
                </a:cubicBezTo>
                <a:cubicBezTo>
                  <a:pt x="7080" y="6985"/>
                  <a:pt x="7110" y="6976"/>
                  <a:pt x="7144" y="6970"/>
                </a:cubicBezTo>
                <a:cubicBezTo>
                  <a:pt x="7182" y="6964"/>
                  <a:pt x="7213" y="6982"/>
                  <a:pt x="7243" y="6995"/>
                </a:cubicBezTo>
                <a:cubicBezTo>
                  <a:pt x="7277" y="7010"/>
                  <a:pt x="7335" y="7026"/>
                  <a:pt x="7367" y="7045"/>
                </a:cubicBezTo>
                <a:cubicBezTo>
                  <a:pt x="7396" y="7062"/>
                  <a:pt x="7402" y="7069"/>
                  <a:pt x="7441" y="7094"/>
                </a:cubicBezTo>
                <a:cubicBezTo>
                  <a:pt x="7505" y="7135"/>
                  <a:pt x="7579" y="7142"/>
                  <a:pt x="7640" y="7169"/>
                </a:cubicBezTo>
                <a:cubicBezTo>
                  <a:pt x="7646" y="7172"/>
                  <a:pt x="7692" y="7226"/>
                  <a:pt x="7714" y="7243"/>
                </a:cubicBezTo>
                <a:cubicBezTo>
                  <a:pt x="7751" y="7271"/>
                  <a:pt x="7737" y="7266"/>
                  <a:pt x="7714" y="7243"/>
                </a:cubicBezTo>
                <a:cubicBezTo>
                  <a:pt x="7687" y="7216"/>
                  <a:pt x="7651" y="7201"/>
                  <a:pt x="7615" y="7193"/>
                </a:cubicBezTo>
                <a:cubicBezTo>
                  <a:pt x="7579" y="7185"/>
                  <a:pt x="7547" y="7188"/>
                  <a:pt x="7516" y="7169"/>
                </a:cubicBezTo>
                <a:cubicBezTo>
                  <a:pt x="7473" y="7143"/>
                  <a:pt x="7462" y="7159"/>
                  <a:pt x="7417" y="7144"/>
                </a:cubicBezTo>
                <a:cubicBezTo>
                  <a:pt x="7356" y="7123"/>
                  <a:pt x="7373" y="7124"/>
                  <a:pt x="7317" y="7144"/>
                </a:cubicBezTo>
                <a:cubicBezTo>
                  <a:pt x="7281" y="7157"/>
                  <a:pt x="7226" y="7185"/>
                  <a:pt x="7193" y="7193"/>
                </a:cubicBezTo>
                <a:cubicBezTo>
                  <a:pt x="7122" y="7210"/>
                  <a:pt x="7069" y="7242"/>
                  <a:pt x="6995" y="7268"/>
                </a:cubicBezTo>
                <a:cubicBezTo>
                  <a:pt x="6970" y="7277"/>
                  <a:pt x="6861" y="7303"/>
                  <a:pt x="6846" y="7317"/>
                </a:cubicBezTo>
                <a:cubicBezTo>
                  <a:pt x="6827" y="7334"/>
                  <a:pt x="6767" y="7389"/>
                  <a:pt x="6747" y="7417"/>
                </a:cubicBezTo>
                <a:cubicBezTo>
                  <a:pt x="6729" y="7441"/>
                  <a:pt x="6712" y="7476"/>
                  <a:pt x="6697" y="7491"/>
                </a:cubicBezTo>
                <a:cubicBezTo>
                  <a:pt x="6679" y="7509"/>
                  <a:pt x="6620" y="7526"/>
                  <a:pt x="6598" y="7565"/>
                </a:cubicBezTo>
                <a:cubicBezTo>
                  <a:pt x="6598" y="7573"/>
                  <a:pt x="6598" y="7582"/>
                  <a:pt x="6598" y="75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68360" y="3456000"/>
            <a:ext cx="490680" cy="142920"/>
          </a:xfrm>
          <a:custGeom>
            <a:avLst/>
            <a:gdLst/>
            <a:ahLst/>
            <a:rect l="l" t="t" r="r" b="b"/>
            <a:pathLst>
              <a:path w="1366" h="398">
                <a:moveTo>
                  <a:pt x="6400" y="9823"/>
                </a:moveTo>
                <a:cubicBezTo>
                  <a:pt x="6356" y="9817"/>
                  <a:pt x="6351" y="9819"/>
                  <a:pt x="6325" y="9798"/>
                </a:cubicBezTo>
                <a:cubicBezTo>
                  <a:pt x="6251" y="9738"/>
                  <a:pt x="6367" y="9820"/>
                  <a:pt x="6375" y="9823"/>
                </a:cubicBezTo>
                <a:cubicBezTo>
                  <a:pt x="6432" y="9846"/>
                  <a:pt x="6514" y="9865"/>
                  <a:pt x="6573" y="9872"/>
                </a:cubicBezTo>
                <a:cubicBezTo>
                  <a:pt x="6633" y="9879"/>
                  <a:pt x="6739" y="9875"/>
                  <a:pt x="6796" y="9897"/>
                </a:cubicBezTo>
                <a:cubicBezTo>
                  <a:pt x="6854" y="9920"/>
                  <a:pt x="6862" y="9944"/>
                  <a:pt x="6921" y="9947"/>
                </a:cubicBezTo>
                <a:cubicBezTo>
                  <a:pt x="6992" y="9951"/>
                  <a:pt x="7086" y="9927"/>
                  <a:pt x="7119" y="9922"/>
                </a:cubicBezTo>
                <a:cubicBezTo>
                  <a:pt x="7194" y="9910"/>
                  <a:pt x="7247" y="9882"/>
                  <a:pt x="7317" y="9847"/>
                </a:cubicBezTo>
                <a:cubicBezTo>
                  <a:pt x="7350" y="9831"/>
                  <a:pt x="7409" y="9817"/>
                  <a:pt x="7441" y="9798"/>
                </a:cubicBezTo>
                <a:cubicBezTo>
                  <a:pt x="7449" y="9793"/>
                  <a:pt x="7519" y="9741"/>
                  <a:pt x="7541" y="9723"/>
                </a:cubicBezTo>
                <a:cubicBezTo>
                  <a:pt x="7558" y="9709"/>
                  <a:pt x="7600" y="9663"/>
                  <a:pt x="7615" y="9649"/>
                </a:cubicBezTo>
                <a:cubicBezTo>
                  <a:pt x="7628" y="9637"/>
                  <a:pt x="7642" y="9622"/>
                  <a:pt x="7665" y="9599"/>
                </a:cubicBezTo>
                <a:cubicBezTo>
                  <a:pt x="7647" y="9670"/>
                  <a:pt x="7622" y="9690"/>
                  <a:pt x="7565" y="9748"/>
                </a:cubicBezTo>
                <a:cubicBezTo>
                  <a:pt x="7485" y="9828"/>
                  <a:pt x="7424" y="9882"/>
                  <a:pt x="7317" y="9922"/>
                </a:cubicBezTo>
                <a:cubicBezTo>
                  <a:pt x="7269" y="9940"/>
                  <a:pt x="7187" y="9963"/>
                  <a:pt x="7144" y="9971"/>
                </a:cubicBezTo>
                <a:cubicBezTo>
                  <a:pt x="7103" y="9979"/>
                  <a:pt x="7053" y="9989"/>
                  <a:pt x="7020" y="9996"/>
                </a:cubicBezTo>
                <a:cubicBezTo>
                  <a:pt x="6957" y="10009"/>
                  <a:pt x="6879" y="9986"/>
                  <a:pt x="6821" y="9971"/>
                </a:cubicBezTo>
                <a:cubicBezTo>
                  <a:pt x="6762" y="9956"/>
                  <a:pt x="6707" y="9942"/>
                  <a:pt x="6648" y="9922"/>
                </a:cubicBezTo>
                <a:cubicBezTo>
                  <a:pt x="6599" y="9905"/>
                  <a:pt x="6468" y="9850"/>
                  <a:pt x="6449" y="9823"/>
                </a:cubicBezTo>
                <a:cubicBezTo>
                  <a:pt x="6441" y="9811"/>
                  <a:pt x="6380" y="9716"/>
                  <a:pt x="6375" y="9699"/>
                </a:cubicBezTo>
                <a:cubicBezTo>
                  <a:pt x="6375" y="9674"/>
                  <a:pt x="6375" y="9666"/>
                  <a:pt x="6375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31840" y="304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tical Angle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31720" y="304920"/>
            <a:ext cx="39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opposite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intersecting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be eq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523880" y="1447920"/>
            <a:ext cx="2057400" cy="3200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1523880"/>
            <a:ext cx="1676520" cy="327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rot="5400000">
            <a:off x="2524320" y="3037320"/>
            <a:ext cx="533160" cy="96840"/>
          </a:xfrm>
          <a:custGeom>
            <a:avLst/>
            <a:gdLst/>
            <a:ahLst/>
            <a:rect l="l" t="t" r="r" b="b"/>
            <a:pathLst>
              <a:path w="336" h="61">
                <a:moveTo>
                  <a:pt x="0" y="60"/>
                </a:moveTo>
                <a:lnTo>
                  <a:pt x="96" y="24"/>
                </a:lnTo>
                <a:lnTo>
                  <a:pt x="168" y="0"/>
                </a:lnTo>
                <a:lnTo>
                  <a:pt x="252" y="24"/>
                </a:lnTo>
                <a:lnTo>
                  <a:pt x="336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2067840" y="3037320"/>
            <a:ext cx="533160" cy="96840"/>
          </a:xfrm>
          <a:custGeom>
            <a:avLst/>
            <a:gdLst/>
            <a:ahLst/>
            <a:rect l="l" t="t" r="r" b="b"/>
            <a:pathLst>
              <a:path w="336" h="61">
                <a:moveTo>
                  <a:pt x="0" y="60"/>
                </a:moveTo>
                <a:lnTo>
                  <a:pt x="96" y="24"/>
                </a:lnTo>
                <a:lnTo>
                  <a:pt x="168" y="0"/>
                </a:lnTo>
                <a:lnTo>
                  <a:pt x="252" y="24"/>
                </a:lnTo>
                <a:lnTo>
                  <a:pt x="336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21:26:32Z</dcterms:created>
  <dc:creator>Brian McGrath</dc:creator>
  <dc:description/>
  <dc:language>en-US</dc:language>
  <cp:lastModifiedBy>ccps</cp:lastModifiedBy>
  <dcterms:modified xsi:type="dcterms:W3CDTF">2010-02-01T18:47:04Z</dcterms:modified>
  <cp:revision>5</cp:revision>
  <dc:subject/>
  <dc:title>Warm-up:</dc:title>
</cp:coreProperties>
</file>